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1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10E-549F-4579-B6E5-A1730635D6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703F-CBB1-44F3-9833-EE9724CDFDD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14D-73B0-43E3-AE1F-B10770665D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1CB-A7EB-4408-80D2-32EE0B70F4F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896C-E112-4747-BDA1-C6BD7742E8C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8B0-8A9C-4F7E-91AA-67BDFC883F1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7A2-FAB0-4FF7-B740-31BEB5BAB2D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4E0A-4F25-4B55-8CEA-048BACDDD34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E34-27D3-4F5C-983E-624955AA217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AD9-AEAA-4268-A87A-00C2A51C3C9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473B-61D9-47B6-8C03-9276808A668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386-57D2-4DBF-9B60-C8C8253A147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34A9-4DE2-42F8-81DE-47D2E80AC4A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F557-BE39-45F4-A33B-5ED8F8C4873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9D0-01D4-4C1C-BBE4-F387646D748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3E1-18EA-4BE9-9586-E7F38102DE9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A26-B65B-42F5-B2D5-3A3BA14A97A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D82-B6C8-4C40-BB20-018FAFD43F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AAAC-A8B1-47D8-9594-5ABF114BED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115F-AC60-47D0-B076-C1FF23839AA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518-0705-4709-B221-20A6CEB4345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EAB-B538-4DB6-BDD1-A8BCD10DDD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BE9E-0EE7-4A95-BE60-E40007DC29A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A51-F85E-4CEC-B2F5-5FCADAB2797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667-C64C-4507-96F2-B06674F1EC6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6A6-B091-4E99-95FE-2B608A4ADC5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5338-C824-4101-9EBE-DD30A07E041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83A-8321-4B97-8CF8-B93C4EEFDE6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AD2C-518C-49D0-B99D-B9E0F0177B2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FCD-B53C-4A3B-9411-3D473206120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FBD0-3BCF-42DD-B802-C0C5B85836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FA2-B25A-4769-A2BC-DCB52D4755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DAF2-9E6A-4033-9E97-F8FC156CFC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82E-CD94-41F0-A01D-42C1428B5E4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08F3-F638-4E09-86CD-F8D719621A6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377-BA86-43F6-81F4-8D29F6087E2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852-CAAD-4D08-BC9C-A97156E4E2F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428-0101-4ACD-B74C-7D2FC36980B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3838-A5E2-461E-A4C5-DD2AD2A20B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FE08-0CF8-40D1-A3DC-08B3D99F185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B6FF-56B4-448F-92C7-9F14025584E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834-B152-479E-A562-19417F611EC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E709-10F2-47E2-ABD4-FB90A31605A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916280" y="573120"/>
            <a:ext cx="3025440" cy="22701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unque el propósito principal de Photoshop es la edición fotográfica, este también puede ser usado para crear imágenes, efectos, gráficos y más en muy buena calidad. Aunque para determinados trabajos que requieren el uso de gráficos vectoriales es más aconsejable utilizar Adobe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Illustrato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las alternativas a este programa, existen algunos programas libre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GIM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rientada a la edición fotográfica en general, o propietarios como 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PhotoPaint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Corel, capaz de trabajar con cualquier característica de los archivos de Photoshop, y también con sus filtros 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9864-0020-4DD3-9F11-7DD3E3F1AE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2916360"/>
            <a:ext cx="548640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D07-9BC6-4C61-A53F-9C52FEBF52E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930320" y="595440"/>
            <a:ext cx="2984760" cy="22381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2916000"/>
            <a:ext cx="54864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E4E-440A-49FA-A2C8-6F9FF0FA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257-4A6C-4DF4-B42F-503A6D3B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6737-EE0B-42C7-AC33-A8AC393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2EAE0-9B67-44B0-9557-C3B396B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3DDD9-284D-4036-9FC0-1D1446FA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7313-87A4-4A6D-AE6E-A2D8FA0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CD336-B5DC-46F1-BB18-60E3BBF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D5272-FBBC-4A9D-9213-B98E2902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183DB-6C07-4816-9B5F-267C7BEE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D2BCF-9D54-4C6F-98BB-B6105C8A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FACDF-32E0-4F76-9101-78FE6D6B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5AAE7-9413-4522-89EA-BD90B7B5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37-93B8-4FFE-AE22-C7451CD2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E1508-E598-4476-A0B1-511D2F6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56144-5B34-4F91-B585-5D17DD7B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B90B-08F6-4CAB-9ED8-1C8D44C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E36D5-7EE2-4572-B95F-23FD3AA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927B1-9CFD-447C-B73B-453CC45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BAC95-8524-4F2B-B2B4-E86E077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34D84-19EE-4B44-9A03-F3DC0E8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B36F-2E5B-4B0C-949E-779534F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A62B0-A7B8-45D9-942F-C19E7C0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8D82F-9ADF-4284-A5E0-0FF0CF00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340-345F-40BE-B042-7B1A0900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0F492-E709-4526-A634-08EDD7E4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5BD4-8A2E-45D5-AEAE-A275AEB9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3DEEE-5723-470D-8922-42CB3B0F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A3FC3-9235-4FAE-85E6-B27AA04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6F06F-E034-4EB8-A10F-D99C14D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6AAF8-E285-449A-959E-B2B287E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0D231-89F3-4D30-AE33-925EB28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C5785-E79E-4DE5-A514-D0D6968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316E6-C2A6-4749-87E2-E3C82BF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4EE2E-B48B-4EA9-BCB0-9DABF24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B38-2E2D-41DF-9299-2D5BC63B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EA64-DDAA-463F-8386-2F064A8C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97409-B6BE-4AA1-8797-801D6AD9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E9155-B3EF-4723-9AFD-F732A8FC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BAB6-543A-4C05-A7DE-C72B59D9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6FC20-0B0E-4C50-8EB8-C19FDBAB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1EB19-250A-4F01-951B-145BECF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8C3CB-C864-4193-9777-2EAD27A5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14421-F068-4483-AA61-0A054B00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7FA91-FB36-4901-B6D3-E12D46B1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45937-843A-4835-AEED-8FAE8D3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B1AF-5582-49A2-A2C5-2A0FF578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A152B-B17A-47D9-A926-B64F4ECB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E555D-ED9C-4C28-A3FC-8918298B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9FE21-8465-4458-B234-9B2529A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FE775-6826-4DA1-A008-4B6CC641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9D681-FF1C-416A-8257-5E9CC04E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8B7CD-A180-4B0C-A524-8D059A12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917E1-FE43-464F-B0F7-E64C26D4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107AE-542E-49B7-A8D1-570EE7D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2101E-6CEB-45DF-AC01-40DDFBC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6B966-6629-4EC1-BF21-2742A48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59EC-5E54-4D95-8919-4959CDD3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0092A-7FC2-4899-9DFA-CE4DAE02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B0AD7-43D1-430D-844F-3E5D869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6253F-D4FD-4718-A10D-126D91C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A48CE-3C82-4DB4-AE3D-1173519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7777E-979E-4DF7-926F-B9F8944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FA7CA-5365-46B5-A7E3-36E25CB5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1CCCB-D45D-45A1-9E0F-0070B88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2906B-6AD9-42B4-AEAA-C72D4779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A0C5C-82BC-42C0-8F06-96DF9DA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E1A9F-480D-4843-A8E5-7D48052F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7661-718A-4299-8ADB-A0748716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F357A-EC0C-4FEC-9DCB-BD5B45F4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8DC2F-5EF4-4701-88BB-6657529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C9297-A331-4831-9DC8-6544502B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DD0F9-2B22-404E-824B-61ED9A7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78592-9E56-4FEA-8DA3-3B61421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DED60-5059-4991-B60C-39BF186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B66DD-CAFE-4FF2-A04D-B27CE9F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7B5AF-A5D0-488C-8B07-D8935C74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DCAF7-2D3F-4CE8-994D-AA2C36E1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1193-8AFB-468A-AA13-7CB1784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B4F9-92C8-487D-A695-12D45B4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8B6-4A6F-4622-A3AF-8BC5EDC7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BBE-BF49-4D66-8045-5B3AC67C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3B67-DD24-4F72-8364-FA415E3F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11AF-BC7F-475B-A66B-F3CCDF8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98B-2744-45EF-AC09-91B8B5F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9007-8DC2-4C58-87E0-C9A66370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1A0D-F8DA-48AD-9AFA-69A82D7F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4DFC5-76DE-40B0-91A8-E0D4A181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DFFB-8B0B-464E-BAB3-0A724E4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3D7B-4737-4F8C-922D-F6F1872A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F92A-A0EA-4E4B-8015-4D81B84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3A0F-1C39-43A9-B4CA-307B7A15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BCD-23DF-4EA7-A2C2-A950F502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0641-02DE-4FE4-82EE-79A35CB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E0F8-4A11-4E47-BF9B-09453D7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52AA-BEE1-43EF-A778-DA2CFAF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8E88-B77D-443C-9D83-A3EE1E9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241A-7604-4F72-8769-E818049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0F2F-6547-4FB7-B757-48DF441D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0A9D-6DEC-4B70-9BA0-35F4110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3A0AB-3C54-45E9-8835-B9112E59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67D9-EE2D-4B7D-9F31-B2E2D19E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01D3-6154-4C5E-83E5-9C99EC82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036-6EE7-449E-AD88-6CDBACB0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767A-019C-49EC-A18D-27F48776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0C161-3970-4D2C-9E26-60AF7BC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1366-B0BB-40BA-8B4A-D67D7D1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4CC2-B9BE-42CB-892D-48576128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C023-3FE6-4099-BBEF-C7A7B9E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71355-4281-43EA-8918-2A1BFB0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3BDB-C453-4FFC-B535-AB04A6A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2F9B-0087-438F-BF8F-0D8045D8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9F0B-DD0A-40AA-91A9-501E5729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9BE02-188D-462E-92AD-93A19CD0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7CB-1730-4421-9FA2-34D4DF3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C246-AF38-4CAD-959E-6D50D493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9B6D-28D0-4D4F-B13B-4B37D914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6C7DD-2F7F-4DF0-9CDB-61BD5EE9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612C-BF55-48C2-8A31-D0A205B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427B-E023-4AC7-9F83-DFB707D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DF39-C6A4-45BA-A8DC-2B9999D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AE90-A9FE-4953-878F-327239C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9DB5D-FE7F-46A7-91C9-A719646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6DC3-2BAE-4EFD-B43D-F541CA4C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ACBB-4CEE-499B-A88F-5B6C65F6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CBC-E96C-4AF8-99BD-6B1F673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BBF0-C170-4BF6-B0C7-20C4CE43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5832B-AB00-46E6-8396-D573546F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D580-424F-4C41-9C06-280127B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D512C-17B8-40E2-8B75-E6DB48D1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545C-F53A-4C95-A08F-609C2CB9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F2306-842B-4575-86B9-8AC514DA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6C23-0722-416A-9BE6-B4B1C44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E5CF-82B4-41B9-ADB0-BF71FDD2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412D-E408-4AE6-85B6-6D089E2E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F1CA-8CDC-40B7-BFE5-F66BF10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56F-15A0-4247-9328-29AF09C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601A-8AFB-47DF-B496-1187C49A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9B2D-B6F1-490C-8396-4FC10F24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AED6-1330-4258-81C4-2EC63CF5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53B14-AEA5-4C76-8498-22CCDF7C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EEE9-4D4E-456C-BE16-74A7006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EDE2-1159-4DEC-8A69-1944AE8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B1DF-96BF-4BEB-B1D0-9ED40481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680A6-20A2-4C0C-AD14-DD46D865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525C-FB60-44E3-80DD-EB951B7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89D4C-908D-4AE2-A31A-E497380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772-F664-4803-B58C-0B0D1BE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AACE8-7B76-45A3-8386-BA6E2EF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E0C83-7D75-4C97-85BC-01634E5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408C-9511-48E1-A8AA-0A42AA8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387C1-E42A-4EA5-A290-E5B213D7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ADA9-6200-44AE-A181-DEA83A78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3C40-F9C8-4500-A00C-8F99FEB8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88B73-0F85-44EF-8369-207426A5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EE4A-F373-4FE5-8C9A-A5D01745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0E01E-6CA9-48A6-B320-BE4F5A3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DD9CC-C081-45CE-8380-01C2EE7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3CA-A50B-46AD-8F39-D39F8C91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16A87-732A-4BF1-9525-CB70DA8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2562A-25A6-4206-AC4B-C67452D6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E2752-AADB-4465-9E2F-1DE211E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CE77-FA1A-4417-8ABB-A826D4B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34849-E2C6-4CD9-9704-0B29E10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7B7F-C9A4-44A1-BBAA-B48BB8C3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C7A8-440C-4D51-8B57-CA6591E7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B4839-81D4-45F4-A3F0-AB32E7A1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3ACF3-A9B3-4287-ADE1-F8E7043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F914-4948-455C-A385-C9B628D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168-9C0D-445C-AA4B-BE0E238827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F1F0-E687-4578-AE02-3DF80B2A10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A727-4453-4A1F-B04C-E312565F77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7D01-9E74-43B8-AF6B-8EFE7FD32E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2FB-325B-4F86-8F7A-7466480AF1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58D-DBD8-4102-9E9F-CB4A63F1D067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318-087B-4D76-B596-10CBC063193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EFF-C406-4DAF-A7A4-850822AD61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86B-69DC-412C-87AC-7010EC288B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F6D-F435-4D92-BBD1-8D96745159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9FA-7802-4327-A400-0AEF8DBFCC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20B7-3A12-4C35-AB26-59628F1C58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477-A6D9-4544-9A45-E98A3ADC0E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5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Osaka"/>
              </a:rPr>
              <a:t>E. Hamu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8851-5DC3-4858-91BA-AA6EAF769A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3311640" y="0"/>
            <a:ext cx="2520720" cy="22924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 Black"/>
              </a:rPr>
              <a:t>BITMA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 a </a:t>
            </a:r>
            <a:r>
              <a:rPr b="1" lang="es-ES" sz="3200" spc="-1" strike="noStrike">
                <a:solidFill>
                  <a:srgbClr val="ffffff"/>
                </a:solidFill>
                <a:latin typeface="Arial Black"/>
              </a:rPr>
              <a:t>Photo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654120" y="816120"/>
            <a:ext cx="31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654120" y="1795320"/>
            <a:ext cx="7510320" cy="3875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 Rea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resolución de la imagen la expresamos en píxeles por pulgada. A mayor resolución más píxeles caben en una pulgada y menor será el tamaño de los píxe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 Resolución  &lt;  + Res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72 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150dpi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00dp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979560" y="811080"/>
            <a:ext cx="261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Resolució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620" name="Picture 88" descr=""/>
          <p:cNvPicPr/>
          <p:nvPr/>
        </p:nvPicPr>
        <p:blipFill>
          <a:blip r:embed="rId1"/>
          <a:stretch/>
        </p:blipFill>
        <p:spPr>
          <a:xfrm>
            <a:off x="1835280" y="4508640"/>
            <a:ext cx="543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979560" y="2108160"/>
            <a:ext cx="75103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 la imagen depende de sus dimensiones (anchura y altura) medidas en píxeles u otras unidades: puntos, picas, milímetros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Tamaño de la  imagen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2"/>
          <p:cNvSpPr/>
          <p:nvPr/>
        </p:nvSpPr>
        <p:spPr>
          <a:xfrm>
            <a:off x="979560" y="2108160"/>
            <a:ext cx="75103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El tamaño del archivo de la imagen, como unidad de información digitalizada se expresa en bits. A mayor resolución, mayor tamaño del archivo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979560" y="811080"/>
            <a:ext cx="47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Tamaño del archiv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816120" y="1455840"/>
            <a:ext cx="7511760" cy="49132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3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o tamaño de impresió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Misma cantidad de píxel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4653000" y="1405080"/>
            <a:ext cx="400212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l alz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4621320" y="1400040"/>
            <a:ext cx="4049640" cy="48992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"/>
          <p:cNvPicPr/>
          <p:nvPr/>
        </p:nvPicPr>
        <p:blipFill>
          <a:blip r:embed="rId2"/>
          <a:stretch/>
        </p:blipFill>
        <p:spPr>
          <a:xfrm>
            <a:off x="555480" y="1405080"/>
            <a:ext cx="4050000" cy="48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979560" y="8110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Interpolación a la baj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4637160" y="1415880"/>
            <a:ext cx="4081320" cy="4919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"/>
          <p:cNvPicPr/>
          <p:nvPr/>
        </p:nvPicPr>
        <p:blipFill>
          <a:blip r:embed="rId2"/>
          <a:stretch/>
        </p:blipFill>
        <p:spPr>
          <a:xfrm>
            <a:off x="555480" y="1436760"/>
            <a:ext cx="4050000" cy="49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429000" y="2155680"/>
            <a:ext cx="5060880" cy="38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imagen está formada por una matriz de píxeles. Cuando modificamos una imagen bitmap lo que estamos haciendo es cambiar el aspecto de los píxeles con programas de tratamiento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como GIMP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1"/>
          <a:stretch/>
        </p:blipFill>
        <p:spPr>
          <a:xfrm>
            <a:off x="654120" y="2449440"/>
            <a:ext cx="2449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1960560" y="934920"/>
            <a:ext cx="5684760" cy="5270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"/>
          <p:cNvSpPr/>
          <p:nvPr/>
        </p:nvSpPr>
        <p:spPr>
          <a:xfrm>
            <a:off x="816120" y="32076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 bitma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Adobe Photoshop</a:t>
            </a:r>
            <a:r>
              <a:rPr b="0" lang="es-ES" sz="4400" spc="-1" strike="noStrike">
                <a:solidFill>
                  <a:srgbClr val="003d5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Taller de Fotos) es una aplicación informática en forma de Taller de pintura y Laboratorio de fotografía que trabaja sobre un "lienzo" y que está destinado para la edición, retoque fotográfico y pintura a base de imágenes de mapa de bits (o gráficos rasterizado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 producto elaborado por la compañía de software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dobe System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inicialmente para computadores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ppl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pero posteriormente también para plataformas PC con sistema operativo </a:t>
            </a: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Window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979560" y="81288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s de ima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1143000" y="162720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3429000" y="2155680"/>
            <a:ext cx="5224320" cy="46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Se representan con trazos geométricos que están controlados por operaciones matemáticas que realiza el ordenador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La ventaja de este tipo de imagen es que pueden reducirse o ampliarse sin ningún tipo de pérdida de calidad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Freeform 5"/>
          <p:cNvSpPr/>
          <p:nvPr/>
        </p:nvSpPr>
        <p:spPr>
          <a:xfrm>
            <a:off x="293760" y="3592440"/>
            <a:ext cx="1143000" cy="1468440"/>
          </a:xfrm>
          <a:custGeom>
            <a:avLst/>
            <a:gdLst>
              <a:gd name="textAreaLeft" fmla="*/ 218520 w 1143000"/>
              <a:gd name="textAreaRight" fmla="*/ 822240 w 1143000"/>
              <a:gd name="textAreaTop" fmla="*/ 234360 h 1468440"/>
              <a:gd name="textAreaBottom" fmla="*/ 718200 h 1468440"/>
            </a:gdLst>
            <a:ahLst/>
            <a:rect l="textAreaLeft" t="textAreaTop" r="textAreaRight" b="textAreaBottom"/>
            <a:pathLst>
              <a:path w="3448" h="4947">
                <a:moveTo>
                  <a:pt x="1944" y="2928"/>
                </a:moveTo>
                <a:cubicBezTo>
                  <a:pt x="1941" y="2982"/>
                  <a:pt x="1938" y="3036"/>
                  <a:pt x="1933" y="3090"/>
                </a:cubicBezTo>
                <a:cubicBezTo>
                  <a:pt x="1924" y="3131"/>
                  <a:pt x="1915" y="3172"/>
                  <a:pt x="1905" y="3214"/>
                </a:cubicBezTo>
                <a:cubicBezTo>
                  <a:pt x="1891" y="3246"/>
                  <a:pt x="1877" y="3278"/>
                  <a:pt x="1861" y="3312"/>
                </a:cubicBezTo>
                <a:cubicBezTo>
                  <a:pt x="1843" y="3340"/>
                  <a:pt x="1825" y="3368"/>
                  <a:pt x="1805" y="3398"/>
                </a:cubicBezTo>
                <a:cubicBezTo>
                  <a:pt x="1775" y="3437"/>
                  <a:pt x="1745" y="3476"/>
                  <a:pt x="1715" y="3517"/>
                </a:cubicBezTo>
                <a:cubicBezTo>
                  <a:pt x="1685" y="3548"/>
                  <a:pt x="1655" y="3579"/>
                  <a:pt x="1625" y="3612"/>
                </a:cubicBezTo>
                <a:cubicBezTo>
                  <a:pt x="1602" y="3646"/>
                  <a:pt x="1579" y="3680"/>
                  <a:pt x="1556" y="3716"/>
                </a:cubicBezTo>
                <a:cubicBezTo>
                  <a:pt x="1547" y="3766"/>
                  <a:pt x="1538" y="3816"/>
                  <a:pt x="1529" y="3868"/>
                </a:cubicBezTo>
                <a:cubicBezTo>
                  <a:pt x="1532" y="3914"/>
                  <a:pt x="1535" y="3960"/>
                  <a:pt x="1538" y="4008"/>
                </a:cubicBezTo>
                <a:cubicBezTo>
                  <a:pt x="1545" y="4052"/>
                  <a:pt x="1552" y="4096"/>
                  <a:pt x="1560" y="4141"/>
                </a:cubicBezTo>
                <a:cubicBezTo>
                  <a:pt x="1569" y="4183"/>
                  <a:pt x="1578" y="4225"/>
                  <a:pt x="1587" y="4268"/>
                </a:cubicBezTo>
                <a:cubicBezTo>
                  <a:pt x="1595" y="4309"/>
                  <a:pt x="1603" y="4350"/>
                  <a:pt x="1612" y="4393"/>
                </a:cubicBezTo>
                <a:cubicBezTo>
                  <a:pt x="1620" y="4412"/>
                  <a:pt x="1628" y="4431"/>
                  <a:pt x="1636" y="4451"/>
                </a:cubicBezTo>
                <a:cubicBezTo>
                  <a:pt x="1645" y="4475"/>
                  <a:pt x="1654" y="4499"/>
                  <a:pt x="1664" y="4524"/>
                </a:cubicBezTo>
                <a:cubicBezTo>
                  <a:pt x="1671" y="4545"/>
                  <a:pt x="1678" y="4566"/>
                  <a:pt x="1685" y="4587"/>
                </a:cubicBezTo>
                <a:cubicBezTo>
                  <a:pt x="1688" y="4596"/>
                  <a:pt x="1691" y="4605"/>
                  <a:pt x="1695" y="4614"/>
                </a:cubicBezTo>
                <a:cubicBezTo>
                  <a:pt x="1711" y="4604"/>
                  <a:pt x="1727" y="4594"/>
                  <a:pt x="1745" y="4582"/>
                </a:cubicBezTo>
                <a:cubicBezTo>
                  <a:pt x="1765" y="4577"/>
                  <a:pt x="1785" y="4572"/>
                  <a:pt x="1805" y="4565"/>
                </a:cubicBezTo>
                <a:cubicBezTo>
                  <a:pt x="1825" y="4563"/>
                  <a:pt x="1845" y="4561"/>
                  <a:pt x="1866" y="4559"/>
                </a:cubicBezTo>
                <a:cubicBezTo>
                  <a:pt x="1882" y="4559"/>
                  <a:pt x="1898" y="4559"/>
                  <a:pt x="1916" y="4559"/>
                </a:cubicBezTo>
                <a:cubicBezTo>
                  <a:pt x="1935" y="4560"/>
                  <a:pt x="1954" y="4561"/>
                  <a:pt x="1973" y="4563"/>
                </a:cubicBezTo>
                <a:cubicBezTo>
                  <a:pt x="1997" y="4566"/>
                  <a:pt x="2021" y="4569"/>
                  <a:pt x="2047" y="4573"/>
                </a:cubicBezTo>
                <a:cubicBezTo>
                  <a:pt x="2068" y="4576"/>
                  <a:pt x="2089" y="4579"/>
                  <a:pt x="2110" y="4582"/>
                </a:cubicBezTo>
                <a:cubicBezTo>
                  <a:pt x="2119" y="4583"/>
                  <a:pt x="2128" y="4584"/>
                  <a:pt x="2137" y="4587"/>
                </a:cubicBezTo>
                <a:cubicBezTo>
                  <a:pt x="2125" y="4570"/>
                  <a:pt x="2113" y="4553"/>
                  <a:pt x="2100" y="4536"/>
                </a:cubicBezTo>
                <a:cubicBezTo>
                  <a:pt x="2091" y="4515"/>
                  <a:pt x="2082" y="4494"/>
                  <a:pt x="2071" y="4472"/>
                </a:cubicBezTo>
                <a:cubicBezTo>
                  <a:pt x="2063" y="4449"/>
                  <a:pt x="2055" y="4426"/>
                  <a:pt x="2047" y="4403"/>
                </a:cubicBezTo>
                <a:cubicBezTo>
                  <a:pt x="2040" y="4382"/>
                  <a:pt x="2033" y="4361"/>
                  <a:pt x="2026" y="4338"/>
                </a:cubicBezTo>
                <a:cubicBezTo>
                  <a:pt x="2001" y="4275"/>
                  <a:pt x="1976" y="4212"/>
                  <a:pt x="1951" y="4149"/>
                </a:cubicBezTo>
                <a:cubicBezTo>
                  <a:pt x="1941" y="4103"/>
                  <a:pt x="1931" y="4057"/>
                  <a:pt x="1921" y="4009"/>
                </a:cubicBezTo>
                <a:cubicBezTo>
                  <a:pt x="1922" y="3975"/>
                  <a:pt x="1923" y="3941"/>
                  <a:pt x="1925" y="3905"/>
                </a:cubicBezTo>
                <a:cubicBezTo>
                  <a:pt x="1934" y="3879"/>
                  <a:pt x="1943" y="3853"/>
                  <a:pt x="1954" y="3825"/>
                </a:cubicBezTo>
                <a:cubicBezTo>
                  <a:pt x="1969" y="3803"/>
                  <a:pt x="1984" y="3781"/>
                  <a:pt x="1999" y="3757"/>
                </a:cubicBezTo>
                <a:cubicBezTo>
                  <a:pt x="2034" y="3705"/>
                  <a:pt x="2069" y="3653"/>
                  <a:pt x="2105" y="3599"/>
                </a:cubicBezTo>
                <a:cubicBezTo>
                  <a:pt x="2138" y="3549"/>
                  <a:pt x="2171" y="3499"/>
                  <a:pt x="2206" y="3449"/>
                </a:cubicBezTo>
                <a:cubicBezTo>
                  <a:pt x="2232" y="3398"/>
                  <a:pt x="2258" y="3347"/>
                  <a:pt x="2286" y="3294"/>
                </a:cubicBezTo>
                <a:cubicBezTo>
                  <a:pt x="2301" y="3237"/>
                  <a:pt x="2316" y="3180"/>
                  <a:pt x="2331" y="3122"/>
                </a:cubicBezTo>
                <a:cubicBezTo>
                  <a:pt x="2331" y="3100"/>
                  <a:pt x="2331" y="3078"/>
                  <a:pt x="2331" y="3054"/>
                </a:cubicBezTo>
                <a:cubicBezTo>
                  <a:pt x="2331" y="3029"/>
                  <a:pt x="2331" y="3004"/>
                  <a:pt x="2331" y="2979"/>
                </a:cubicBezTo>
                <a:cubicBezTo>
                  <a:pt x="2331" y="2953"/>
                  <a:pt x="2331" y="2927"/>
                  <a:pt x="2331" y="2899"/>
                </a:cubicBezTo>
                <a:cubicBezTo>
                  <a:pt x="2331" y="2872"/>
                  <a:pt x="2331" y="2845"/>
                  <a:pt x="2331" y="2817"/>
                </a:cubicBezTo>
                <a:cubicBezTo>
                  <a:pt x="2324" y="2811"/>
                  <a:pt x="2317" y="2805"/>
                  <a:pt x="2310" y="2797"/>
                </a:cubicBezTo>
                <a:cubicBezTo>
                  <a:pt x="2305" y="2791"/>
                  <a:pt x="2300" y="2785"/>
                  <a:pt x="2293" y="2779"/>
                </a:cubicBezTo>
                <a:cubicBezTo>
                  <a:pt x="2289" y="2775"/>
                  <a:pt x="2285" y="2771"/>
                  <a:pt x="2280" y="2766"/>
                </a:cubicBezTo>
                <a:cubicBezTo>
                  <a:pt x="2279" y="2765"/>
                  <a:pt x="2278" y="2764"/>
                  <a:pt x="2276" y="2762"/>
                </a:cubicBezTo>
                <a:cubicBezTo>
                  <a:pt x="2243" y="2770"/>
                  <a:pt x="2210" y="2778"/>
                  <a:pt x="2177" y="2788"/>
                </a:cubicBezTo>
                <a:cubicBezTo>
                  <a:pt x="2148" y="2800"/>
                  <a:pt x="2119" y="2812"/>
                  <a:pt x="2088" y="2824"/>
                </a:cubicBezTo>
                <a:cubicBezTo>
                  <a:pt x="2062" y="2839"/>
                  <a:pt x="2036" y="2854"/>
                  <a:pt x="2010" y="2870"/>
                </a:cubicBezTo>
                <a:cubicBezTo>
                  <a:pt x="1988" y="2889"/>
                  <a:pt x="1966" y="2908"/>
                  <a:pt x="1944" y="2928"/>
                </a:cubicBezTo>
                <a:close/>
                <a:moveTo>
                  <a:pt x="2635" y="2707"/>
                </a:moveTo>
                <a:cubicBezTo>
                  <a:pt x="2587" y="2712"/>
                  <a:pt x="2539" y="2717"/>
                  <a:pt x="2491" y="2722"/>
                </a:cubicBezTo>
                <a:cubicBezTo>
                  <a:pt x="2467" y="2724"/>
                  <a:pt x="2443" y="2726"/>
                  <a:pt x="2417" y="2730"/>
                </a:cubicBezTo>
                <a:cubicBezTo>
                  <a:pt x="2408" y="2731"/>
                  <a:pt x="2399" y="2732"/>
                  <a:pt x="2389" y="2733"/>
                </a:cubicBezTo>
                <a:cubicBezTo>
                  <a:pt x="2388" y="2733"/>
                  <a:pt x="2387" y="2733"/>
                  <a:pt x="2386" y="2734"/>
                </a:cubicBezTo>
                <a:cubicBezTo>
                  <a:pt x="2378" y="2734"/>
                  <a:pt x="2370" y="2734"/>
                  <a:pt x="2360" y="2734"/>
                </a:cubicBezTo>
                <a:cubicBezTo>
                  <a:pt x="2350" y="2734"/>
                  <a:pt x="2340" y="2734"/>
                  <a:pt x="2330" y="2734"/>
                </a:cubicBezTo>
                <a:cubicBezTo>
                  <a:pt x="2320" y="2734"/>
                  <a:pt x="2310" y="2734"/>
                  <a:pt x="2300" y="2734"/>
                </a:cubicBezTo>
                <a:cubicBezTo>
                  <a:pt x="2292" y="2734"/>
                  <a:pt x="2284" y="2734"/>
                  <a:pt x="2276" y="2734"/>
                </a:cubicBezTo>
                <a:cubicBezTo>
                  <a:pt x="2276" y="2735"/>
                  <a:pt x="2276" y="2736"/>
                  <a:pt x="2276" y="2738"/>
                </a:cubicBezTo>
                <a:cubicBezTo>
                  <a:pt x="2276" y="2741"/>
                  <a:pt x="2276" y="2744"/>
                  <a:pt x="2276" y="2748"/>
                </a:cubicBezTo>
                <a:cubicBezTo>
                  <a:pt x="2276" y="2751"/>
                  <a:pt x="2276" y="2754"/>
                  <a:pt x="2276" y="2757"/>
                </a:cubicBezTo>
                <a:cubicBezTo>
                  <a:pt x="2276" y="2758"/>
                  <a:pt x="2276" y="2759"/>
                  <a:pt x="2276" y="2762"/>
                </a:cubicBezTo>
                <a:cubicBezTo>
                  <a:pt x="2277" y="2763"/>
                  <a:pt x="2278" y="2764"/>
                  <a:pt x="2280" y="2766"/>
                </a:cubicBezTo>
                <a:cubicBezTo>
                  <a:pt x="2284" y="2770"/>
                  <a:pt x="2288" y="2774"/>
                  <a:pt x="2293" y="2779"/>
                </a:cubicBezTo>
                <a:cubicBezTo>
                  <a:pt x="2298" y="2785"/>
                  <a:pt x="2303" y="2791"/>
                  <a:pt x="2310" y="2797"/>
                </a:cubicBezTo>
                <a:cubicBezTo>
                  <a:pt x="2317" y="2803"/>
                  <a:pt x="2324" y="2809"/>
                  <a:pt x="2331" y="2817"/>
                </a:cubicBezTo>
                <a:cubicBezTo>
                  <a:pt x="2349" y="2840"/>
                  <a:pt x="2367" y="2863"/>
                  <a:pt x="2386" y="2888"/>
                </a:cubicBezTo>
                <a:cubicBezTo>
                  <a:pt x="2397" y="2918"/>
                  <a:pt x="2408" y="2948"/>
                  <a:pt x="2419" y="2979"/>
                </a:cubicBezTo>
                <a:cubicBezTo>
                  <a:pt x="2422" y="3019"/>
                  <a:pt x="2425" y="3059"/>
                  <a:pt x="2428" y="3099"/>
                </a:cubicBezTo>
                <a:cubicBezTo>
                  <a:pt x="2422" y="3153"/>
                  <a:pt x="2416" y="3207"/>
                  <a:pt x="2408" y="3263"/>
                </a:cubicBezTo>
                <a:cubicBezTo>
                  <a:pt x="2392" y="3335"/>
                  <a:pt x="2376" y="3407"/>
                  <a:pt x="2358" y="3481"/>
                </a:cubicBezTo>
                <a:cubicBezTo>
                  <a:pt x="2349" y="3515"/>
                  <a:pt x="2340" y="3549"/>
                  <a:pt x="2329" y="3584"/>
                </a:cubicBezTo>
                <a:cubicBezTo>
                  <a:pt x="2317" y="3618"/>
                  <a:pt x="2305" y="3652"/>
                  <a:pt x="2292" y="3688"/>
                </a:cubicBezTo>
                <a:cubicBezTo>
                  <a:pt x="2282" y="3722"/>
                  <a:pt x="2272" y="3756"/>
                  <a:pt x="2260" y="3791"/>
                </a:cubicBezTo>
                <a:cubicBezTo>
                  <a:pt x="2256" y="3826"/>
                  <a:pt x="2252" y="3861"/>
                  <a:pt x="2247" y="3896"/>
                </a:cubicBezTo>
                <a:cubicBezTo>
                  <a:pt x="2252" y="3967"/>
                  <a:pt x="2257" y="4038"/>
                  <a:pt x="2263" y="4110"/>
                </a:cubicBezTo>
                <a:cubicBezTo>
                  <a:pt x="2280" y="4172"/>
                  <a:pt x="2297" y="4234"/>
                  <a:pt x="2315" y="4297"/>
                </a:cubicBezTo>
                <a:cubicBezTo>
                  <a:pt x="2344" y="4355"/>
                  <a:pt x="2373" y="4413"/>
                  <a:pt x="2402" y="4472"/>
                </a:cubicBezTo>
                <a:cubicBezTo>
                  <a:pt x="2443" y="4530"/>
                  <a:pt x="2484" y="4588"/>
                  <a:pt x="2527" y="4647"/>
                </a:cubicBezTo>
                <a:cubicBezTo>
                  <a:pt x="2581" y="4709"/>
                  <a:pt x="2635" y="4771"/>
                  <a:pt x="2690" y="4835"/>
                </a:cubicBezTo>
                <a:cubicBezTo>
                  <a:pt x="2701" y="4840"/>
                  <a:pt x="2712" y="4845"/>
                  <a:pt x="2723" y="4852"/>
                </a:cubicBezTo>
                <a:cubicBezTo>
                  <a:pt x="2738" y="4864"/>
                  <a:pt x="2753" y="4876"/>
                  <a:pt x="2770" y="4890"/>
                </a:cubicBezTo>
                <a:cubicBezTo>
                  <a:pt x="2783" y="4902"/>
                  <a:pt x="2796" y="4914"/>
                  <a:pt x="2811" y="4928"/>
                </a:cubicBezTo>
                <a:cubicBezTo>
                  <a:pt x="2817" y="4934"/>
                  <a:pt x="2823" y="4940"/>
                  <a:pt x="2829" y="4946"/>
                </a:cubicBezTo>
                <a:cubicBezTo>
                  <a:pt x="2852" y="4925"/>
                  <a:pt x="2875" y="4904"/>
                  <a:pt x="2899" y="4881"/>
                </a:cubicBezTo>
                <a:cubicBezTo>
                  <a:pt x="2927" y="4869"/>
                  <a:pt x="2955" y="4857"/>
                  <a:pt x="2983" y="4845"/>
                </a:cubicBezTo>
                <a:cubicBezTo>
                  <a:pt x="3013" y="4839"/>
                  <a:pt x="3043" y="4833"/>
                  <a:pt x="3073" y="4825"/>
                </a:cubicBezTo>
                <a:cubicBezTo>
                  <a:pt x="3102" y="4820"/>
                  <a:pt x="3131" y="4815"/>
                  <a:pt x="3161" y="4808"/>
                </a:cubicBezTo>
                <a:cubicBezTo>
                  <a:pt x="3167" y="4808"/>
                  <a:pt x="3173" y="4808"/>
                  <a:pt x="3180" y="4808"/>
                </a:cubicBezTo>
                <a:cubicBezTo>
                  <a:pt x="3186" y="4809"/>
                  <a:pt x="3192" y="4810"/>
                  <a:pt x="3198" y="4811"/>
                </a:cubicBezTo>
                <a:cubicBezTo>
                  <a:pt x="3202" y="4813"/>
                  <a:pt x="3206" y="4815"/>
                  <a:pt x="3210" y="4819"/>
                </a:cubicBezTo>
                <a:cubicBezTo>
                  <a:pt x="3211" y="4824"/>
                  <a:pt x="3212" y="4829"/>
                  <a:pt x="3215" y="4835"/>
                </a:cubicBezTo>
                <a:cubicBezTo>
                  <a:pt x="3178" y="4809"/>
                  <a:pt x="3141" y="4783"/>
                  <a:pt x="3104" y="4757"/>
                </a:cubicBezTo>
                <a:cubicBezTo>
                  <a:pt x="3076" y="4734"/>
                  <a:pt x="3048" y="4711"/>
                  <a:pt x="3018" y="4686"/>
                </a:cubicBezTo>
                <a:cubicBezTo>
                  <a:pt x="2995" y="4665"/>
                  <a:pt x="2972" y="4644"/>
                  <a:pt x="2947" y="4621"/>
                </a:cubicBezTo>
                <a:cubicBezTo>
                  <a:pt x="2926" y="4601"/>
                  <a:pt x="2905" y="4581"/>
                  <a:pt x="2884" y="4559"/>
                </a:cubicBezTo>
                <a:cubicBezTo>
                  <a:pt x="2844" y="4512"/>
                  <a:pt x="2804" y="4465"/>
                  <a:pt x="2762" y="4416"/>
                </a:cubicBezTo>
                <a:cubicBezTo>
                  <a:pt x="2731" y="4370"/>
                  <a:pt x="2700" y="4324"/>
                  <a:pt x="2668" y="4277"/>
                </a:cubicBezTo>
                <a:cubicBezTo>
                  <a:pt x="2649" y="4226"/>
                  <a:pt x="2630" y="4175"/>
                  <a:pt x="2610" y="4122"/>
                </a:cubicBezTo>
                <a:cubicBezTo>
                  <a:pt x="2606" y="4060"/>
                  <a:pt x="2602" y="3998"/>
                  <a:pt x="2596" y="3936"/>
                </a:cubicBezTo>
                <a:cubicBezTo>
                  <a:pt x="2609" y="3858"/>
                  <a:pt x="2622" y="3780"/>
                  <a:pt x="2635" y="3702"/>
                </a:cubicBezTo>
                <a:cubicBezTo>
                  <a:pt x="2654" y="3628"/>
                  <a:pt x="2673" y="3554"/>
                  <a:pt x="2694" y="3480"/>
                </a:cubicBezTo>
                <a:cubicBezTo>
                  <a:pt x="2709" y="3423"/>
                  <a:pt x="2724" y="3366"/>
                  <a:pt x="2741" y="3307"/>
                </a:cubicBezTo>
                <a:cubicBezTo>
                  <a:pt x="2751" y="3262"/>
                  <a:pt x="2761" y="3217"/>
                  <a:pt x="2773" y="3170"/>
                </a:cubicBezTo>
                <a:cubicBezTo>
                  <a:pt x="2779" y="3132"/>
                  <a:pt x="2785" y="3094"/>
                  <a:pt x="2793" y="3056"/>
                </a:cubicBezTo>
                <a:cubicBezTo>
                  <a:pt x="2795" y="3023"/>
                  <a:pt x="2797" y="2990"/>
                  <a:pt x="2800" y="2955"/>
                </a:cubicBezTo>
                <a:cubicBezTo>
                  <a:pt x="2798" y="2929"/>
                  <a:pt x="2796" y="2903"/>
                  <a:pt x="2794" y="2877"/>
                </a:cubicBezTo>
                <a:cubicBezTo>
                  <a:pt x="2789" y="2855"/>
                  <a:pt x="2784" y="2833"/>
                  <a:pt x="2779" y="2810"/>
                </a:cubicBezTo>
                <a:cubicBezTo>
                  <a:pt x="2771" y="2791"/>
                  <a:pt x="2763" y="2772"/>
                  <a:pt x="2754" y="2753"/>
                </a:cubicBezTo>
                <a:cubicBezTo>
                  <a:pt x="2742" y="2738"/>
                  <a:pt x="2730" y="2723"/>
                  <a:pt x="2718" y="2707"/>
                </a:cubicBezTo>
                <a:cubicBezTo>
                  <a:pt x="2711" y="2707"/>
                  <a:pt x="2704" y="2707"/>
                  <a:pt x="2697" y="2707"/>
                </a:cubicBezTo>
                <a:cubicBezTo>
                  <a:pt x="2690" y="2707"/>
                  <a:pt x="2683" y="2707"/>
                  <a:pt x="2676" y="2707"/>
                </a:cubicBezTo>
                <a:cubicBezTo>
                  <a:pt x="2669" y="2707"/>
                  <a:pt x="2662" y="2707"/>
                  <a:pt x="2655" y="2707"/>
                </a:cubicBezTo>
                <a:cubicBezTo>
                  <a:pt x="2649" y="2707"/>
                  <a:pt x="2643" y="2707"/>
                  <a:pt x="2635" y="2707"/>
                </a:cubicBezTo>
                <a:close/>
                <a:moveTo>
                  <a:pt x="3298" y="1325"/>
                </a:moveTo>
                <a:cubicBezTo>
                  <a:pt x="3285" y="1318"/>
                  <a:pt x="3272" y="1311"/>
                  <a:pt x="3257" y="1304"/>
                </a:cubicBezTo>
                <a:cubicBezTo>
                  <a:pt x="3245" y="1298"/>
                  <a:pt x="3233" y="1292"/>
                  <a:pt x="3219" y="1286"/>
                </a:cubicBezTo>
                <a:cubicBezTo>
                  <a:pt x="3208" y="1282"/>
                  <a:pt x="3197" y="1278"/>
                  <a:pt x="3185" y="1273"/>
                </a:cubicBezTo>
                <a:cubicBezTo>
                  <a:pt x="3177" y="1272"/>
                  <a:pt x="3169" y="1271"/>
                  <a:pt x="3160" y="1269"/>
                </a:cubicBezTo>
                <a:cubicBezTo>
                  <a:pt x="3118" y="1251"/>
                  <a:pt x="3076" y="1233"/>
                  <a:pt x="3033" y="1215"/>
                </a:cubicBezTo>
                <a:cubicBezTo>
                  <a:pt x="2994" y="1187"/>
                  <a:pt x="2955" y="1159"/>
                  <a:pt x="2914" y="1131"/>
                </a:cubicBezTo>
                <a:cubicBezTo>
                  <a:pt x="2884" y="1089"/>
                  <a:pt x="2854" y="1047"/>
                  <a:pt x="2822" y="1005"/>
                </a:cubicBezTo>
                <a:cubicBezTo>
                  <a:pt x="2806" y="946"/>
                  <a:pt x="2790" y="887"/>
                  <a:pt x="2774" y="827"/>
                </a:cubicBezTo>
                <a:cubicBezTo>
                  <a:pt x="2774" y="774"/>
                  <a:pt x="2774" y="721"/>
                  <a:pt x="2774" y="667"/>
                </a:cubicBezTo>
                <a:cubicBezTo>
                  <a:pt x="2774" y="640"/>
                  <a:pt x="2774" y="613"/>
                  <a:pt x="2774" y="585"/>
                </a:cubicBezTo>
                <a:cubicBezTo>
                  <a:pt x="2774" y="575"/>
                  <a:pt x="2774" y="565"/>
                  <a:pt x="2774" y="555"/>
                </a:cubicBezTo>
                <a:cubicBezTo>
                  <a:pt x="2774" y="554"/>
                  <a:pt x="2774" y="553"/>
                  <a:pt x="2774" y="551"/>
                </a:cubicBezTo>
                <a:cubicBezTo>
                  <a:pt x="2755" y="487"/>
                  <a:pt x="2736" y="423"/>
                  <a:pt x="2717" y="358"/>
                </a:cubicBezTo>
                <a:cubicBezTo>
                  <a:pt x="2678" y="318"/>
                  <a:pt x="2639" y="278"/>
                  <a:pt x="2600" y="236"/>
                </a:cubicBezTo>
                <a:cubicBezTo>
                  <a:pt x="2544" y="218"/>
                  <a:pt x="2488" y="200"/>
                  <a:pt x="2431" y="181"/>
                </a:cubicBezTo>
                <a:cubicBezTo>
                  <a:pt x="2361" y="184"/>
                  <a:pt x="2291" y="187"/>
                  <a:pt x="2221" y="192"/>
                </a:cubicBezTo>
                <a:cubicBezTo>
                  <a:pt x="2173" y="202"/>
                  <a:pt x="2125" y="212"/>
                  <a:pt x="2076" y="223"/>
                </a:cubicBezTo>
                <a:cubicBezTo>
                  <a:pt x="2052" y="228"/>
                  <a:pt x="2028" y="233"/>
                  <a:pt x="2002" y="239"/>
                </a:cubicBezTo>
                <a:cubicBezTo>
                  <a:pt x="1993" y="241"/>
                  <a:pt x="1984" y="243"/>
                  <a:pt x="1974" y="245"/>
                </a:cubicBezTo>
                <a:cubicBezTo>
                  <a:pt x="1973" y="245"/>
                  <a:pt x="1972" y="245"/>
                  <a:pt x="1971" y="246"/>
                </a:cubicBezTo>
                <a:cubicBezTo>
                  <a:pt x="1937" y="249"/>
                  <a:pt x="1903" y="252"/>
                  <a:pt x="1868" y="255"/>
                </a:cubicBezTo>
                <a:cubicBezTo>
                  <a:pt x="1839" y="252"/>
                  <a:pt x="1810" y="249"/>
                  <a:pt x="1779" y="245"/>
                </a:cubicBezTo>
                <a:cubicBezTo>
                  <a:pt x="1747" y="234"/>
                  <a:pt x="1715" y="223"/>
                  <a:pt x="1683" y="212"/>
                </a:cubicBezTo>
                <a:cubicBezTo>
                  <a:pt x="1642" y="191"/>
                  <a:pt x="1601" y="170"/>
                  <a:pt x="1560" y="149"/>
                </a:cubicBezTo>
                <a:cubicBezTo>
                  <a:pt x="1504" y="117"/>
                  <a:pt x="1448" y="85"/>
                  <a:pt x="1391" y="53"/>
                </a:cubicBezTo>
                <a:cubicBezTo>
                  <a:pt x="1353" y="36"/>
                  <a:pt x="1315" y="19"/>
                  <a:pt x="1275" y="0"/>
                </a:cubicBezTo>
                <a:cubicBezTo>
                  <a:pt x="1233" y="2"/>
                  <a:pt x="1191" y="4"/>
                  <a:pt x="1149" y="8"/>
                </a:cubicBezTo>
                <a:cubicBezTo>
                  <a:pt x="1111" y="29"/>
                  <a:pt x="1073" y="50"/>
                  <a:pt x="1033" y="72"/>
                </a:cubicBezTo>
                <a:cubicBezTo>
                  <a:pt x="1005" y="112"/>
                  <a:pt x="977" y="152"/>
                  <a:pt x="949" y="192"/>
                </a:cubicBezTo>
                <a:cubicBezTo>
                  <a:pt x="921" y="257"/>
                  <a:pt x="893" y="322"/>
                  <a:pt x="863" y="387"/>
                </a:cubicBezTo>
                <a:cubicBezTo>
                  <a:pt x="840" y="431"/>
                  <a:pt x="817" y="475"/>
                  <a:pt x="793" y="521"/>
                </a:cubicBezTo>
                <a:cubicBezTo>
                  <a:pt x="769" y="551"/>
                  <a:pt x="745" y="581"/>
                  <a:pt x="721" y="613"/>
                </a:cubicBezTo>
                <a:cubicBezTo>
                  <a:pt x="691" y="635"/>
                  <a:pt x="661" y="657"/>
                  <a:pt x="631" y="681"/>
                </a:cubicBezTo>
                <a:cubicBezTo>
                  <a:pt x="590" y="702"/>
                  <a:pt x="549" y="723"/>
                  <a:pt x="506" y="745"/>
                </a:cubicBezTo>
                <a:cubicBezTo>
                  <a:pt x="464" y="766"/>
                  <a:pt x="422" y="787"/>
                  <a:pt x="378" y="808"/>
                </a:cubicBezTo>
                <a:cubicBezTo>
                  <a:pt x="356" y="819"/>
                  <a:pt x="334" y="830"/>
                  <a:pt x="312" y="841"/>
                </a:cubicBezTo>
                <a:cubicBezTo>
                  <a:pt x="304" y="845"/>
                  <a:pt x="296" y="849"/>
                  <a:pt x="288" y="853"/>
                </a:cubicBezTo>
                <a:cubicBezTo>
                  <a:pt x="287" y="853"/>
                  <a:pt x="286" y="853"/>
                  <a:pt x="285" y="855"/>
                </a:cubicBezTo>
                <a:cubicBezTo>
                  <a:pt x="244" y="891"/>
                  <a:pt x="203" y="927"/>
                  <a:pt x="161" y="964"/>
                </a:cubicBezTo>
                <a:cubicBezTo>
                  <a:pt x="137" y="1005"/>
                  <a:pt x="113" y="1046"/>
                  <a:pt x="88" y="1089"/>
                </a:cubicBezTo>
                <a:cubicBezTo>
                  <a:pt x="83" y="1137"/>
                  <a:pt x="78" y="1185"/>
                  <a:pt x="71" y="1235"/>
                </a:cubicBezTo>
                <a:cubicBezTo>
                  <a:pt x="87" y="1292"/>
                  <a:pt x="103" y="1349"/>
                  <a:pt x="120" y="1408"/>
                </a:cubicBezTo>
                <a:cubicBezTo>
                  <a:pt x="133" y="1456"/>
                  <a:pt x="146" y="1504"/>
                  <a:pt x="161" y="1554"/>
                </a:cubicBezTo>
                <a:cubicBezTo>
                  <a:pt x="162" y="1611"/>
                  <a:pt x="163" y="1668"/>
                  <a:pt x="164" y="1725"/>
                </a:cubicBezTo>
                <a:cubicBezTo>
                  <a:pt x="153" y="1782"/>
                  <a:pt x="142" y="1839"/>
                  <a:pt x="130" y="1897"/>
                </a:cubicBezTo>
                <a:cubicBezTo>
                  <a:pt x="108" y="1945"/>
                  <a:pt x="86" y="1993"/>
                  <a:pt x="64" y="2043"/>
                </a:cubicBezTo>
                <a:cubicBezTo>
                  <a:pt x="43" y="2092"/>
                  <a:pt x="22" y="2141"/>
                  <a:pt x="0" y="2191"/>
                </a:cubicBezTo>
                <a:cubicBezTo>
                  <a:pt x="2" y="2238"/>
                  <a:pt x="4" y="2285"/>
                  <a:pt x="8" y="2333"/>
                </a:cubicBezTo>
                <a:cubicBezTo>
                  <a:pt x="31" y="2373"/>
                  <a:pt x="54" y="2413"/>
                  <a:pt x="79" y="2455"/>
                </a:cubicBezTo>
                <a:cubicBezTo>
                  <a:pt x="120" y="2484"/>
                  <a:pt x="161" y="2513"/>
                  <a:pt x="202" y="2542"/>
                </a:cubicBezTo>
                <a:cubicBezTo>
                  <a:pt x="213" y="2543"/>
                  <a:pt x="224" y="2544"/>
                  <a:pt x="236" y="2546"/>
                </a:cubicBezTo>
                <a:cubicBezTo>
                  <a:pt x="254" y="2549"/>
                  <a:pt x="272" y="2552"/>
                  <a:pt x="292" y="2555"/>
                </a:cubicBezTo>
                <a:cubicBezTo>
                  <a:pt x="313" y="2558"/>
                  <a:pt x="334" y="2561"/>
                  <a:pt x="357" y="2564"/>
                </a:cubicBezTo>
                <a:cubicBezTo>
                  <a:pt x="379" y="2565"/>
                  <a:pt x="401" y="2566"/>
                  <a:pt x="423" y="2569"/>
                </a:cubicBezTo>
                <a:cubicBezTo>
                  <a:pt x="462" y="2573"/>
                  <a:pt x="501" y="2577"/>
                  <a:pt x="541" y="2581"/>
                </a:cubicBezTo>
                <a:cubicBezTo>
                  <a:pt x="588" y="2595"/>
                  <a:pt x="635" y="2609"/>
                  <a:pt x="682" y="2624"/>
                </a:cubicBezTo>
                <a:cubicBezTo>
                  <a:pt x="734" y="2652"/>
                  <a:pt x="786" y="2680"/>
                  <a:pt x="839" y="2709"/>
                </a:cubicBezTo>
                <a:cubicBezTo>
                  <a:pt x="894" y="2754"/>
                  <a:pt x="949" y="2799"/>
                  <a:pt x="1004" y="2846"/>
                </a:cubicBezTo>
                <a:cubicBezTo>
                  <a:pt x="1018" y="2865"/>
                  <a:pt x="1032" y="2884"/>
                  <a:pt x="1046" y="2904"/>
                </a:cubicBezTo>
                <a:cubicBezTo>
                  <a:pt x="1061" y="2924"/>
                  <a:pt x="1076" y="2944"/>
                  <a:pt x="1093" y="2966"/>
                </a:cubicBezTo>
                <a:cubicBezTo>
                  <a:pt x="1112" y="2991"/>
                  <a:pt x="1131" y="3016"/>
                  <a:pt x="1151" y="3043"/>
                </a:cubicBezTo>
                <a:cubicBezTo>
                  <a:pt x="1175" y="3078"/>
                  <a:pt x="1199" y="3113"/>
                  <a:pt x="1225" y="3149"/>
                </a:cubicBezTo>
                <a:cubicBezTo>
                  <a:pt x="1262" y="3173"/>
                  <a:pt x="1299" y="3197"/>
                  <a:pt x="1338" y="3222"/>
                </a:cubicBezTo>
                <a:cubicBezTo>
                  <a:pt x="1387" y="3227"/>
                  <a:pt x="1436" y="3232"/>
                  <a:pt x="1487" y="3239"/>
                </a:cubicBezTo>
                <a:cubicBezTo>
                  <a:pt x="1537" y="3227"/>
                  <a:pt x="1587" y="3215"/>
                  <a:pt x="1637" y="3203"/>
                </a:cubicBezTo>
                <a:cubicBezTo>
                  <a:pt x="1674" y="3176"/>
                  <a:pt x="1711" y="3149"/>
                  <a:pt x="1750" y="3122"/>
                </a:cubicBezTo>
                <a:cubicBezTo>
                  <a:pt x="1758" y="3114"/>
                  <a:pt x="1766" y="3106"/>
                  <a:pt x="1775" y="3096"/>
                </a:cubicBezTo>
                <a:cubicBezTo>
                  <a:pt x="1786" y="3085"/>
                  <a:pt x="1797" y="3074"/>
                  <a:pt x="1809" y="3063"/>
                </a:cubicBezTo>
                <a:cubicBezTo>
                  <a:pt x="1821" y="3050"/>
                  <a:pt x="1833" y="3037"/>
                  <a:pt x="1847" y="3024"/>
                </a:cubicBezTo>
                <a:cubicBezTo>
                  <a:pt x="1861" y="3011"/>
                  <a:pt x="1875" y="2998"/>
                  <a:pt x="1889" y="2984"/>
                </a:cubicBezTo>
                <a:cubicBezTo>
                  <a:pt x="1911" y="2965"/>
                  <a:pt x="1933" y="2946"/>
                  <a:pt x="1955" y="2926"/>
                </a:cubicBezTo>
                <a:cubicBezTo>
                  <a:pt x="1981" y="2911"/>
                  <a:pt x="2007" y="2896"/>
                  <a:pt x="2033" y="2880"/>
                </a:cubicBezTo>
                <a:cubicBezTo>
                  <a:pt x="2062" y="2868"/>
                  <a:pt x="2091" y="2856"/>
                  <a:pt x="2122" y="2844"/>
                </a:cubicBezTo>
                <a:cubicBezTo>
                  <a:pt x="2155" y="2836"/>
                  <a:pt x="2188" y="2828"/>
                  <a:pt x="2221" y="2818"/>
                </a:cubicBezTo>
                <a:cubicBezTo>
                  <a:pt x="2221" y="2817"/>
                  <a:pt x="2221" y="2816"/>
                  <a:pt x="2221" y="2813"/>
                </a:cubicBezTo>
                <a:cubicBezTo>
                  <a:pt x="2221" y="2810"/>
                  <a:pt x="2221" y="2807"/>
                  <a:pt x="2221" y="2804"/>
                </a:cubicBezTo>
                <a:cubicBezTo>
                  <a:pt x="2221" y="2801"/>
                  <a:pt x="2221" y="2798"/>
                  <a:pt x="2221" y="2794"/>
                </a:cubicBezTo>
                <a:cubicBezTo>
                  <a:pt x="2221" y="2793"/>
                  <a:pt x="2221" y="2792"/>
                  <a:pt x="2221" y="2790"/>
                </a:cubicBezTo>
                <a:cubicBezTo>
                  <a:pt x="2229" y="2790"/>
                  <a:pt x="2237" y="2790"/>
                  <a:pt x="2245" y="2790"/>
                </a:cubicBezTo>
                <a:cubicBezTo>
                  <a:pt x="2255" y="2790"/>
                  <a:pt x="2265" y="2790"/>
                  <a:pt x="2275" y="2790"/>
                </a:cubicBezTo>
                <a:cubicBezTo>
                  <a:pt x="2285" y="2790"/>
                  <a:pt x="2295" y="2790"/>
                  <a:pt x="2305" y="2790"/>
                </a:cubicBezTo>
                <a:cubicBezTo>
                  <a:pt x="2313" y="2790"/>
                  <a:pt x="2321" y="2790"/>
                  <a:pt x="2331" y="2790"/>
                </a:cubicBezTo>
                <a:cubicBezTo>
                  <a:pt x="2378" y="2785"/>
                  <a:pt x="2425" y="2780"/>
                  <a:pt x="2474" y="2774"/>
                </a:cubicBezTo>
                <a:cubicBezTo>
                  <a:pt x="2498" y="2772"/>
                  <a:pt x="2522" y="2770"/>
                  <a:pt x="2548" y="2766"/>
                </a:cubicBezTo>
                <a:cubicBezTo>
                  <a:pt x="2557" y="2765"/>
                  <a:pt x="2566" y="2764"/>
                  <a:pt x="2576" y="2763"/>
                </a:cubicBezTo>
                <a:cubicBezTo>
                  <a:pt x="2577" y="2763"/>
                  <a:pt x="2578" y="2763"/>
                  <a:pt x="2580" y="2763"/>
                </a:cubicBezTo>
                <a:cubicBezTo>
                  <a:pt x="2586" y="2763"/>
                  <a:pt x="2592" y="2763"/>
                  <a:pt x="2600" y="2763"/>
                </a:cubicBezTo>
                <a:cubicBezTo>
                  <a:pt x="2607" y="2763"/>
                  <a:pt x="2614" y="2763"/>
                  <a:pt x="2621" y="2763"/>
                </a:cubicBezTo>
                <a:cubicBezTo>
                  <a:pt x="2628" y="2763"/>
                  <a:pt x="2635" y="2763"/>
                  <a:pt x="2642" y="2763"/>
                </a:cubicBezTo>
                <a:cubicBezTo>
                  <a:pt x="2649" y="2763"/>
                  <a:pt x="2656" y="2763"/>
                  <a:pt x="2663" y="2763"/>
                </a:cubicBezTo>
                <a:cubicBezTo>
                  <a:pt x="2668" y="2763"/>
                  <a:pt x="2673" y="2763"/>
                  <a:pt x="2679" y="2763"/>
                </a:cubicBezTo>
                <a:cubicBezTo>
                  <a:pt x="2682" y="2763"/>
                  <a:pt x="2685" y="2763"/>
                  <a:pt x="2690" y="2763"/>
                </a:cubicBezTo>
                <a:cubicBezTo>
                  <a:pt x="2693" y="2763"/>
                  <a:pt x="2696" y="2763"/>
                  <a:pt x="2701" y="2763"/>
                </a:cubicBezTo>
                <a:cubicBezTo>
                  <a:pt x="2706" y="2763"/>
                  <a:pt x="2711" y="2763"/>
                  <a:pt x="2718" y="2763"/>
                </a:cubicBezTo>
                <a:cubicBezTo>
                  <a:pt x="2761" y="2738"/>
                  <a:pt x="2804" y="2713"/>
                  <a:pt x="2847" y="2686"/>
                </a:cubicBezTo>
                <a:cubicBezTo>
                  <a:pt x="2878" y="2654"/>
                  <a:pt x="2909" y="2622"/>
                  <a:pt x="2942" y="2590"/>
                </a:cubicBezTo>
                <a:cubicBezTo>
                  <a:pt x="2961" y="2554"/>
                  <a:pt x="2980" y="2518"/>
                  <a:pt x="3001" y="2482"/>
                </a:cubicBezTo>
                <a:cubicBezTo>
                  <a:pt x="3008" y="2447"/>
                  <a:pt x="3015" y="2412"/>
                  <a:pt x="3022" y="2375"/>
                </a:cubicBezTo>
                <a:cubicBezTo>
                  <a:pt x="3027" y="2310"/>
                  <a:pt x="3032" y="2245"/>
                  <a:pt x="3038" y="2180"/>
                </a:cubicBezTo>
                <a:cubicBezTo>
                  <a:pt x="3062" y="2134"/>
                  <a:pt x="3086" y="2088"/>
                  <a:pt x="3111" y="2040"/>
                </a:cubicBezTo>
                <a:cubicBezTo>
                  <a:pt x="3146" y="2006"/>
                  <a:pt x="3181" y="1972"/>
                  <a:pt x="3216" y="1936"/>
                </a:cubicBezTo>
                <a:cubicBezTo>
                  <a:pt x="3253" y="1908"/>
                  <a:pt x="3290" y="1880"/>
                  <a:pt x="3327" y="1850"/>
                </a:cubicBezTo>
                <a:cubicBezTo>
                  <a:pt x="3357" y="1809"/>
                  <a:pt x="3387" y="1768"/>
                  <a:pt x="3419" y="1725"/>
                </a:cubicBezTo>
                <a:cubicBezTo>
                  <a:pt x="3428" y="1676"/>
                  <a:pt x="3437" y="1627"/>
                  <a:pt x="3447" y="1577"/>
                </a:cubicBezTo>
                <a:cubicBezTo>
                  <a:pt x="3434" y="1530"/>
                  <a:pt x="3421" y="1483"/>
                  <a:pt x="3407" y="1434"/>
                </a:cubicBezTo>
                <a:cubicBezTo>
                  <a:pt x="3371" y="1398"/>
                  <a:pt x="3335" y="1362"/>
                  <a:pt x="3298" y="1325"/>
                </a:cubicBezTo>
                <a:close/>
                <a:moveTo>
                  <a:pt x="1788" y="2817"/>
                </a:moveTo>
                <a:cubicBezTo>
                  <a:pt x="1678" y="2823"/>
                  <a:pt x="1568" y="2829"/>
                  <a:pt x="1458" y="2837"/>
                </a:cubicBezTo>
                <a:cubicBezTo>
                  <a:pt x="1354" y="2814"/>
                  <a:pt x="1250" y="2791"/>
                  <a:pt x="1145" y="2767"/>
                </a:cubicBezTo>
                <a:cubicBezTo>
                  <a:pt x="1051" y="2718"/>
                  <a:pt x="957" y="2669"/>
                  <a:pt x="862" y="2619"/>
                </a:cubicBezTo>
                <a:cubicBezTo>
                  <a:pt x="783" y="2548"/>
                  <a:pt x="704" y="2477"/>
                  <a:pt x="625" y="2405"/>
                </a:cubicBezTo>
                <a:cubicBezTo>
                  <a:pt x="567" y="2315"/>
                  <a:pt x="509" y="2225"/>
                  <a:pt x="449" y="2134"/>
                </a:cubicBezTo>
                <a:cubicBezTo>
                  <a:pt x="417" y="2030"/>
                  <a:pt x="385" y="1926"/>
                  <a:pt x="351" y="1821"/>
                </a:cubicBezTo>
                <a:cubicBezTo>
                  <a:pt x="348" y="1708"/>
                  <a:pt x="345" y="1595"/>
                  <a:pt x="340" y="1482"/>
                </a:cubicBezTo>
                <a:cubicBezTo>
                  <a:pt x="364" y="1377"/>
                  <a:pt x="388" y="1272"/>
                  <a:pt x="413" y="1165"/>
                </a:cubicBezTo>
                <a:cubicBezTo>
                  <a:pt x="462" y="1072"/>
                  <a:pt x="511" y="979"/>
                  <a:pt x="561" y="884"/>
                </a:cubicBezTo>
                <a:cubicBezTo>
                  <a:pt x="632" y="807"/>
                  <a:pt x="703" y="730"/>
                  <a:pt x="776" y="651"/>
                </a:cubicBezTo>
                <a:cubicBezTo>
                  <a:pt x="867" y="594"/>
                  <a:pt x="958" y="537"/>
                  <a:pt x="1049" y="480"/>
                </a:cubicBezTo>
                <a:cubicBezTo>
                  <a:pt x="1157" y="448"/>
                  <a:pt x="1265" y="416"/>
                  <a:pt x="1373" y="383"/>
                </a:cubicBezTo>
                <a:cubicBezTo>
                  <a:pt x="1482" y="380"/>
                  <a:pt x="1591" y="377"/>
                  <a:pt x="1700" y="372"/>
                </a:cubicBezTo>
                <a:cubicBezTo>
                  <a:pt x="1803" y="396"/>
                  <a:pt x="1906" y="420"/>
                  <a:pt x="2010" y="444"/>
                </a:cubicBezTo>
                <a:cubicBezTo>
                  <a:pt x="2103" y="492"/>
                  <a:pt x="2196" y="540"/>
                  <a:pt x="2289" y="590"/>
                </a:cubicBezTo>
                <a:cubicBezTo>
                  <a:pt x="2367" y="660"/>
                  <a:pt x="2445" y="730"/>
                  <a:pt x="2524" y="801"/>
                </a:cubicBezTo>
                <a:cubicBezTo>
                  <a:pt x="2583" y="889"/>
                  <a:pt x="2642" y="977"/>
                  <a:pt x="2702" y="1067"/>
                </a:cubicBezTo>
                <a:cubicBezTo>
                  <a:pt x="2738" y="1171"/>
                  <a:pt x="2774" y="1275"/>
                  <a:pt x="2811" y="1379"/>
                </a:cubicBezTo>
                <a:cubicBezTo>
                  <a:pt x="2813" y="1492"/>
                  <a:pt x="2815" y="1605"/>
                  <a:pt x="2819" y="1718"/>
                </a:cubicBezTo>
                <a:cubicBezTo>
                  <a:pt x="2794" y="1823"/>
                  <a:pt x="2769" y="1928"/>
                  <a:pt x="2742" y="2034"/>
                </a:cubicBezTo>
                <a:cubicBezTo>
                  <a:pt x="2692" y="2127"/>
                  <a:pt x="2642" y="2220"/>
                  <a:pt x="2590" y="2315"/>
                </a:cubicBezTo>
                <a:cubicBezTo>
                  <a:pt x="2518" y="2392"/>
                  <a:pt x="2446" y="2469"/>
                  <a:pt x="2373" y="2548"/>
                </a:cubicBezTo>
                <a:cubicBezTo>
                  <a:pt x="2283" y="2605"/>
                  <a:pt x="2193" y="2662"/>
                  <a:pt x="2102" y="2719"/>
                </a:cubicBezTo>
                <a:cubicBezTo>
                  <a:pt x="1998" y="2751"/>
                  <a:pt x="1894" y="2783"/>
                  <a:pt x="1788" y="2817"/>
                </a:cubicBezTo>
                <a:close/>
              </a:path>
            </a:pathLst>
          </a:custGeom>
          <a:solidFill>
            <a:srgbClr val="ff630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Freeform 6"/>
          <p:cNvSpPr/>
          <p:nvPr/>
        </p:nvSpPr>
        <p:spPr>
          <a:xfrm>
            <a:off x="326880" y="5389560"/>
            <a:ext cx="1633680" cy="130500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883" h="890">
                <a:moveTo>
                  <a:pt x="224" y="0"/>
                </a:moveTo>
                <a:lnTo>
                  <a:pt x="247" y="0"/>
                </a:lnTo>
                <a:lnTo>
                  <a:pt x="259" y="0"/>
                </a:lnTo>
                <a:lnTo>
                  <a:pt x="265" y="0"/>
                </a:lnTo>
                <a:lnTo>
                  <a:pt x="271" y="0"/>
                </a:lnTo>
                <a:lnTo>
                  <a:pt x="277" y="0"/>
                </a:lnTo>
                <a:lnTo>
                  <a:pt x="283" y="0"/>
                </a:lnTo>
                <a:lnTo>
                  <a:pt x="288" y="6"/>
                </a:lnTo>
                <a:lnTo>
                  <a:pt x="294" y="6"/>
                </a:lnTo>
                <a:lnTo>
                  <a:pt x="300" y="12"/>
                </a:lnTo>
                <a:lnTo>
                  <a:pt x="300" y="23"/>
                </a:lnTo>
                <a:lnTo>
                  <a:pt x="294" y="29"/>
                </a:lnTo>
                <a:lnTo>
                  <a:pt x="294" y="35"/>
                </a:lnTo>
                <a:lnTo>
                  <a:pt x="288" y="47"/>
                </a:lnTo>
                <a:lnTo>
                  <a:pt x="288" y="53"/>
                </a:lnTo>
                <a:lnTo>
                  <a:pt x="283" y="58"/>
                </a:lnTo>
                <a:lnTo>
                  <a:pt x="277" y="58"/>
                </a:lnTo>
                <a:lnTo>
                  <a:pt x="271" y="70"/>
                </a:lnTo>
                <a:lnTo>
                  <a:pt x="265" y="76"/>
                </a:lnTo>
                <a:lnTo>
                  <a:pt x="247" y="82"/>
                </a:lnTo>
                <a:lnTo>
                  <a:pt x="235" y="88"/>
                </a:lnTo>
                <a:lnTo>
                  <a:pt x="224" y="88"/>
                </a:lnTo>
                <a:lnTo>
                  <a:pt x="206" y="99"/>
                </a:lnTo>
                <a:lnTo>
                  <a:pt x="188" y="117"/>
                </a:lnTo>
                <a:lnTo>
                  <a:pt x="177" y="146"/>
                </a:lnTo>
                <a:lnTo>
                  <a:pt x="188" y="175"/>
                </a:lnTo>
                <a:lnTo>
                  <a:pt x="206" y="199"/>
                </a:lnTo>
                <a:lnTo>
                  <a:pt x="241" y="211"/>
                </a:lnTo>
                <a:lnTo>
                  <a:pt x="283" y="216"/>
                </a:lnTo>
                <a:lnTo>
                  <a:pt x="324" y="222"/>
                </a:lnTo>
                <a:lnTo>
                  <a:pt x="377" y="216"/>
                </a:lnTo>
                <a:lnTo>
                  <a:pt x="418" y="211"/>
                </a:lnTo>
                <a:lnTo>
                  <a:pt x="453" y="199"/>
                </a:lnTo>
                <a:lnTo>
                  <a:pt x="471" y="175"/>
                </a:lnTo>
                <a:lnTo>
                  <a:pt x="483" y="146"/>
                </a:lnTo>
                <a:lnTo>
                  <a:pt x="471" y="117"/>
                </a:lnTo>
                <a:lnTo>
                  <a:pt x="453" y="99"/>
                </a:lnTo>
                <a:lnTo>
                  <a:pt x="436" y="88"/>
                </a:lnTo>
                <a:lnTo>
                  <a:pt x="424" y="88"/>
                </a:lnTo>
                <a:lnTo>
                  <a:pt x="406" y="82"/>
                </a:lnTo>
                <a:lnTo>
                  <a:pt x="394" y="76"/>
                </a:lnTo>
                <a:lnTo>
                  <a:pt x="389" y="70"/>
                </a:lnTo>
                <a:lnTo>
                  <a:pt x="383" y="58"/>
                </a:lnTo>
                <a:lnTo>
                  <a:pt x="377" y="58"/>
                </a:lnTo>
                <a:lnTo>
                  <a:pt x="371" y="53"/>
                </a:lnTo>
                <a:lnTo>
                  <a:pt x="365" y="47"/>
                </a:lnTo>
                <a:lnTo>
                  <a:pt x="365" y="35"/>
                </a:lnTo>
                <a:lnTo>
                  <a:pt x="359" y="29"/>
                </a:lnTo>
                <a:lnTo>
                  <a:pt x="359" y="23"/>
                </a:lnTo>
                <a:lnTo>
                  <a:pt x="359" y="12"/>
                </a:lnTo>
                <a:lnTo>
                  <a:pt x="365" y="6"/>
                </a:lnTo>
                <a:lnTo>
                  <a:pt x="371" y="6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4" y="0"/>
                </a:lnTo>
                <a:lnTo>
                  <a:pt x="418" y="0"/>
                </a:lnTo>
                <a:lnTo>
                  <a:pt x="430" y="0"/>
                </a:lnTo>
                <a:lnTo>
                  <a:pt x="436" y="0"/>
                </a:lnTo>
                <a:lnTo>
                  <a:pt x="518" y="0"/>
                </a:lnTo>
                <a:lnTo>
                  <a:pt x="571" y="0"/>
                </a:lnTo>
                <a:lnTo>
                  <a:pt x="601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6"/>
                </a:lnTo>
                <a:lnTo>
                  <a:pt x="648" y="12"/>
                </a:lnTo>
                <a:lnTo>
                  <a:pt x="653" y="23"/>
                </a:lnTo>
                <a:lnTo>
                  <a:pt x="659" y="35"/>
                </a:lnTo>
                <a:lnTo>
                  <a:pt x="659" y="117"/>
                </a:lnTo>
                <a:lnTo>
                  <a:pt x="665" y="170"/>
                </a:lnTo>
                <a:lnTo>
                  <a:pt x="665" y="205"/>
                </a:lnTo>
                <a:lnTo>
                  <a:pt x="665" y="216"/>
                </a:lnTo>
                <a:lnTo>
                  <a:pt x="665" y="228"/>
                </a:lnTo>
                <a:lnTo>
                  <a:pt x="665" y="252"/>
                </a:lnTo>
                <a:lnTo>
                  <a:pt x="665" y="269"/>
                </a:lnTo>
                <a:lnTo>
                  <a:pt x="665" y="275"/>
                </a:lnTo>
                <a:lnTo>
                  <a:pt x="665" y="281"/>
                </a:lnTo>
                <a:lnTo>
                  <a:pt x="659" y="287"/>
                </a:lnTo>
                <a:lnTo>
                  <a:pt x="665" y="293"/>
                </a:lnTo>
                <a:lnTo>
                  <a:pt x="665" y="298"/>
                </a:lnTo>
                <a:lnTo>
                  <a:pt x="671" y="298"/>
                </a:lnTo>
                <a:lnTo>
                  <a:pt x="677" y="304"/>
                </a:lnTo>
                <a:lnTo>
                  <a:pt x="683" y="304"/>
                </a:lnTo>
                <a:lnTo>
                  <a:pt x="689" y="304"/>
                </a:lnTo>
                <a:lnTo>
                  <a:pt x="695" y="298"/>
                </a:lnTo>
                <a:lnTo>
                  <a:pt x="701" y="298"/>
                </a:lnTo>
                <a:lnTo>
                  <a:pt x="712" y="293"/>
                </a:lnTo>
                <a:lnTo>
                  <a:pt x="712" y="287"/>
                </a:lnTo>
                <a:lnTo>
                  <a:pt x="718" y="281"/>
                </a:lnTo>
                <a:lnTo>
                  <a:pt x="730" y="275"/>
                </a:lnTo>
                <a:lnTo>
                  <a:pt x="736" y="269"/>
                </a:lnTo>
                <a:lnTo>
                  <a:pt x="742" y="257"/>
                </a:lnTo>
                <a:lnTo>
                  <a:pt x="742" y="240"/>
                </a:lnTo>
                <a:lnTo>
                  <a:pt x="748" y="228"/>
                </a:lnTo>
                <a:lnTo>
                  <a:pt x="759" y="211"/>
                </a:lnTo>
                <a:lnTo>
                  <a:pt x="777" y="193"/>
                </a:lnTo>
                <a:lnTo>
                  <a:pt x="807" y="181"/>
                </a:lnTo>
                <a:lnTo>
                  <a:pt x="836" y="193"/>
                </a:lnTo>
                <a:lnTo>
                  <a:pt x="860" y="211"/>
                </a:lnTo>
                <a:lnTo>
                  <a:pt x="871" y="246"/>
                </a:lnTo>
                <a:lnTo>
                  <a:pt x="883" y="287"/>
                </a:lnTo>
                <a:lnTo>
                  <a:pt x="883" y="339"/>
                </a:lnTo>
                <a:lnTo>
                  <a:pt x="883" y="380"/>
                </a:lnTo>
                <a:lnTo>
                  <a:pt x="871" y="427"/>
                </a:lnTo>
                <a:lnTo>
                  <a:pt x="860" y="457"/>
                </a:lnTo>
                <a:lnTo>
                  <a:pt x="836" y="480"/>
                </a:lnTo>
                <a:lnTo>
                  <a:pt x="807" y="492"/>
                </a:lnTo>
                <a:lnTo>
                  <a:pt x="777" y="480"/>
                </a:lnTo>
                <a:lnTo>
                  <a:pt x="759" y="457"/>
                </a:lnTo>
                <a:lnTo>
                  <a:pt x="748" y="439"/>
                </a:lnTo>
                <a:lnTo>
                  <a:pt x="742" y="427"/>
                </a:lnTo>
                <a:lnTo>
                  <a:pt x="742" y="416"/>
                </a:lnTo>
                <a:lnTo>
                  <a:pt x="736" y="404"/>
                </a:lnTo>
                <a:lnTo>
                  <a:pt x="730" y="392"/>
                </a:lnTo>
                <a:lnTo>
                  <a:pt x="718" y="386"/>
                </a:lnTo>
                <a:lnTo>
                  <a:pt x="712" y="380"/>
                </a:lnTo>
                <a:lnTo>
                  <a:pt x="712" y="375"/>
                </a:lnTo>
                <a:lnTo>
                  <a:pt x="701" y="369"/>
                </a:lnTo>
                <a:lnTo>
                  <a:pt x="695" y="369"/>
                </a:lnTo>
                <a:lnTo>
                  <a:pt x="689" y="369"/>
                </a:lnTo>
                <a:lnTo>
                  <a:pt x="683" y="363"/>
                </a:lnTo>
                <a:lnTo>
                  <a:pt x="677" y="363"/>
                </a:lnTo>
                <a:lnTo>
                  <a:pt x="671" y="369"/>
                </a:lnTo>
                <a:lnTo>
                  <a:pt x="665" y="369"/>
                </a:lnTo>
                <a:lnTo>
                  <a:pt x="665" y="375"/>
                </a:lnTo>
                <a:lnTo>
                  <a:pt x="659" y="380"/>
                </a:lnTo>
                <a:lnTo>
                  <a:pt x="659" y="386"/>
                </a:lnTo>
                <a:lnTo>
                  <a:pt x="665" y="392"/>
                </a:lnTo>
                <a:lnTo>
                  <a:pt x="665" y="398"/>
                </a:lnTo>
                <a:lnTo>
                  <a:pt x="665" y="421"/>
                </a:lnTo>
                <a:lnTo>
                  <a:pt x="665" y="433"/>
                </a:lnTo>
                <a:lnTo>
                  <a:pt x="665" y="439"/>
                </a:lnTo>
                <a:lnTo>
                  <a:pt x="659" y="521"/>
                </a:lnTo>
                <a:lnTo>
                  <a:pt x="659" y="579"/>
                </a:lnTo>
                <a:lnTo>
                  <a:pt x="659" y="615"/>
                </a:lnTo>
                <a:lnTo>
                  <a:pt x="659" y="626"/>
                </a:lnTo>
                <a:lnTo>
                  <a:pt x="659" y="638"/>
                </a:lnTo>
                <a:lnTo>
                  <a:pt x="653" y="650"/>
                </a:lnTo>
                <a:lnTo>
                  <a:pt x="648" y="656"/>
                </a:lnTo>
                <a:lnTo>
                  <a:pt x="642" y="667"/>
                </a:lnTo>
                <a:lnTo>
                  <a:pt x="630" y="667"/>
                </a:lnTo>
                <a:lnTo>
                  <a:pt x="548" y="667"/>
                </a:lnTo>
                <a:lnTo>
                  <a:pt x="495" y="667"/>
                </a:lnTo>
                <a:lnTo>
                  <a:pt x="459" y="667"/>
                </a:lnTo>
                <a:lnTo>
                  <a:pt x="442" y="667"/>
                </a:lnTo>
                <a:lnTo>
                  <a:pt x="436" y="667"/>
                </a:lnTo>
                <a:lnTo>
                  <a:pt x="412" y="667"/>
                </a:lnTo>
                <a:lnTo>
                  <a:pt x="400" y="667"/>
                </a:lnTo>
                <a:lnTo>
                  <a:pt x="394" y="667"/>
                </a:lnTo>
                <a:lnTo>
                  <a:pt x="383" y="667"/>
                </a:lnTo>
                <a:lnTo>
                  <a:pt x="377" y="667"/>
                </a:lnTo>
                <a:lnTo>
                  <a:pt x="371" y="667"/>
                </a:lnTo>
                <a:lnTo>
                  <a:pt x="371" y="673"/>
                </a:lnTo>
                <a:lnTo>
                  <a:pt x="365" y="673"/>
                </a:lnTo>
                <a:lnTo>
                  <a:pt x="359" y="679"/>
                </a:lnTo>
                <a:lnTo>
                  <a:pt x="359" y="691"/>
                </a:lnTo>
                <a:lnTo>
                  <a:pt x="359" y="697"/>
                </a:lnTo>
                <a:lnTo>
                  <a:pt x="365" y="702"/>
                </a:lnTo>
                <a:lnTo>
                  <a:pt x="365" y="708"/>
                </a:lnTo>
                <a:lnTo>
                  <a:pt x="371" y="714"/>
                </a:lnTo>
                <a:lnTo>
                  <a:pt x="377" y="720"/>
                </a:lnTo>
                <a:lnTo>
                  <a:pt x="383" y="726"/>
                </a:lnTo>
                <a:lnTo>
                  <a:pt x="389" y="738"/>
                </a:lnTo>
                <a:lnTo>
                  <a:pt x="394" y="743"/>
                </a:lnTo>
                <a:lnTo>
                  <a:pt x="406" y="749"/>
                </a:lnTo>
                <a:lnTo>
                  <a:pt x="424" y="755"/>
                </a:lnTo>
                <a:lnTo>
                  <a:pt x="436" y="755"/>
                </a:lnTo>
                <a:lnTo>
                  <a:pt x="453" y="767"/>
                </a:lnTo>
                <a:lnTo>
                  <a:pt x="471" y="784"/>
                </a:lnTo>
                <a:lnTo>
                  <a:pt x="483" y="814"/>
                </a:lnTo>
                <a:lnTo>
                  <a:pt x="471" y="843"/>
                </a:lnTo>
                <a:lnTo>
                  <a:pt x="453" y="860"/>
                </a:lnTo>
                <a:lnTo>
                  <a:pt x="418" y="878"/>
                </a:lnTo>
                <a:lnTo>
                  <a:pt x="377" y="884"/>
                </a:lnTo>
                <a:lnTo>
                  <a:pt x="324" y="890"/>
                </a:lnTo>
                <a:lnTo>
                  <a:pt x="283" y="884"/>
                </a:lnTo>
                <a:lnTo>
                  <a:pt x="241" y="878"/>
                </a:lnTo>
                <a:lnTo>
                  <a:pt x="206" y="860"/>
                </a:lnTo>
                <a:lnTo>
                  <a:pt x="188" y="843"/>
                </a:lnTo>
                <a:lnTo>
                  <a:pt x="177" y="814"/>
                </a:lnTo>
                <a:lnTo>
                  <a:pt x="188" y="784"/>
                </a:lnTo>
                <a:lnTo>
                  <a:pt x="206" y="767"/>
                </a:lnTo>
                <a:lnTo>
                  <a:pt x="224" y="755"/>
                </a:lnTo>
                <a:lnTo>
                  <a:pt x="235" y="755"/>
                </a:lnTo>
                <a:lnTo>
                  <a:pt x="247" y="749"/>
                </a:lnTo>
                <a:lnTo>
                  <a:pt x="265" y="743"/>
                </a:lnTo>
                <a:lnTo>
                  <a:pt x="271" y="738"/>
                </a:lnTo>
                <a:lnTo>
                  <a:pt x="277" y="726"/>
                </a:lnTo>
                <a:lnTo>
                  <a:pt x="283" y="720"/>
                </a:lnTo>
                <a:lnTo>
                  <a:pt x="288" y="714"/>
                </a:lnTo>
                <a:lnTo>
                  <a:pt x="288" y="708"/>
                </a:lnTo>
                <a:lnTo>
                  <a:pt x="294" y="702"/>
                </a:lnTo>
                <a:lnTo>
                  <a:pt x="294" y="697"/>
                </a:lnTo>
                <a:lnTo>
                  <a:pt x="300" y="691"/>
                </a:lnTo>
                <a:lnTo>
                  <a:pt x="300" y="679"/>
                </a:lnTo>
                <a:lnTo>
                  <a:pt x="294" y="673"/>
                </a:lnTo>
                <a:lnTo>
                  <a:pt x="288" y="673"/>
                </a:lnTo>
                <a:lnTo>
                  <a:pt x="288" y="667"/>
                </a:lnTo>
                <a:lnTo>
                  <a:pt x="283" y="667"/>
                </a:lnTo>
                <a:lnTo>
                  <a:pt x="277" y="667"/>
                </a:lnTo>
                <a:lnTo>
                  <a:pt x="271" y="667"/>
                </a:lnTo>
                <a:lnTo>
                  <a:pt x="265" y="667"/>
                </a:lnTo>
                <a:lnTo>
                  <a:pt x="241" y="667"/>
                </a:lnTo>
                <a:lnTo>
                  <a:pt x="230" y="667"/>
                </a:lnTo>
                <a:lnTo>
                  <a:pt x="224" y="667"/>
                </a:lnTo>
                <a:lnTo>
                  <a:pt x="141" y="667"/>
                </a:lnTo>
                <a:lnTo>
                  <a:pt x="88" y="667"/>
                </a:lnTo>
                <a:lnTo>
                  <a:pt x="53" y="667"/>
                </a:lnTo>
                <a:lnTo>
                  <a:pt x="35" y="667"/>
                </a:lnTo>
                <a:lnTo>
                  <a:pt x="29" y="667"/>
                </a:lnTo>
                <a:lnTo>
                  <a:pt x="18" y="667"/>
                </a:lnTo>
                <a:lnTo>
                  <a:pt x="6" y="656"/>
                </a:lnTo>
                <a:lnTo>
                  <a:pt x="0" y="650"/>
                </a:lnTo>
                <a:lnTo>
                  <a:pt x="0" y="638"/>
                </a:lnTo>
                <a:lnTo>
                  <a:pt x="0" y="556"/>
                </a:lnTo>
                <a:lnTo>
                  <a:pt x="0" y="497"/>
                </a:lnTo>
                <a:lnTo>
                  <a:pt x="0" y="462"/>
                </a:lnTo>
                <a:lnTo>
                  <a:pt x="0" y="445"/>
                </a:lnTo>
                <a:lnTo>
                  <a:pt x="0" y="439"/>
                </a:lnTo>
                <a:lnTo>
                  <a:pt x="0" y="416"/>
                </a:lnTo>
                <a:lnTo>
                  <a:pt x="0" y="404"/>
                </a:lnTo>
                <a:lnTo>
                  <a:pt x="0" y="398"/>
                </a:lnTo>
                <a:lnTo>
                  <a:pt x="0" y="392"/>
                </a:lnTo>
                <a:lnTo>
                  <a:pt x="0" y="386"/>
                </a:lnTo>
                <a:lnTo>
                  <a:pt x="0" y="380"/>
                </a:lnTo>
                <a:lnTo>
                  <a:pt x="0" y="375"/>
                </a:lnTo>
                <a:lnTo>
                  <a:pt x="6" y="375"/>
                </a:lnTo>
                <a:lnTo>
                  <a:pt x="6" y="369"/>
                </a:lnTo>
                <a:lnTo>
                  <a:pt x="12" y="363"/>
                </a:lnTo>
                <a:lnTo>
                  <a:pt x="18" y="363"/>
                </a:lnTo>
                <a:lnTo>
                  <a:pt x="29" y="369"/>
                </a:lnTo>
                <a:lnTo>
                  <a:pt x="35" y="369"/>
                </a:lnTo>
                <a:lnTo>
                  <a:pt x="41" y="369"/>
                </a:lnTo>
                <a:lnTo>
                  <a:pt x="47" y="375"/>
                </a:lnTo>
                <a:lnTo>
                  <a:pt x="53" y="380"/>
                </a:lnTo>
                <a:lnTo>
                  <a:pt x="59" y="386"/>
                </a:lnTo>
                <a:lnTo>
                  <a:pt x="71" y="392"/>
                </a:lnTo>
                <a:lnTo>
                  <a:pt x="76" y="404"/>
                </a:lnTo>
                <a:lnTo>
                  <a:pt x="76" y="416"/>
                </a:lnTo>
                <a:lnTo>
                  <a:pt x="88" y="427"/>
                </a:lnTo>
                <a:lnTo>
                  <a:pt x="88" y="439"/>
                </a:lnTo>
                <a:lnTo>
                  <a:pt x="100" y="457"/>
                </a:lnTo>
                <a:lnTo>
                  <a:pt x="118" y="480"/>
                </a:lnTo>
                <a:lnTo>
                  <a:pt x="147" y="492"/>
                </a:lnTo>
                <a:lnTo>
                  <a:pt x="177" y="480"/>
                </a:lnTo>
                <a:lnTo>
                  <a:pt x="194" y="457"/>
                </a:lnTo>
                <a:lnTo>
                  <a:pt x="212" y="427"/>
                </a:lnTo>
                <a:lnTo>
                  <a:pt x="218" y="380"/>
                </a:lnTo>
                <a:lnTo>
                  <a:pt x="224" y="339"/>
                </a:lnTo>
                <a:lnTo>
                  <a:pt x="218" y="287"/>
                </a:lnTo>
                <a:lnTo>
                  <a:pt x="212" y="246"/>
                </a:lnTo>
                <a:lnTo>
                  <a:pt x="194" y="211"/>
                </a:lnTo>
                <a:lnTo>
                  <a:pt x="177" y="193"/>
                </a:lnTo>
                <a:lnTo>
                  <a:pt x="147" y="181"/>
                </a:lnTo>
                <a:lnTo>
                  <a:pt x="118" y="193"/>
                </a:lnTo>
                <a:lnTo>
                  <a:pt x="100" y="211"/>
                </a:lnTo>
                <a:lnTo>
                  <a:pt x="88" y="228"/>
                </a:lnTo>
                <a:lnTo>
                  <a:pt x="88" y="240"/>
                </a:lnTo>
                <a:lnTo>
                  <a:pt x="76" y="257"/>
                </a:lnTo>
                <a:lnTo>
                  <a:pt x="76" y="269"/>
                </a:lnTo>
                <a:lnTo>
                  <a:pt x="71" y="275"/>
                </a:lnTo>
                <a:lnTo>
                  <a:pt x="59" y="281"/>
                </a:lnTo>
                <a:lnTo>
                  <a:pt x="53" y="287"/>
                </a:lnTo>
                <a:lnTo>
                  <a:pt x="47" y="293"/>
                </a:lnTo>
                <a:lnTo>
                  <a:pt x="41" y="298"/>
                </a:lnTo>
                <a:lnTo>
                  <a:pt x="35" y="298"/>
                </a:lnTo>
                <a:lnTo>
                  <a:pt x="29" y="304"/>
                </a:lnTo>
                <a:lnTo>
                  <a:pt x="18" y="304"/>
                </a:lnTo>
                <a:lnTo>
                  <a:pt x="12" y="304"/>
                </a:lnTo>
                <a:lnTo>
                  <a:pt x="6" y="298"/>
                </a:lnTo>
                <a:lnTo>
                  <a:pt x="0" y="293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46"/>
                </a:lnTo>
                <a:lnTo>
                  <a:pt x="0" y="234"/>
                </a:lnTo>
                <a:lnTo>
                  <a:pt x="0" y="228"/>
                </a:lnTo>
                <a:lnTo>
                  <a:pt x="0" y="146"/>
                </a:lnTo>
                <a:lnTo>
                  <a:pt x="0" y="94"/>
                </a:lnTo>
                <a:lnTo>
                  <a:pt x="0" y="58"/>
                </a:lnTo>
                <a:lnTo>
                  <a:pt x="0" y="41"/>
                </a:lnTo>
                <a:lnTo>
                  <a:pt x="0" y="35"/>
                </a:lnTo>
                <a:lnTo>
                  <a:pt x="0" y="23"/>
                </a:lnTo>
                <a:lnTo>
                  <a:pt x="6" y="12"/>
                </a:lnTo>
                <a:lnTo>
                  <a:pt x="18" y="6"/>
                </a:lnTo>
                <a:lnTo>
                  <a:pt x="29" y="0"/>
                </a:lnTo>
                <a:lnTo>
                  <a:pt x="224" y="0"/>
                </a:lnTo>
                <a:close/>
              </a:path>
            </a:pathLst>
          </a:cu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Picture 7" descr=""/>
          <p:cNvPicPr/>
          <p:nvPr/>
        </p:nvPicPr>
        <p:blipFill>
          <a:blip r:embed="rId1"/>
          <a:stretch/>
        </p:blipFill>
        <p:spPr>
          <a:xfrm>
            <a:off x="485640" y="2308320"/>
            <a:ext cx="822600" cy="795240"/>
          </a:xfrm>
          <a:prstGeom prst="rect">
            <a:avLst/>
          </a:prstGeom>
          <a:ln w="0">
            <a:noFill/>
          </a:ln>
        </p:spPr>
      </p:pic>
      <p:sp>
        <p:nvSpPr>
          <p:cNvPr id="658" name="Oval 8"/>
          <p:cNvSpPr/>
          <p:nvPr/>
        </p:nvSpPr>
        <p:spPr>
          <a:xfrm>
            <a:off x="2122560" y="2286000"/>
            <a:ext cx="815760" cy="81612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Freeform 9"/>
          <p:cNvSpPr/>
          <p:nvPr/>
        </p:nvSpPr>
        <p:spPr>
          <a:xfrm>
            <a:off x="1960560" y="2155680"/>
            <a:ext cx="1143000" cy="1143000"/>
          </a:xfrm>
          <a:custGeom>
            <a:avLst/>
            <a:gdLst>
              <a:gd name="textAreaLeft" fmla="*/ 0 w 1143000"/>
              <a:gd name="textAreaRight" fmla="*/ 1143000 w 1143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07" h="799">
                <a:moveTo>
                  <a:pt x="637" y="408"/>
                </a:moveTo>
                <a:lnTo>
                  <a:pt x="637" y="402"/>
                </a:lnTo>
                <a:lnTo>
                  <a:pt x="631" y="402"/>
                </a:lnTo>
                <a:lnTo>
                  <a:pt x="626" y="402"/>
                </a:lnTo>
                <a:lnTo>
                  <a:pt x="620" y="396"/>
                </a:lnTo>
                <a:lnTo>
                  <a:pt x="626" y="396"/>
                </a:lnTo>
                <a:lnTo>
                  <a:pt x="631" y="396"/>
                </a:lnTo>
                <a:lnTo>
                  <a:pt x="637" y="396"/>
                </a:lnTo>
                <a:lnTo>
                  <a:pt x="637" y="390"/>
                </a:lnTo>
                <a:lnTo>
                  <a:pt x="678" y="354"/>
                </a:lnTo>
                <a:lnTo>
                  <a:pt x="702" y="306"/>
                </a:lnTo>
                <a:lnTo>
                  <a:pt x="707" y="252"/>
                </a:lnTo>
                <a:lnTo>
                  <a:pt x="684" y="198"/>
                </a:lnTo>
                <a:lnTo>
                  <a:pt x="655" y="156"/>
                </a:lnTo>
                <a:lnTo>
                  <a:pt x="608" y="132"/>
                </a:lnTo>
                <a:lnTo>
                  <a:pt x="555" y="132"/>
                </a:lnTo>
                <a:lnTo>
                  <a:pt x="503" y="150"/>
                </a:lnTo>
                <a:lnTo>
                  <a:pt x="497" y="150"/>
                </a:lnTo>
                <a:lnTo>
                  <a:pt x="497" y="156"/>
                </a:lnTo>
                <a:lnTo>
                  <a:pt x="491" y="156"/>
                </a:lnTo>
                <a:lnTo>
                  <a:pt x="491" y="162"/>
                </a:lnTo>
                <a:lnTo>
                  <a:pt x="491" y="156"/>
                </a:lnTo>
                <a:lnTo>
                  <a:pt x="491" y="150"/>
                </a:lnTo>
                <a:lnTo>
                  <a:pt x="491" y="144"/>
                </a:lnTo>
                <a:lnTo>
                  <a:pt x="479" y="96"/>
                </a:lnTo>
                <a:lnTo>
                  <a:pt x="462" y="60"/>
                </a:lnTo>
                <a:lnTo>
                  <a:pt x="433" y="30"/>
                </a:lnTo>
                <a:lnTo>
                  <a:pt x="398" y="6"/>
                </a:lnTo>
                <a:lnTo>
                  <a:pt x="357" y="0"/>
                </a:lnTo>
                <a:lnTo>
                  <a:pt x="310" y="6"/>
                </a:lnTo>
                <a:lnTo>
                  <a:pt x="275" y="30"/>
                </a:lnTo>
                <a:lnTo>
                  <a:pt x="245" y="60"/>
                </a:lnTo>
                <a:lnTo>
                  <a:pt x="228" y="96"/>
                </a:lnTo>
                <a:lnTo>
                  <a:pt x="222" y="144"/>
                </a:lnTo>
                <a:lnTo>
                  <a:pt x="222" y="150"/>
                </a:lnTo>
                <a:lnTo>
                  <a:pt x="222" y="156"/>
                </a:lnTo>
                <a:lnTo>
                  <a:pt x="222" y="162"/>
                </a:lnTo>
                <a:lnTo>
                  <a:pt x="216" y="156"/>
                </a:lnTo>
                <a:lnTo>
                  <a:pt x="210" y="156"/>
                </a:lnTo>
                <a:lnTo>
                  <a:pt x="205" y="150"/>
                </a:lnTo>
                <a:lnTo>
                  <a:pt x="152" y="132"/>
                </a:lnTo>
                <a:lnTo>
                  <a:pt x="99" y="132"/>
                </a:lnTo>
                <a:lnTo>
                  <a:pt x="52" y="156"/>
                </a:lnTo>
                <a:lnTo>
                  <a:pt x="23" y="198"/>
                </a:lnTo>
                <a:lnTo>
                  <a:pt x="0" y="252"/>
                </a:lnTo>
                <a:lnTo>
                  <a:pt x="6" y="306"/>
                </a:lnTo>
                <a:lnTo>
                  <a:pt x="29" y="354"/>
                </a:lnTo>
                <a:lnTo>
                  <a:pt x="70" y="390"/>
                </a:lnTo>
                <a:lnTo>
                  <a:pt x="70" y="396"/>
                </a:lnTo>
                <a:lnTo>
                  <a:pt x="76" y="396"/>
                </a:lnTo>
                <a:lnTo>
                  <a:pt x="82" y="396"/>
                </a:lnTo>
                <a:lnTo>
                  <a:pt x="88" y="396"/>
                </a:lnTo>
                <a:lnTo>
                  <a:pt x="82" y="402"/>
                </a:lnTo>
                <a:lnTo>
                  <a:pt x="76" y="402"/>
                </a:lnTo>
                <a:lnTo>
                  <a:pt x="70" y="402"/>
                </a:lnTo>
                <a:lnTo>
                  <a:pt x="70" y="408"/>
                </a:lnTo>
                <a:lnTo>
                  <a:pt x="29" y="444"/>
                </a:lnTo>
                <a:lnTo>
                  <a:pt x="6" y="493"/>
                </a:lnTo>
                <a:lnTo>
                  <a:pt x="0" y="541"/>
                </a:lnTo>
                <a:lnTo>
                  <a:pt x="23" y="595"/>
                </a:lnTo>
                <a:lnTo>
                  <a:pt x="52" y="637"/>
                </a:lnTo>
                <a:lnTo>
                  <a:pt x="99" y="661"/>
                </a:lnTo>
                <a:lnTo>
                  <a:pt x="152" y="667"/>
                </a:lnTo>
                <a:lnTo>
                  <a:pt x="205" y="649"/>
                </a:lnTo>
                <a:lnTo>
                  <a:pt x="205" y="643"/>
                </a:lnTo>
                <a:lnTo>
                  <a:pt x="210" y="643"/>
                </a:lnTo>
                <a:lnTo>
                  <a:pt x="216" y="643"/>
                </a:lnTo>
                <a:lnTo>
                  <a:pt x="222" y="637"/>
                </a:lnTo>
                <a:lnTo>
                  <a:pt x="222" y="643"/>
                </a:lnTo>
                <a:lnTo>
                  <a:pt x="222" y="649"/>
                </a:lnTo>
                <a:lnTo>
                  <a:pt x="222" y="655"/>
                </a:lnTo>
                <a:lnTo>
                  <a:pt x="228" y="703"/>
                </a:lnTo>
                <a:lnTo>
                  <a:pt x="245" y="739"/>
                </a:lnTo>
                <a:lnTo>
                  <a:pt x="275" y="769"/>
                </a:lnTo>
                <a:lnTo>
                  <a:pt x="310" y="793"/>
                </a:lnTo>
                <a:lnTo>
                  <a:pt x="357" y="799"/>
                </a:lnTo>
                <a:lnTo>
                  <a:pt x="398" y="793"/>
                </a:lnTo>
                <a:lnTo>
                  <a:pt x="433" y="769"/>
                </a:lnTo>
                <a:lnTo>
                  <a:pt x="462" y="739"/>
                </a:lnTo>
                <a:lnTo>
                  <a:pt x="479" y="703"/>
                </a:lnTo>
                <a:lnTo>
                  <a:pt x="491" y="655"/>
                </a:lnTo>
                <a:lnTo>
                  <a:pt x="491" y="649"/>
                </a:lnTo>
                <a:lnTo>
                  <a:pt x="491" y="643"/>
                </a:lnTo>
                <a:lnTo>
                  <a:pt x="491" y="637"/>
                </a:lnTo>
                <a:lnTo>
                  <a:pt x="491" y="643"/>
                </a:lnTo>
                <a:lnTo>
                  <a:pt x="497" y="643"/>
                </a:lnTo>
                <a:lnTo>
                  <a:pt x="503" y="649"/>
                </a:lnTo>
                <a:lnTo>
                  <a:pt x="555" y="667"/>
                </a:lnTo>
                <a:lnTo>
                  <a:pt x="608" y="661"/>
                </a:lnTo>
                <a:lnTo>
                  <a:pt x="655" y="637"/>
                </a:lnTo>
                <a:lnTo>
                  <a:pt x="684" y="595"/>
                </a:lnTo>
                <a:lnTo>
                  <a:pt x="707" y="541"/>
                </a:lnTo>
                <a:lnTo>
                  <a:pt x="702" y="493"/>
                </a:lnTo>
                <a:lnTo>
                  <a:pt x="678" y="444"/>
                </a:lnTo>
                <a:lnTo>
                  <a:pt x="637" y="408"/>
                </a:lnTo>
                <a:close/>
                <a:moveTo>
                  <a:pt x="357" y="252"/>
                </a:moveTo>
                <a:lnTo>
                  <a:pt x="310" y="258"/>
                </a:lnTo>
                <a:lnTo>
                  <a:pt x="269" y="282"/>
                </a:lnTo>
                <a:lnTo>
                  <a:pt x="234" y="312"/>
                </a:lnTo>
                <a:lnTo>
                  <a:pt x="216" y="354"/>
                </a:lnTo>
                <a:lnTo>
                  <a:pt x="210" y="402"/>
                </a:lnTo>
                <a:lnTo>
                  <a:pt x="216" y="444"/>
                </a:lnTo>
                <a:lnTo>
                  <a:pt x="234" y="487"/>
                </a:lnTo>
                <a:lnTo>
                  <a:pt x="269" y="517"/>
                </a:lnTo>
                <a:lnTo>
                  <a:pt x="310" y="541"/>
                </a:lnTo>
                <a:lnTo>
                  <a:pt x="357" y="547"/>
                </a:lnTo>
                <a:lnTo>
                  <a:pt x="398" y="541"/>
                </a:lnTo>
                <a:lnTo>
                  <a:pt x="438" y="517"/>
                </a:lnTo>
                <a:lnTo>
                  <a:pt x="474" y="487"/>
                </a:lnTo>
                <a:lnTo>
                  <a:pt x="491" y="444"/>
                </a:lnTo>
                <a:lnTo>
                  <a:pt x="503" y="402"/>
                </a:lnTo>
                <a:lnTo>
                  <a:pt x="491" y="354"/>
                </a:lnTo>
                <a:lnTo>
                  <a:pt x="474" y="312"/>
                </a:lnTo>
                <a:lnTo>
                  <a:pt x="438" y="282"/>
                </a:lnTo>
                <a:lnTo>
                  <a:pt x="398" y="258"/>
                </a:lnTo>
                <a:lnTo>
                  <a:pt x="357" y="25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10" descr=""/>
          <p:cNvPicPr/>
          <p:nvPr/>
        </p:nvPicPr>
        <p:blipFill>
          <a:blip r:embed="rId2"/>
          <a:stretch/>
        </p:blipFill>
        <p:spPr>
          <a:xfrm>
            <a:off x="1541520" y="4330800"/>
            <a:ext cx="1722240" cy="10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816120" y="1468440"/>
            <a:ext cx="7673760" cy="47354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816120" y="654120"/>
            <a:ext cx="5878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  <a:ea typeface="DejaVu Sans"/>
              </a:rPr>
              <a:t>Formato de imagen vectori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Selec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Para cortar y crear sectore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0" y="39600"/>
            <a:ext cx="9213840" cy="68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2184480" y="0"/>
            <a:ext cx="499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Retoque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1692360" y="609480"/>
            <a:ext cx="57578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286000" y="0"/>
            <a:ext cx="472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Pintura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Historia Photoshop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84360" y="1773360"/>
          <a:ext cx="7775280" cy="4297320"/>
        </p:xfrm>
        <a:graphic>
          <a:graphicData uri="http://schemas.openxmlformats.org/drawingml/2006/table">
            <a:tbl>
              <a:tblPr/>
              <a:tblGrid>
                <a:gridCol w="792000"/>
                <a:gridCol w="1150920"/>
                <a:gridCol w="1584360"/>
                <a:gridCol w="42480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ero de 19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nio de 19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ción de los Paths permitiendo diseño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40"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tas tabladas(Tabbed Palette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(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, I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iembre de 1996 - Agosto de 19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s de ajuste (Adjustment Layers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s de letra que pueden ser editadas (en las versiones anteriores, el texto era convertido para el formato imagen ráster después de introducido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 de 1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hacer múltiplo (Multiple Undo) a través de la paleta "histórico" (History Palette), anteriormente sólo permitía 1 deshacer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del color (color Managemen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paquete del programa incluye el Adobe ImageRead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er (Extrac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guras geométricas vectorial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de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Liqu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261144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816120" y="2122560"/>
            <a:ext cx="800100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Dibujo y Texto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9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816120" y="2122560"/>
            <a:ext cx="80010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Herramientas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6500" spc="-1" strike="noStrike">
                <a:solidFill>
                  <a:srgbClr val="ffffff"/>
                </a:solidFill>
                <a:latin typeface="Impact"/>
                <a:ea typeface="Lucida Sans Unicode"/>
              </a:rPr>
              <a:t>de Notas, Medidas y Navega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4360" y="198360"/>
          <a:ext cx="7991280" cy="6035760"/>
        </p:xfrm>
        <a:graphic>
          <a:graphicData uri="http://schemas.openxmlformats.org/drawingml/2006/table">
            <a:tbl>
              <a:tblPr/>
              <a:tblGrid>
                <a:gridCol w="814320"/>
                <a:gridCol w="1035000"/>
                <a:gridCol w="1776240"/>
                <a:gridCol w="4365720"/>
              </a:tblGrid>
              <a:tr h="366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de 20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o totalmente vecto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Healing Brush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evo "motor" de pintura (painting engine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opcional "Camera RAW 1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 (8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ubre de 2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2.x" incluido de raíz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"Sombras/Iluminacione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dow/Highligh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ando corresponder/igualar a la color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 Colo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flare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grama en tiempo-real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-Time Histogram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stema para detectar automáticamente la impresión de imágenes digitalizadas de algunos tipos de papel-moneda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2 (9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gin "Camera RAW 3.x"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Objec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age Warp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t healing brush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educción del efecto de los "ojos rojos"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-Eye tool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s Correctio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rt Sharpen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o de fuga (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ishing Point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 mejorada de la memoria RAM en Macintosh de 64-bits a correr Mac OS X 10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a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dynamic range imaging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 </a:t>
                      </a:r>
                      <a:r>
                        <a:rPr b="0" i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pe Blur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3 (10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de 2007 (versión definitiva. Hubo un Beta público desde enero de 200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tros no destructiv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Zoomif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3D y Video (sólo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s en la herramienta 'Vanishing Point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84360" y="326880"/>
          <a:ext cx="7775280" cy="6218280"/>
        </p:xfrm>
        <a:graphic>
          <a:graphicData uri="http://schemas.openxmlformats.org/drawingml/2006/table">
            <a:tbl>
              <a:tblPr/>
              <a:tblGrid>
                <a:gridCol w="792000"/>
                <a:gridCol w="1008000"/>
                <a:gridCol w="1656000"/>
                <a:gridCol w="431928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afor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 de lanzamien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bios significativ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zo 27 de 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4 (11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tiembre 23 de 2008 (versión definitiva. Hubo una Beta pública desde mayo de 2008)</a:t>
                      </a:r>
                      <a:r>
                        <a:rPr b="0" lang="es-ES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[1]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calar según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rotar lienzo en tiempo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jora en las herramientas de 3d (sólo para la versión Extended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ajust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el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porte para procesadores de 64 bits sólo para Windows. Mac OS deberá esperar al CS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94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5 (12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OS, Window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ril 12 de 2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 versiones: una básica y una extendi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ásic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nulado añadido en Adobe Camera Raw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ción de objetivo automát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 de enderezamiento de image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ñeta posterior al recor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ontaminación de color para las seleccion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ramientas de selección y perfeccionamiento de máscar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leno según el conteni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ncel mezclad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ntas de cerda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mación de posición lib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Mini Bridg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obe CS Review, parte de los servicios en línea de Adobe CS Liv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gar en context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dida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 de márgenes de selección más r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3d58"/>
                </a:solidFill>
                <a:latin typeface="Arial"/>
              </a:rPr>
              <a:t>En Síntesis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  <p:pic>
        <p:nvPicPr>
          <p:cNvPr id="599" name="Picture 4" descr="vector_vs_bitmap_by_indaLone"/>
          <p:cNvPicPr/>
          <p:nvPr/>
        </p:nvPicPr>
        <p:blipFill>
          <a:blip r:embed="rId1"/>
          <a:stretch/>
        </p:blipFill>
        <p:spPr>
          <a:xfrm>
            <a:off x="279360" y="1773360"/>
            <a:ext cx="3429000" cy="25444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3703680" y="1773360"/>
            <a:ext cx="3747960" cy="2557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3"/>
          <a:stretch/>
        </p:blipFill>
        <p:spPr>
          <a:xfrm>
            <a:off x="1835280" y="4302000"/>
            <a:ext cx="3655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684360" y="1557360"/>
            <a:ext cx="8001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(picture elem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Un píxel no tiene una medida concret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no se puede decir si mide 1 mm. o 1 cm. o 1 m., simplemente es la medida de división de una retícula en celdil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-49320" y="3803760"/>
            <a:ext cx="9229680" cy="2504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íxel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Gráfica Computacional I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  <a:ea typeface="Osaka"/>
              </a:rPr>
              <a:t>E. Hamuy 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654120" y="1698480"/>
            <a:ext cx="293832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Cada píxel solamente puede ser de un color, cuando decimos que una imagen es de 256 colores, queremos decir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3591000" y="1690560"/>
            <a:ext cx="5127480" cy="3699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630360" y="5438880"/>
            <a:ext cx="7404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que cada píxel puede tomar uno de esos 256 colo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54120" y="816120"/>
            <a:ext cx="1631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66240" bIns="40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1" lang="en-US" sz="4400" spc="-1" strike="noStrike">
              <a:solidFill>
                <a:srgbClr val="003d5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9:16:30Z</dcterms:created>
  <dc:creator>ehamuy</dc:creator>
  <dc:description/>
  <dc:language>en-US</dc:language>
  <cp:lastModifiedBy>alumnosc13</cp:lastModifiedBy>
  <dcterms:modified xsi:type="dcterms:W3CDTF">2011-04-11T22:57:31Z</dcterms:modified>
  <cp:revision>11</cp:revision>
  <dc:subject/>
  <dc:title>Historia Photoshop</dc:title>
</cp:coreProperties>
</file>