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1.png" ContentType="image/png"/>
  <Override PartName="/ppt/media/image19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41.jpeg" ContentType="image/jpeg"/>
  <Override PartName="/ppt/media/image42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916280" y="573120"/>
            <a:ext cx="3025440" cy="22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2916360"/>
            <a:ext cx="5486400" cy="55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1A7C-E6BA-4F7D-B34E-E2096EE5F4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CFF2-F728-493B-8D16-A070037CBAF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D9DE-EF2F-492A-AF87-BB194BAB065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45B0-525D-4018-BA7B-E8AEB4FA6CB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FE98-D76E-45DA-A4EF-C43871EB5AB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7E28-3236-4ED8-BDED-DC3C8FF47F8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4BBE-2106-4BC7-9AE8-32BB5A59505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8902-D24D-42C8-BDA6-27FF5FEFB2B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B578-3256-4675-849D-29174C8DDDE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BF20-77B0-4B30-A575-84EB1E49125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0EDD-6EDA-4D88-AEEC-03B6D82459C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3EBC-C8A5-4598-9815-9C0C6DBCDF5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B5BB-CAE7-4F3C-A92B-B1DBE5E5C61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B545-D87C-45D5-BFD0-736305D02A4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E4AD-7449-436E-9F65-AF9A9A0C1D8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6DA5-6429-450E-9CB3-3FE9004EC44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E530-C7CF-4B21-AC92-68386A6BB6E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968C-BEA9-40B1-9645-B150BF2F2D3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8153-BB50-4BAA-944C-2FF3B4515C8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37D1-710D-4BF3-98F1-65C12758013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110C-4557-4632-9846-9C49A2B6E4C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C45F-8B52-479A-8AD7-E29BD695DB8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4F84-F812-44CF-B56E-11FF8FBE8E7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05BE-E8F0-4731-8E7A-B27D2EAA2FE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BDDF-0DD9-421A-8499-05642A0F41D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5FDD-8CB6-4105-A0B4-F01B86124B0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E8E1-5A5E-45B3-9FA3-85F6D0747A8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3F13-9120-403D-A86B-3DF7944426A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794C-E7BB-4870-A4E6-40BBF68CE26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23ED-CD2E-4854-89B0-AAFE7B9D9D0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ECD5-BA9E-47C3-AFAA-A1754E8D1ED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2CAF-868E-49DF-AE49-747A4DF9CAB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B07C-2078-44B3-89C6-46CE41164CC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ECCC-DAC1-45D4-9845-BC0BFE92B8E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D7D8-581F-46F0-BA76-DED017C2760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179F-19A9-484D-BAD8-F81FA94F5F1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E6A9-E130-44B3-B39F-EC215527B26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5F12-8BC4-43CD-ACE3-787FB0022DF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40F2-A899-47D5-B997-FC953BEBE01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AC3A-3B78-4451-87E6-366D6E4234B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BAC7-6ADE-4077-8881-68ABA468E8F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72CE-A22C-4BA8-B466-880B2A7D9A7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25BF-0C5E-4CD1-9893-53E862671C9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916280" y="573120"/>
            <a:ext cx="3025440" cy="22701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2916360"/>
            <a:ext cx="5486400" cy="55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nque el propósito principal de Photoshop es la edición fotográfica, este también puede ser usado para crear imágenes, efectos, gráficos y más en muy buena calidad. Aunque para determinados trabajos que requieren el uso de gráficos vectoriales es más aconsejable utilizar Adobe 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Illustrat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re las alternativas a este programa, existen algunos programas libres como 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GIMP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orientada a la edición fotográfica en general, o propietarios como 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PhotoPain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Corel, capaz de trabajar con cualquier característica de los archivos de Photoshop, y también con sus filtros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lugi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27BD-A4C4-4596-A808-339DEF84799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2916360"/>
            <a:ext cx="5486400" cy="55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FE86-B8F0-47B2-9F11-D6974AD3D4F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4FA-DEFE-4D3B-B189-CA472CC2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6F2-1B70-4D32-97CC-F33E8E0C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704A8-DF50-4E33-B76B-A1FBBA9F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0F0EE-0AFD-4D67-A413-E005D85D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BF2AA-AE88-4AB4-9483-462269C3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64C15-89B0-480B-BF12-5A76E729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85211-2520-4DDF-B434-EC3EEEC2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8CEBC-44EA-424D-8EF6-175A0AC7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2174C-1F28-4238-8F3B-E31E8942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6C006-5FD6-4AEA-B90B-3C97EE1F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0251C-CFAB-4C93-AB9D-C22FC8CF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38879-0DC7-455B-9E43-F9371C79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4E4-44BB-48A3-B638-E4BB62E8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ED6B3-3494-40A4-8EBA-22D33CE2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69C50-831A-4D3C-A144-4212451E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D8EED-72CD-4CEF-8CC1-5C48D40A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B0384-3033-4D68-A2B2-01AEA3AF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CB487-9A5C-45D9-B1A1-A176812D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25C13-B3A9-4301-89B3-EEFB6A72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1F1A9-0DDD-480C-9C69-FFC59DD9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C5A08-B285-47D6-80D0-7464F54D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7521E-78EA-4A9C-A021-3F74CC33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2632E-F550-4C27-9258-2C574B9C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448-F068-41C3-99E2-878669F3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09944-970D-4CD2-8E8D-BAC0D617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DA9C5-DB4D-4209-B84E-19E78683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D843C-63BE-4491-9096-B88F8C98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C4F10-6965-48DB-919E-8990FEE5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C8D89-7354-4CC6-A404-BDD70FB3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F0C33-CDE5-4116-80F7-F3A45824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218A3-BB86-4529-B311-2354E6CB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EF43D-9235-40F5-AF80-6143CAA8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17324-534F-47C8-81ED-3DCF902E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B1549-3684-46F2-8059-02BDF879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F392-964B-41D6-B19C-394FD57F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C104F-F038-468A-BBB4-C98F585C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6D57D-BC30-417B-9E85-67198466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87CA3-1102-4E36-8E18-AD1E9D89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4D679-5560-4784-9557-30A164AA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2BC8D-1F67-41F0-AE82-92CBF567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B6E3F-54E1-47E7-BE66-5FC25D2B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5032B-E9C8-41CD-9B1E-CB6C954A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EFBC0-62F3-4320-A7F5-E653979A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C84DB-F8EA-41FE-89CE-ECC8A91F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2473B-307E-4042-8A67-93621466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CE92-C27D-4563-8EC4-5BF23447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572EF-5CAB-4D16-86AC-7390079D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BE535-25C1-43AA-97CE-8AD4DA80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A3F90-8B22-4A52-BAB1-301CA043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0FD89-52C4-4268-B38A-A3592C01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AB893-8326-4F35-B209-EC8CE350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7598B-6F23-4A32-A649-B0D4C368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6B4F7-3358-4AA9-90EE-5B0BBB8D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0B946-8684-4035-ACC7-A0A28586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ECCC2-1AAE-40C1-80E7-F5AB1441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B0B79-484F-4C0E-BD9C-1869BA77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A0C7-571F-47ED-841D-40CFF3E7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5A3CD-4FA4-424D-A3F6-B2A3575E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45251-4968-404B-AC3E-99876B3D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CD339-559D-497A-983B-9C352348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CBC88-ABA3-4D98-8C82-DC98AB6F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B5A05-6FEB-44AC-BA75-350BD1A8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6354D-EFA0-46B2-AA1A-1D9EAAB6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8079E-9938-418F-89AB-B0885F72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4E4930-4051-4E34-9816-ABFD807F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840FA-2853-4266-86BA-1D83EB42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52209-81D1-4495-933B-73FA8469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7F20-F59B-465F-AE8F-99255718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684E6E-EE21-4334-ADC5-3CD4639C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76EED3-877B-4736-936F-BBED712A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41CEFC-F3CC-41A2-B81E-8C81F601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6BEF73-BDAB-4792-BF2E-CCB6E5EC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2D1DC-79EF-4C4B-AF88-0907C906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A2132-9782-47C0-9729-C607ADDD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6EDF9C-9EFD-407F-8472-B79A3409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A2ABE-6FBD-435E-A500-EDCD08D6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EC60C-71DB-4BBF-AF3C-6A907901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1B45-3210-4746-81C3-D08A3CD2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536B-0CD7-4585-ABEB-BF7C0EDE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D654-A1C1-47AD-BAB9-E001492A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505-3FFC-4791-89EC-D0EAE9FD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A835-E129-41D4-8AB6-77F5CEBD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21FD-B64D-4702-9773-BC50A787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FE9B-5281-498E-816F-9F423C22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8D14-E71D-4A3E-8B39-D7A0DE17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69ED-95C0-4347-BCAE-0B1BC6DE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60575-58EF-432A-B33E-82D3EDC3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33092-03D1-4A88-802B-A4071AA3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48B2-E78F-4DBA-B75A-D86719BE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59CC7-83C8-426A-BC01-730D2FE5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68A57-9159-43D5-A504-D2524829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099B-0DB3-43A6-AB3A-A7ED4BB2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1A138-ABAE-412A-B9F4-7041FDB1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79F76-8267-45EB-96CB-59D4E80D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B424-587C-48DC-8D3F-ADDED452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9CF7D-0AB7-4C0A-AB5B-C15B40B8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9166B-683C-40BB-9031-5A2669D9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E910E-574C-4DD2-A2C3-E5CC2D0D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270F5-2858-4342-82B1-72762576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AECD9-D04C-4801-9B2C-CA133556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5FE5C-2C11-486F-A4FF-AD7ED1C3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A9CBD-EFD9-4B98-A815-58F6AEEF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68E-F059-4686-B625-EF8EDC69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3FBE0-795F-407A-A46A-FE37E45E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0D8F3-6190-4CA1-A39B-44FE9A30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8D871-F998-4F41-B0A0-C6532F37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A8BBA-21D4-4772-B445-8FACF6BC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4DC75-83C7-4AE1-A8BC-719180F9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1E4E8-177F-4D6A-99DF-B6229657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21E83-6E93-4D83-A5B5-CD6E1F9D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5BE48-A99D-4F12-B73D-62A20103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ED911-9A98-4117-AE6E-EFC92CB0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E61F4-5D1A-4D0B-BDD2-DA3AF523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0C1-220E-44E4-916D-CC61F9E5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BFB51-E48E-4C41-B56B-1AE63726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8C381-2FF4-40B7-A9F1-B0FE664B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BC7B3-BDF8-4049-ADB5-863D6A89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DE6F1-E015-4BC6-9C39-7155B371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630B4-0A5F-4C80-B146-0E12BD42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7DDB7-DB38-402D-88BD-6D334083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C209B-C8E8-4190-9BC2-566E6E8F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69619-AD3C-402F-B0CB-AF72AD06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C21BA-784E-4410-9144-EF1B79E4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5304C-F4F1-4390-8726-7A1D1D37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96B-C4F7-41DA-94E4-0B46510D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0E1A6-3410-4DCE-9B3E-24D6DE09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2719B-A6FE-4BAA-905C-A66C0256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B5D2-C109-4EFC-BF39-12440FE6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BE281-A0E9-45AF-8F55-6D7BA91A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3CB7A-CDA0-4C46-B792-929A4E82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25E10-7852-4000-8686-48778323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3DB99-B1BA-4251-BFD0-39B2E3D3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504E7-795F-4A14-A99A-9D6C05DE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0A345-789A-406B-A140-951E1D89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17C93-3EA6-45CC-BF40-21CB553C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C66-BFD7-41DC-A373-8D258CA1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8EB8E-B940-4213-B86E-D77C8946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D23B9-78E2-4AC7-8B43-2D10CF2C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7A521-5787-4E31-BF8B-E0ABE8C1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5C5B2-64AE-4F85-BAA7-79C00A7F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0C2CF-4012-4B26-BEBD-45DCBC54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351D5-E1C0-4B06-B201-023B5DA6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91449-B33D-4FD2-B58A-9CFB4213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82C4A-3482-4399-B03E-EFCE7DCB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EBC4C-B7A5-4A88-B67C-B7D4239B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9FCAC-952A-4DC5-8D3D-36D473F9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6C3-047B-424D-A82F-FA1B6024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C0EEA-3711-4196-99A9-165420A9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3E564-4AD3-49F7-877F-64444E09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3C78F-7C46-4DA4-9AD3-FA5B99E5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B1523-D609-4BE2-859E-00764279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B2D7C-EB63-416F-AAE2-3E47DFCD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916A7-2031-4573-92F4-F670A293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9D5C2-FBFA-4134-B06B-D8556668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FB83B-4636-4658-B5EE-AC2AE04F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8D807-AEE0-4B90-BC50-41B2E29F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CBF5F-7B07-4BDA-A27A-FC396D18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08A-86A3-4DF2-83A4-495A4D13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C84E7-9ADE-4CD7-8C71-C0B6C384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E98D9-0131-4B52-AB9B-CE9A8F11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C67DD-424C-439C-8DCF-05159831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94FA3-1D58-4262-B7B5-9BA716F8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B2645-D652-49B6-9BEC-E767F9DB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6B33B-14B8-4A83-A0DB-5FC4E9F1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231A3-A205-4AAB-9B38-CE164C2B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8EB69-122F-4DF2-A744-5FAC2F2B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BC191-6F7A-4085-B1BD-3DF8597E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C5331-7E2E-44D1-9964-F5249380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A4A9-F12B-4E10-B8E3-6D63742D34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3E40-4E6F-45F8-B967-4578591532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EF72-AAEF-4DD8-9AFA-5964CED318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0484-FD86-478F-9FE3-D359C72C1B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056D-C638-4C02-80A3-B75DD0E238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7B66-6EFE-4AF4-BD41-CC1D722BF361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6B01-9FB1-45C6-B62C-B3290D19F4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812E-AF67-4A17-8143-E0BAFDD869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56A5-D151-4827-8492-24CB288E28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2088-7D72-4105-BC79-BB3ADD67C42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DD2C-FFE6-47BF-972F-C613FD784E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EA09-06CD-4E21-9005-3948047F61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EE4F-9239-43ED-810F-EE2396113D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3286-5C00-43AB-A56B-D94315C918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4" descr=""/>
          <p:cNvPicPr/>
          <p:nvPr/>
        </p:nvPicPr>
        <p:blipFill>
          <a:blip r:embed="rId1"/>
          <a:stretch/>
        </p:blipFill>
        <p:spPr>
          <a:xfrm>
            <a:off x="3311640" y="0"/>
            <a:ext cx="2520720" cy="229248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d58"/>
                </a:solidFill>
                <a:latin typeface="Arial Black"/>
              </a:rPr>
              <a:t>BITMAP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roducción a </a:t>
            </a:r>
            <a:r>
              <a:rPr b="1" lang="es-ES" sz="3200" spc="-1" strike="noStrike">
                <a:solidFill>
                  <a:srgbClr val="ffffff"/>
                </a:solidFill>
                <a:latin typeface="Arial Black"/>
              </a:rPr>
              <a:t>Photo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2"/>
          <p:cNvSpPr/>
          <p:nvPr/>
        </p:nvSpPr>
        <p:spPr>
          <a:xfrm>
            <a:off x="654120" y="816120"/>
            <a:ext cx="31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Picture 3" descr=""/>
          <p:cNvPicPr/>
          <p:nvPr/>
        </p:nvPicPr>
        <p:blipFill>
          <a:blip r:embed="rId1"/>
          <a:stretch/>
        </p:blipFill>
        <p:spPr>
          <a:xfrm>
            <a:off x="654120" y="1795320"/>
            <a:ext cx="7510320" cy="38754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lor Real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979560" y="2108160"/>
            <a:ext cx="751032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resolución de la imagen la expresamos en píxeles por pulgada. A mayor resolución más píxeles caben en una pulgada y menor será el tamaño de los píxe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- Resolución  &lt;  + Resol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72 dpi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150dpi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300dp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979560" y="811080"/>
            <a:ext cx="2611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Resolución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pic>
        <p:nvPicPr>
          <p:cNvPr id="620" name="Picture 88" descr=""/>
          <p:cNvPicPr/>
          <p:nvPr/>
        </p:nvPicPr>
        <p:blipFill>
          <a:blip r:embed="rId1"/>
          <a:stretch/>
        </p:blipFill>
        <p:spPr>
          <a:xfrm>
            <a:off x="1835280" y="4508640"/>
            <a:ext cx="54385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2"/>
          <p:cNvSpPr/>
          <p:nvPr/>
        </p:nvSpPr>
        <p:spPr>
          <a:xfrm>
            <a:off x="979560" y="2108160"/>
            <a:ext cx="751032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El tamaño de la imagen depende de sus dimensiones (anchura y altura) medidas en píxeles u otras unidades: puntos, picas, milímetros..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979560" y="811080"/>
            <a:ext cx="47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Tamaño de la  imagen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2"/>
          <p:cNvSpPr/>
          <p:nvPr/>
        </p:nvSpPr>
        <p:spPr>
          <a:xfrm>
            <a:off x="979560" y="2108160"/>
            <a:ext cx="751032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El tamaño del archivo de la imagen, como unidad de información digitalizada se expresa en bits. A mayor resolución, mayor tamaño del archivo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979560" y="811080"/>
            <a:ext cx="47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Tamaño del archiv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816120" y="1455840"/>
            <a:ext cx="7511760" cy="491328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3"/>
          <p:cNvSpPr/>
          <p:nvPr/>
        </p:nvSpPr>
        <p:spPr>
          <a:xfrm>
            <a:off x="979560" y="8110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Mismo tamaño de impresió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2"/>
          <p:cNvSpPr/>
          <p:nvPr/>
        </p:nvSpPr>
        <p:spPr>
          <a:xfrm>
            <a:off x="979560" y="8110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Misma cantidad de píxel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555480" y="1405080"/>
            <a:ext cx="4050000" cy="4898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"/>
          <p:cNvPicPr/>
          <p:nvPr/>
        </p:nvPicPr>
        <p:blipFill>
          <a:blip r:embed="rId2"/>
          <a:stretch/>
        </p:blipFill>
        <p:spPr>
          <a:xfrm>
            <a:off x="4653000" y="1405080"/>
            <a:ext cx="4002120" cy="48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"/>
          <p:cNvSpPr/>
          <p:nvPr/>
        </p:nvSpPr>
        <p:spPr>
          <a:xfrm>
            <a:off x="979560" y="8110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Interpolación al alz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3" descr=""/>
          <p:cNvPicPr/>
          <p:nvPr/>
        </p:nvPicPr>
        <p:blipFill>
          <a:blip r:embed="rId1"/>
          <a:stretch/>
        </p:blipFill>
        <p:spPr>
          <a:xfrm>
            <a:off x="4621320" y="1400040"/>
            <a:ext cx="4049640" cy="48992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"/>
          <p:cNvPicPr/>
          <p:nvPr/>
        </p:nvPicPr>
        <p:blipFill>
          <a:blip r:embed="rId2"/>
          <a:stretch/>
        </p:blipFill>
        <p:spPr>
          <a:xfrm>
            <a:off x="555480" y="1405080"/>
            <a:ext cx="4050000" cy="48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2"/>
          <p:cNvSpPr/>
          <p:nvPr/>
        </p:nvSpPr>
        <p:spPr>
          <a:xfrm>
            <a:off x="979560" y="8110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Interpolación a la baj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Picture 3" descr=""/>
          <p:cNvPicPr/>
          <p:nvPr/>
        </p:nvPicPr>
        <p:blipFill>
          <a:blip r:embed="rId1"/>
          <a:stretch/>
        </p:blipFill>
        <p:spPr>
          <a:xfrm>
            <a:off x="4637160" y="1415880"/>
            <a:ext cx="4081320" cy="49197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"/>
          <p:cNvPicPr/>
          <p:nvPr/>
        </p:nvPicPr>
        <p:blipFill>
          <a:blip r:embed="rId2"/>
          <a:stretch/>
        </p:blipFill>
        <p:spPr>
          <a:xfrm>
            <a:off x="555480" y="1436760"/>
            <a:ext cx="4050000" cy="49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2"/>
          <p:cNvSpPr/>
          <p:nvPr/>
        </p:nvSpPr>
        <p:spPr>
          <a:xfrm>
            <a:off x="979560" y="8128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Formatos de image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1143000" y="1627200"/>
            <a:ext cx="2286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Bitmap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3429000" y="2155680"/>
            <a:ext cx="5060880" cy="38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La imagen está formada por una matriz de píxeles. Cuando modificamos una imagen bitmap lo que estamos haciendo es cambiar el aspecto de los píxeles con programas de tratamiento de image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como GIMP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5" descr=""/>
          <p:cNvPicPr/>
          <p:nvPr/>
        </p:nvPicPr>
        <p:blipFill>
          <a:blip r:embed="rId1"/>
          <a:stretch/>
        </p:blipFill>
        <p:spPr>
          <a:xfrm>
            <a:off x="654120" y="2449440"/>
            <a:ext cx="2449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1960560" y="934920"/>
            <a:ext cx="5684760" cy="5270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3"/>
          <p:cNvSpPr/>
          <p:nvPr/>
        </p:nvSpPr>
        <p:spPr>
          <a:xfrm>
            <a:off x="816120" y="32076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Formatos de imagen bitmap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d58"/>
                </a:solidFill>
                <a:latin typeface="Arial"/>
              </a:rPr>
              <a:t>Adobe Photoshop</a:t>
            </a:r>
            <a:r>
              <a:rPr b="0" lang="es-ES" sz="4400" spc="-1" strike="noStrike">
                <a:solidFill>
                  <a:srgbClr val="003d5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Taller de Fotos) es una aplicación informática en forma de Taller de pintura y Laboratorio de fotografía que trabaja sobre un "lienzo" y que está destinado para la edición, retoque fotográfico y pintura a base de imágenes de mapa de bits (o gráficos rasterizado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un producto elaborado por la compañía de software </a:t>
            </a: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Adobe System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inicialmente para computadores </a:t>
            </a: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Appl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pero posteriormente también para plataformas PC con sistema operativo </a:t>
            </a: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Window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"/>
          <p:cNvSpPr/>
          <p:nvPr/>
        </p:nvSpPr>
        <p:spPr>
          <a:xfrm>
            <a:off x="979560" y="8128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Formatos de image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1143000" y="1627200"/>
            <a:ext cx="2286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Vectoria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3429000" y="2155680"/>
            <a:ext cx="5224320" cy="46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Se representan con trazos geométricos que están controlados por operaciones matemáticas que realiza el ordenador.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La ventaja de este tipo de imagen es que pueden reducirse o ampliarse sin ningún tipo de pérdida de calidad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Freeform 5"/>
          <p:cNvSpPr/>
          <p:nvPr/>
        </p:nvSpPr>
        <p:spPr>
          <a:xfrm>
            <a:off x="293760" y="3592440"/>
            <a:ext cx="1143000" cy="1468440"/>
          </a:xfrm>
          <a:custGeom>
            <a:avLst/>
            <a:gdLst>
              <a:gd name="textAreaLeft" fmla="*/ 218520 w 1143000"/>
              <a:gd name="textAreaRight" fmla="*/ 822240 w 1143000"/>
              <a:gd name="textAreaTop" fmla="*/ 234360 h 1468440"/>
              <a:gd name="textAreaBottom" fmla="*/ 718200 h 1468440"/>
            </a:gdLst>
            <a:ahLst/>
            <a:rect l="textAreaLeft" t="textAreaTop" r="textAreaRight" b="textAreaBottom"/>
            <a:pathLst>
              <a:path w="3448" h="4947">
                <a:moveTo>
                  <a:pt x="1944" y="2928"/>
                </a:moveTo>
                <a:cubicBezTo>
                  <a:pt x="1941" y="2982"/>
                  <a:pt x="1938" y="3036"/>
                  <a:pt x="1933" y="3090"/>
                </a:cubicBezTo>
                <a:cubicBezTo>
                  <a:pt x="1924" y="3131"/>
                  <a:pt x="1915" y="3172"/>
                  <a:pt x="1905" y="3214"/>
                </a:cubicBezTo>
                <a:cubicBezTo>
                  <a:pt x="1891" y="3246"/>
                  <a:pt x="1877" y="3278"/>
                  <a:pt x="1861" y="3312"/>
                </a:cubicBezTo>
                <a:cubicBezTo>
                  <a:pt x="1843" y="3340"/>
                  <a:pt x="1825" y="3368"/>
                  <a:pt x="1805" y="3398"/>
                </a:cubicBezTo>
                <a:cubicBezTo>
                  <a:pt x="1775" y="3437"/>
                  <a:pt x="1745" y="3476"/>
                  <a:pt x="1715" y="3517"/>
                </a:cubicBezTo>
                <a:cubicBezTo>
                  <a:pt x="1685" y="3548"/>
                  <a:pt x="1655" y="3579"/>
                  <a:pt x="1625" y="3612"/>
                </a:cubicBezTo>
                <a:cubicBezTo>
                  <a:pt x="1602" y="3646"/>
                  <a:pt x="1579" y="3680"/>
                  <a:pt x="1556" y="3716"/>
                </a:cubicBezTo>
                <a:cubicBezTo>
                  <a:pt x="1547" y="3766"/>
                  <a:pt x="1538" y="3816"/>
                  <a:pt x="1529" y="3868"/>
                </a:cubicBezTo>
                <a:cubicBezTo>
                  <a:pt x="1532" y="3914"/>
                  <a:pt x="1535" y="3960"/>
                  <a:pt x="1538" y="4008"/>
                </a:cubicBezTo>
                <a:cubicBezTo>
                  <a:pt x="1545" y="4052"/>
                  <a:pt x="1552" y="4096"/>
                  <a:pt x="1560" y="4141"/>
                </a:cubicBezTo>
                <a:cubicBezTo>
                  <a:pt x="1569" y="4183"/>
                  <a:pt x="1578" y="4225"/>
                  <a:pt x="1587" y="4268"/>
                </a:cubicBezTo>
                <a:cubicBezTo>
                  <a:pt x="1595" y="4309"/>
                  <a:pt x="1603" y="4350"/>
                  <a:pt x="1612" y="4393"/>
                </a:cubicBezTo>
                <a:cubicBezTo>
                  <a:pt x="1620" y="4412"/>
                  <a:pt x="1628" y="4431"/>
                  <a:pt x="1636" y="4451"/>
                </a:cubicBezTo>
                <a:cubicBezTo>
                  <a:pt x="1645" y="4475"/>
                  <a:pt x="1654" y="4499"/>
                  <a:pt x="1664" y="4524"/>
                </a:cubicBezTo>
                <a:cubicBezTo>
                  <a:pt x="1671" y="4545"/>
                  <a:pt x="1678" y="4566"/>
                  <a:pt x="1685" y="4587"/>
                </a:cubicBezTo>
                <a:cubicBezTo>
                  <a:pt x="1688" y="4596"/>
                  <a:pt x="1691" y="4605"/>
                  <a:pt x="1695" y="4614"/>
                </a:cubicBezTo>
                <a:cubicBezTo>
                  <a:pt x="1711" y="4604"/>
                  <a:pt x="1727" y="4594"/>
                  <a:pt x="1745" y="4582"/>
                </a:cubicBezTo>
                <a:cubicBezTo>
                  <a:pt x="1765" y="4577"/>
                  <a:pt x="1785" y="4572"/>
                  <a:pt x="1805" y="4565"/>
                </a:cubicBezTo>
                <a:cubicBezTo>
                  <a:pt x="1825" y="4563"/>
                  <a:pt x="1845" y="4561"/>
                  <a:pt x="1866" y="4559"/>
                </a:cubicBezTo>
                <a:cubicBezTo>
                  <a:pt x="1882" y="4559"/>
                  <a:pt x="1898" y="4559"/>
                  <a:pt x="1916" y="4559"/>
                </a:cubicBezTo>
                <a:cubicBezTo>
                  <a:pt x="1935" y="4560"/>
                  <a:pt x="1954" y="4561"/>
                  <a:pt x="1973" y="4563"/>
                </a:cubicBezTo>
                <a:cubicBezTo>
                  <a:pt x="1997" y="4566"/>
                  <a:pt x="2021" y="4569"/>
                  <a:pt x="2047" y="4573"/>
                </a:cubicBezTo>
                <a:cubicBezTo>
                  <a:pt x="2068" y="4576"/>
                  <a:pt x="2089" y="4579"/>
                  <a:pt x="2110" y="4582"/>
                </a:cubicBezTo>
                <a:cubicBezTo>
                  <a:pt x="2119" y="4583"/>
                  <a:pt x="2128" y="4584"/>
                  <a:pt x="2137" y="4587"/>
                </a:cubicBezTo>
                <a:cubicBezTo>
                  <a:pt x="2125" y="4570"/>
                  <a:pt x="2113" y="4553"/>
                  <a:pt x="2100" y="4536"/>
                </a:cubicBezTo>
                <a:cubicBezTo>
                  <a:pt x="2091" y="4515"/>
                  <a:pt x="2082" y="4494"/>
                  <a:pt x="2071" y="4472"/>
                </a:cubicBezTo>
                <a:cubicBezTo>
                  <a:pt x="2063" y="4449"/>
                  <a:pt x="2055" y="4426"/>
                  <a:pt x="2047" y="4403"/>
                </a:cubicBezTo>
                <a:cubicBezTo>
                  <a:pt x="2040" y="4382"/>
                  <a:pt x="2033" y="4361"/>
                  <a:pt x="2026" y="4338"/>
                </a:cubicBezTo>
                <a:cubicBezTo>
                  <a:pt x="2001" y="4275"/>
                  <a:pt x="1976" y="4212"/>
                  <a:pt x="1951" y="4149"/>
                </a:cubicBezTo>
                <a:cubicBezTo>
                  <a:pt x="1941" y="4103"/>
                  <a:pt x="1931" y="4057"/>
                  <a:pt x="1921" y="4009"/>
                </a:cubicBezTo>
                <a:cubicBezTo>
                  <a:pt x="1922" y="3975"/>
                  <a:pt x="1923" y="3941"/>
                  <a:pt x="1925" y="3905"/>
                </a:cubicBezTo>
                <a:cubicBezTo>
                  <a:pt x="1934" y="3879"/>
                  <a:pt x="1943" y="3853"/>
                  <a:pt x="1954" y="3825"/>
                </a:cubicBezTo>
                <a:cubicBezTo>
                  <a:pt x="1969" y="3803"/>
                  <a:pt x="1984" y="3781"/>
                  <a:pt x="1999" y="3757"/>
                </a:cubicBezTo>
                <a:cubicBezTo>
                  <a:pt x="2034" y="3705"/>
                  <a:pt x="2069" y="3653"/>
                  <a:pt x="2105" y="3599"/>
                </a:cubicBezTo>
                <a:cubicBezTo>
                  <a:pt x="2138" y="3549"/>
                  <a:pt x="2171" y="3499"/>
                  <a:pt x="2206" y="3449"/>
                </a:cubicBezTo>
                <a:cubicBezTo>
                  <a:pt x="2232" y="3398"/>
                  <a:pt x="2258" y="3347"/>
                  <a:pt x="2286" y="3294"/>
                </a:cubicBezTo>
                <a:cubicBezTo>
                  <a:pt x="2301" y="3237"/>
                  <a:pt x="2316" y="3180"/>
                  <a:pt x="2331" y="3122"/>
                </a:cubicBezTo>
                <a:cubicBezTo>
                  <a:pt x="2331" y="3100"/>
                  <a:pt x="2331" y="3078"/>
                  <a:pt x="2331" y="3054"/>
                </a:cubicBezTo>
                <a:cubicBezTo>
                  <a:pt x="2331" y="3029"/>
                  <a:pt x="2331" y="3004"/>
                  <a:pt x="2331" y="2979"/>
                </a:cubicBezTo>
                <a:cubicBezTo>
                  <a:pt x="2331" y="2953"/>
                  <a:pt x="2331" y="2927"/>
                  <a:pt x="2331" y="2899"/>
                </a:cubicBezTo>
                <a:cubicBezTo>
                  <a:pt x="2331" y="2872"/>
                  <a:pt x="2331" y="2845"/>
                  <a:pt x="2331" y="2817"/>
                </a:cubicBezTo>
                <a:cubicBezTo>
                  <a:pt x="2324" y="2811"/>
                  <a:pt x="2317" y="2805"/>
                  <a:pt x="2310" y="2797"/>
                </a:cubicBezTo>
                <a:cubicBezTo>
                  <a:pt x="2305" y="2791"/>
                  <a:pt x="2300" y="2785"/>
                  <a:pt x="2293" y="2779"/>
                </a:cubicBezTo>
                <a:cubicBezTo>
                  <a:pt x="2289" y="2775"/>
                  <a:pt x="2285" y="2771"/>
                  <a:pt x="2280" y="2766"/>
                </a:cubicBezTo>
                <a:cubicBezTo>
                  <a:pt x="2279" y="2765"/>
                  <a:pt x="2278" y="2764"/>
                  <a:pt x="2276" y="2762"/>
                </a:cubicBezTo>
                <a:cubicBezTo>
                  <a:pt x="2243" y="2770"/>
                  <a:pt x="2210" y="2778"/>
                  <a:pt x="2177" y="2788"/>
                </a:cubicBezTo>
                <a:cubicBezTo>
                  <a:pt x="2148" y="2800"/>
                  <a:pt x="2119" y="2812"/>
                  <a:pt x="2088" y="2824"/>
                </a:cubicBezTo>
                <a:cubicBezTo>
                  <a:pt x="2062" y="2839"/>
                  <a:pt x="2036" y="2854"/>
                  <a:pt x="2010" y="2870"/>
                </a:cubicBezTo>
                <a:cubicBezTo>
                  <a:pt x="1988" y="2889"/>
                  <a:pt x="1966" y="2908"/>
                  <a:pt x="1944" y="2928"/>
                </a:cubicBezTo>
                <a:close/>
                <a:moveTo>
                  <a:pt x="2635" y="2707"/>
                </a:moveTo>
                <a:cubicBezTo>
                  <a:pt x="2587" y="2712"/>
                  <a:pt x="2539" y="2717"/>
                  <a:pt x="2491" y="2722"/>
                </a:cubicBezTo>
                <a:cubicBezTo>
                  <a:pt x="2467" y="2724"/>
                  <a:pt x="2443" y="2726"/>
                  <a:pt x="2417" y="2730"/>
                </a:cubicBezTo>
                <a:cubicBezTo>
                  <a:pt x="2408" y="2731"/>
                  <a:pt x="2399" y="2732"/>
                  <a:pt x="2389" y="2733"/>
                </a:cubicBezTo>
                <a:cubicBezTo>
                  <a:pt x="2388" y="2733"/>
                  <a:pt x="2387" y="2733"/>
                  <a:pt x="2386" y="2734"/>
                </a:cubicBezTo>
                <a:cubicBezTo>
                  <a:pt x="2378" y="2734"/>
                  <a:pt x="2370" y="2734"/>
                  <a:pt x="2360" y="2734"/>
                </a:cubicBezTo>
                <a:cubicBezTo>
                  <a:pt x="2350" y="2734"/>
                  <a:pt x="2340" y="2734"/>
                  <a:pt x="2330" y="2734"/>
                </a:cubicBezTo>
                <a:cubicBezTo>
                  <a:pt x="2320" y="2734"/>
                  <a:pt x="2310" y="2734"/>
                  <a:pt x="2300" y="2734"/>
                </a:cubicBezTo>
                <a:cubicBezTo>
                  <a:pt x="2292" y="2734"/>
                  <a:pt x="2284" y="2734"/>
                  <a:pt x="2276" y="2734"/>
                </a:cubicBezTo>
                <a:cubicBezTo>
                  <a:pt x="2276" y="2735"/>
                  <a:pt x="2276" y="2736"/>
                  <a:pt x="2276" y="2738"/>
                </a:cubicBezTo>
                <a:cubicBezTo>
                  <a:pt x="2276" y="2741"/>
                  <a:pt x="2276" y="2744"/>
                  <a:pt x="2276" y="2748"/>
                </a:cubicBezTo>
                <a:cubicBezTo>
                  <a:pt x="2276" y="2751"/>
                  <a:pt x="2276" y="2754"/>
                  <a:pt x="2276" y="2757"/>
                </a:cubicBezTo>
                <a:cubicBezTo>
                  <a:pt x="2276" y="2758"/>
                  <a:pt x="2276" y="2759"/>
                  <a:pt x="2276" y="2762"/>
                </a:cubicBezTo>
                <a:cubicBezTo>
                  <a:pt x="2277" y="2763"/>
                  <a:pt x="2278" y="2764"/>
                  <a:pt x="2280" y="2766"/>
                </a:cubicBezTo>
                <a:cubicBezTo>
                  <a:pt x="2284" y="2770"/>
                  <a:pt x="2288" y="2774"/>
                  <a:pt x="2293" y="2779"/>
                </a:cubicBezTo>
                <a:cubicBezTo>
                  <a:pt x="2298" y="2785"/>
                  <a:pt x="2303" y="2791"/>
                  <a:pt x="2310" y="2797"/>
                </a:cubicBezTo>
                <a:cubicBezTo>
                  <a:pt x="2317" y="2803"/>
                  <a:pt x="2324" y="2809"/>
                  <a:pt x="2331" y="2817"/>
                </a:cubicBezTo>
                <a:cubicBezTo>
                  <a:pt x="2349" y="2840"/>
                  <a:pt x="2367" y="2863"/>
                  <a:pt x="2386" y="2888"/>
                </a:cubicBezTo>
                <a:cubicBezTo>
                  <a:pt x="2397" y="2918"/>
                  <a:pt x="2408" y="2948"/>
                  <a:pt x="2419" y="2979"/>
                </a:cubicBezTo>
                <a:cubicBezTo>
                  <a:pt x="2422" y="3019"/>
                  <a:pt x="2425" y="3059"/>
                  <a:pt x="2428" y="3099"/>
                </a:cubicBezTo>
                <a:cubicBezTo>
                  <a:pt x="2422" y="3153"/>
                  <a:pt x="2416" y="3207"/>
                  <a:pt x="2408" y="3263"/>
                </a:cubicBezTo>
                <a:cubicBezTo>
                  <a:pt x="2392" y="3335"/>
                  <a:pt x="2376" y="3407"/>
                  <a:pt x="2358" y="3481"/>
                </a:cubicBezTo>
                <a:cubicBezTo>
                  <a:pt x="2349" y="3515"/>
                  <a:pt x="2340" y="3549"/>
                  <a:pt x="2329" y="3584"/>
                </a:cubicBezTo>
                <a:cubicBezTo>
                  <a:pt x="2317" y="3618"/>
                  <a:pt x="2305" y="3652"/>
                  <a:pt x="2292" y="3688"/>
                </a:cubicBezTo>
                <a:cubicBezTo>
                  <a:pt x="2282" y="3722"/>
                  <a:pt x="2272" y="3756"/>
                  <a:pt x="2260" y="3791"/>
                </a:cubicBezTo>
                <a:cubicBezTo>
                  <a:pt x="2256" y="3826"/>
                  <a:pt x="2252" y="3861"/>
                  <a:pt x="2247" y="3896"/>
                </a:cubicBezTo>
                <a:cubicBezTo>
                  <a:pt x="2252" y="3967"/>
                  <a:pt x="2257" y="4038"/>
                  <a:pt x="2263" y="4110"/>
                </a:cubicBezTo>
                <a:cubicBezTo>
                  <a:pt x="2280" y="4172"/>
                  <a:pt x="2297" y="4234"/>
                  <a:pt x="2315" y="4297"/>
                </a:cubicBezTo>
                <a:cubicBezTo>
                  <a:pt x="2344" y="4355"/>
                  <a:pt x="2373" y="4413"/>
                  <a:pt x="2402" y="4472"/>
                </a:cubicBezTo>
                <a:cubicBezTo>
                  <a:pt x="2443" y="4530"/>
                  <a:pt x="2484" y="4588"/>
                  <a:pt x="2527" y="4647"/>
                </a:cubicBezTo>
                <a:cubicBezTo>
                  <a:pt x="2581" y="4709"/>
                  <a:pt x="2635" y="4771"/>
                  <a:pt x="2690" y="4835"/>
                </a:cubicBezTo>
                <a:cubicBezTo>
                  <a:pt x="2701" y="4840"/>
                  <a:pt x="2712" y="4845"/>
                  <a:pt x="2723" y="4852"/>
                </a:cubicBezTo>
                <a:cubicBezTo>
                  <a:pt x="2738" y="4864"/>
                  <a:pt x="2753" y="4876"/>
                  <a:pt x="2770" y="4890"/>
                </a:cubicBezTo>
                <a:cubicBezTo>
                  <a:pt x="2783" y="4902"/>
                  <a:pt x="2796" y="4914"/>
                  <a:pt x="2811" y="4928"/>
                </a:cubicBezTo>
                <a:cubicBezTo>
                  <a:pt x="2817" y="4934"/>
                  <a:pt x="2823" y="4940"/>
                  <a:pt x="2829" y="4946"/>
                </a:cubicBezTo>
                <a:cubicBezTo>
                  <a:pt x="2852" y="4925"/>
                  <a:pt x="2875" y="4904"/>
                  <a:pt x="2899" y="4881"/>
                </a:cubicBezTo>
                <a:cubicBezTo>
                  <a:pt x="2927" y="4869"/>
                  <a:pt x="2955" y="4857"/>
                  <a:pt x="2983" y="4845"/>
                </a:cubicBezTo>
                <a:cubicBezTo>
                  <a:pt x="3013" y="4839"/>
                  <a:pt x="3043" y="4833"/>
                  <a:pt x="3073" y="4825"/>
                </a:cubicBezTo>
                <a:cubicBezTo>
                  <a:pt x="3102" y="4820"/>
                  <a:pt x="3131" y="4815"/>
                  <a:pt x="3161" y="4808"/>
                </a:cubicBezTo>
                <a:cubicBezTo>
                  <a:pt x="3167" y="4808"/>
                  <a:pt x="3173" y="4808"/>
                  <a:pt x="3180" y="4808"/>
                </a:cubicBezTo>
                <a:cubicBezTo>
                  <a:pt x="3186" y="4809"/>
                  <a:pt x="3192" y="4810"/>
                  <a:pt x="3198" y="4811"/>
                </a:cubicBezTo>
                <a:cubicBezTo>
                  <a:pt x="3202" y="4813"/>
                  <a:pt x="3206" y="4815"/>
                  <a:pt x="3210" y="4819"/>
                </a:cubicBezTo>
                <a:cubicBezTo>
                  <a:pt x="3211" y="4824"/>
                  <a:pt x="3212" y="4829"/>
                  <a:pt x="3215" y="4835"/>
                </a:cubicBezTo>
                <a:cubicBezTo>
                  <a:pt x="3178" y="4809"/>
                  <a:pt x="3141" y="4783"/>
                  <a:pt x="3104" y="4757"/>
                </a:cubicBezTo>
                <a:cubicBezTo>
                  <a:pt x="3076" y="4734"/>
                  <a:pt x="3048" y="4711"/>
                  <a:pt x="3018" y="4686"/>
                </a:cubicBezTo>
                <a:cubicBezTo>
                  <a:pt x="2995" y="4665"/>
                  <a:pt x="2972" y="4644"/>
                  <a:pt x="2947" y="4621"/>
                </a:cubicBezTo>
                <a:cubicBezTo>
                  <a:pt x="2926" y="4601"/>
                  <a:pt x="2905" y="4581"/>
                  <a:pt x="2884" y="4559"/>
                </a:cubicBezTo>
                <a:cubicBezTo>
                  <a:pt x="2844" y="4512"/>
                  <a:pt x="2804" y="4465"/>
                  <a:pt x="2762" y="4416"/>
                </a:cubicBezTo>
                <a:cubicBezTo>
                  <a:pt x="2731" y="4370"/>
                  <a:pt x="2700" y="4324"/>
                  <a:pt x="2668" y="4277"/>
                </a:cubicBezTo>
                <a:cubicBezTo>
                  <a:pt x="2649" y="4226"/>
                  <a:pt x="2630" y="4175"/>
                  <a:pt x="2610" y="4122"/>
                </a:cubicBezTo>
                <a:cubicBezTo>
                  <a:pt x="2606" y="4060"/>
                  <a:pt x="2602" y="3998"/>
                  <a:pt x="2596" y="3936"/>
                </a:cubicBezTo>
                <a:cubicBezTo>
                  <a:pt x="2609" y="3858"/>
                  <a:pt x="2622" y="3780"/>
                  <a:pt x="2635" y="3702"/>
                </a:cubicBezTo>
                <a:cubicBezTo>
                  <a:pt x="2654" y="3628"/>
                  <a:pt x="2673" y="3554"/>
                  <a:pt x="2694" y="3480"/>
                </a:cubicBezTo>
                <a:cubicBezTo>
                  <a:pt x="2709" y="3423"/>
                  <a:pt x="2724" y="3366"/>
                  <a:pt x="2741" y="3307"/>
                </a:cubicBezTo>
                <a:cubicBezTo>
                  <a:pt x="2751" y="3262"/>
                  <a:pt x="2761" y="3217"/>
                  <a:pt x="2773" y="3170"/>
                </a:cubicBezTo>
                <a:cubicBezTo>
                  <a:pt x="2779" y="3132"/>
                  <a:pt x="2785" y="3094"/>
                  <a:pt x="2793" y="3056"/>
                </a:cubicBezTo>
                <a:cubicBezTo>
                  <a:pt x="2795" y="3023"/>
                  <a:pt x="2797" y="2990"/>
                  <a:pt x="2800" y="2955"/>
                </a:cubicBezTo>
                <a:cubicBezTo>
                  <a:pt x="2798" y="2929"/>
                  <a:pt x="2796" y="2903"/>
                  <a:pt x="2794" y="2877"/>
                </a:cubicBezTo>
                <a:cubicBezTo>
                  <a:pt x="2789" y="2855"/>
                  <a:pt x="2784" y="2833"/>
                  <a:pt x="2779" y="2810"/>
                </a:cubicBezTo>
                <a:cubicBezTo>
                  <a:pt x="2771" y="2791"/>
                  <a:pt x="2763" y="2772"/>
                  <a:pt x="2754" y="2753"/>
                </a:cubicBezTo>
                <a:cubicBezTo>
                  <a:pt x="2742" y="2738"/>
                  <a:pt x="2730" y="2723"/>
                  <a:pt x="2718" y="2707"/>
                </a:cubicBezTo>
                <a:cubicBezTo>
                  <a:pt x="2711" y="2707"/>
                  <a:pt x="2704" y="2707"/>
                  <a:pt x="2697" y="2707"/>
                </a:cubicBezTo>
                <a:cubicBezTo>
                  <a:pt x="2690" y="2707"/>
                  <a:pt x="2683" y="2707"/>
                  <a:pt x="2676" y="2707"/>
                </a:cubicBezTo>
                <a:cubicBezTo>
                  <a:pt x="2669" y="2707"/>
                  <a:pt x="2662" y="2707"/>
                  <a:pt x="2655" y="2707"/>
                </a:cubicBezTo>
                <a:cubicBezTo>
                  <a:pt x="2649" y="2707"/>
                  <a:pt x="2643" y="2707"/>
                  <a:pt x="2635" y="2707"/>
                </a:cubicBezTo>
                <a:close/>
                <a:moveTo>
                  <a:pt x="3298" y="1325"/>
                </a:moveTo>
                <a:cubicBezTo>
                  <a:pt x="3285" y="1318"/>
                  <a:pt x="3272" y="1311"/>
                  <a:pt x="3257" y="1304"/>
                </a:cubicBezTo>
                <a:cubicBezTo>
                  <a:pt x="3245" y="1298"/>
                  <a:pt x="3233" y="1292"/>
                  <a:pt x="3219" y="1286"/>
                </a:cubicBezTo>
                <a:cubicBezTo>
                  <a:pt x="3208" y="1282"/>
                  <a:pt x="3197" y="1278"/>
                  <a:pt x="3185" y="1273"/>
                </a:cubicBezTo>
                <a:cubicBezTo>
                  <a:pt x="3177" y="1272"/>
                  <a:pt x="3169" y="1271"/>
                  <a:pt x="3160" y="1269"/>
                </a:cubicBezTo>
                <a:cubicBezTo>
                  <a:pt x="3118" y="1251"/>
                  <a:pt x="3076" y="1233"/>
                  <a:pt x="3033" y="1215"/>
                </a:cubicBezTo>
                <a:cubicBezTo>
                  <a:pt x="2994" y="1187"/>
                  <a:pt x="2955" y="1159"/>
                  <a:pt x="2914" y="1131"/>
                </a:cubicBezTo>
                <a:cubicBezTo>
                  <a:pt x="2884" y="1089"/>
                  <a:pt x="2854" y="1047"/>
                  <a:pt x="2822" y="1005"/>
                </a:cubicBezTo>
                <a:cubicBezTo>
                  <a:pt x="2806" y="946"/>
                  <a:pt x="2790" y="887"/>
                  <a:pt x="2774" y="827"/>
                </a:cubicBezTo>
                <a:cubicBezTo>
                  <a:pt x="2774" y="774"/>
                  <a:pt x="2774" y="721"/>
                  <a:pt x="2774" y="667"/>
                </a:cubicBezTo>
                <a:cubicBezTo>
                  <a:pt x="2774" y="640"/>
                  <a:pt x="2774" y="613"/>
                  <a:pt x="2774" y="585"/>
                </a:cubicBezTo>
                <a:cubicBezTo>
                  <a:pt x="2774" y="575"/>
                  <a:pt x="2774" y="565"/>
                  <a:pt x="2774" y="555"/>
                </a:cubicBezTo>
                <a:cubicBezTo>
                  <a:pt x="2774" y="554"/>
                  <a:pt x="2774" y="553"/>
                  <a:pt x="2774" y="551"/>
                </a:cubicBezTo>
                <a:cubicBezTo>
                  <a:pt x="2755" y="487"/>
                  <a:pt x="2736" y="423"/>
                  <a:pt x="2717" y="358"/>
                </a:cubicBezTo>
                <a:cubicBezTo>
                  <a:pt x="2678" y="318"/>
                  <a:pt x="2639" y="278"/>
                  <a:pt x="2600" y="236"/>
                </a:cubicBezTo>
                <a:cubicBezTo>
                  <a:pt x="2544" y="218"/>
                  <a:pt x="2488" y="200"/>
                  <a:pt x="2431" y="181"/>
                </a:cubicBezTo>
                <a:cubicBezTo>
                  <a:pt x="2361" y="184"/>
                  <a:pt x="2291" y="187"/>
                  <a:pt x="2221" y="192"/>
                </a:cubicBezTo>
                <a:cubicBezTo>
                  <a:pt x="2173" y="202"/>
                  <a:pt x="2125" y="212"/>
                  <a:pt x="2076" y="223"/>
                </a:cubicBezTo>
                <a:cubicBezTo>
                  <a:pt x="2052" y="228"/>
                  <a:pt x="2028" y="233"/>
                  <a:pt x="2002" y="239"/>
                </a:cubicBezTo>
                <a:cubicBezTo>
                  <a:pt x="1993" y="241"/>
                  <a:pt x="1984" y="243"/>
                  <a:pt x="1974" y="245"/>
                </a:cubicBezTo>
                <a:cubicBezTo>
                  <a:pt x="1973" y="245"/>
                  <a:pt x="1972" y="245"/>
                  <a:pt x="1971" y="246"/>
                </a:cubicBezTo>
                <a:cubicBezTo>
                  <a:pt x="1937" y="249"/>
                  <a:pt x="1903" y="252"/>
                  <a:pt x="1868" y="255"/>
                </a:cubicBezTo>
                <a:cubicBezTo>
                  <a:pt x="1839" y="252"/>
                  <a:pt x="1810" y="249"/>
                  <a:pt x="1779" y="245"/>
                </a:cubicBezTo>
                <a:cubicBezTo>
                  <a:pt x="1747" y="234"/>
                  <a:pt x="1715" y="223"/>
                  <a:pt x="1683" y="212"/>
                </a:cubicBezTo>
                <a:cubicBezTo>
                  <a:pt x="1642" y="191"/>
                  <a:pt x="1601" y="170"/>
                  <a:pt x="1560" y="149"/>
                </a:cubicBezTo>
                <a:cubicBezTo>
                  <a:pt x="1504" y="117"/>
                  <a:pt x="1448" y="85"/>
                  <a:pt x="1391" y="53"/>
                </a:cubicBezTo>
                <a:cubicBezTo>
                  <a:pt x="1353" y="36"/>
                  <a:pt x="1315" y="19"/>
                  <a:pt x="1275" y="0"/>
                </a:cubicBezTo>
                <a:cubicBezTo>
                  <a:pt x="1233" y="2"/>
                  <a:pt x="1191" y="4"/>
                  <a:pt x="1149" y="8"/>
                </a:cubicBezTo>
                <a:cubicBezTo>
                  <a:pt x="1111" y="29"/>
                  <a:pt x="1073" y="50"/>
                  <a:pt x="1033" y="72"/>
                </a:cubicBezTo>
                <a:cubicBezTo>
                  <a:pt x="1005" y="112"/>
                  <a:pt x="977" y="152"/>
                  <a:pt x="949" y="192"/>
                </a:cubicBezTo>
                <a:cubicBezTo>
                  <a:pt x="921" y="257"/>
                  <a:pt x="893" y="322"/>
                  <a:pt x="863" y="387"/>
                </a:cubicBezTo>
                <a:cubicBezTo>
                  <a:pt x="840" y="431"/>
                  <a:pt x="817" y="475"/>
                  <a:pt x="793" y="521"/>
                </a:cubicBezTo>
                <a:cubicBezTo>
                  <a:pt x="769" y="551"/>
                  <a:pt x="745" y="581"/>
                  <a:pt x="721" y="613"/>
                </a:cubicBezTo>
                <a:cubicBezTo>
                  <a:pt x="691" y="635"/>
                  <a:pt x="661" y="657"/>
                  <a:pt x="631" y="681"/>
                </a:cubicBezTo>
                <a:cubicBezTo>
                  <a:pt x="590" y="702"/>
                  <a:pt x="549" y="723"/>
                  <a:pt x="506" y="745"/>
                </a:cubicBezTo>
                <a:cubicBezTo>
                  <a:pt x="464" y="766"/>
                  <a:pt x="422" y="787"/>
                  <a:pt x="378" y="808"/>
                </a:cubicBezTo>
                <a:cubicBezTo>
                  <a:pt x="356" y="819"/>
                  <a:pt x="334" y="830"/>
                  <a:pt x="312" y="841"/>
                </a:cubicBezTo>
                <a:cubicBezTo>
                  <a:pt x="304" y="845"/>
                  <a:pt x="296" y="849"/>
                  <a:pt x="288" y="853"/>
                </a:cubicBezTo>
                <a:cubicBezTo>
                  <a:pt x="287" y="853"/>
                  <a:pt x="286" y="853"/>
                  <a:pt x="285" y="855"/>
                </a:cubicBezTo>
                <a:cubicBezTo>
                  <a:pt x="244" y="891"/>
                  <a:pt x="203" y="927"/>
                  <a:pt x="161" y="964"/>
                </a:cubicBezTo>
                <a:cubicBezTo>
                  <a:pt x="137" y="1005"/>
                  <a:pt x="113" y="1046"/>
                  <a:pt x="88" y="1089"/>
                </a:cubicBezTo>
                <a:cubicBezTo>
                  <a:pt x="83" y="1137"/>
                  <a:pt x="78" y="1185"/>
                  <a:pt x="71" y="1235"/>
                </a:cubicBezTo>
                <a:cubicBezTo>
                  <a:pt x="87" y="1292"/>
                  <a:pt x="103" y="1349"/>
                  <a:pt x="120" y="1408"/>
                </a:cubicBezTo>
                <a:cubicBezTo>
                  <a:pt x="133" y="1456"/>
                  <a:pt x="146" y="1504"/>
                  <a:pt x="161" y="1554"/>
                </a:cubicBezTo>
                <a:cubicBezTo>
                  <a:pt x="162" y="1611"/>
                  <a:pt x="163" y="1668"/>
                  <a:pt x="164" y="1725"/>
                </a:cubicBezTo>
                <a:cubicBezTo>
                  <a:pt x="153" y="1782"/>
                  <a:pt x="142" y="1839"/>
                  <a:pt x="130" y="1897"/>
                </a:cubicBezTo>
                <a:cubicBezTo>
                  <a:pt x="108" y="1945"/>
                  <a:pt x="86" y="1993"/>
                  <a:pt x="64" y="2043"/>
                </a:cubicBezTo>
                <a:cubicBezTo>
                  <a:pt x="43" y="2092"/>
                  <a:pt x="22" y="2141"/>
                  <a:pt x="0" y="2191"/>
                </a:cubicBezTo>
                <a:cubicBezTo>
                  <a:pt x="2" y="2238"/>
                  <a:pt x="4" y="2285"/>
                  <a:pt x="8" y="2333"/>
                </a:cubicBezTo>
                <a:cubicBezTo>
                  <a:pt x="31" y="2373"/>
                  <a:pt x="54" y="2413"/>
                  <a:pt x="79" y="2455"/>
                </a:cubicBezTo>
                <a:cubicBezTo>
                  <a:pt x="120" y="2484"/>
                  <a:pt x="161" y="2513"/>
                  <a:pt x="202" y="2542"/>
                </a:cubicBezTo>
                <a:cubicBezTo>
                  <a:pt x="213" y="2543"/>
                  <a:pt x="224" y="2544"/>
                  <a:pt x="236" y="2546"/>
                </a:cubicBezTo>
                <a:cubicBezTo>
                  <a:pt x="254" y="2549"/>
                  <a:pt x="272" y="2552"/>
                  <a:pt x="292" y="2555"/>
                </a:cubicBezTo>
                <a:cubicBezTo>
                  <a:pt x="313" y="2558"/>
                  <a:pt x="334" y="2561"/>
                  <a:pt x="357" y="2564"/>
                </a:cubicBezTo>
                <a:cubicBezTo>
                  <a:pt x="379" y="2565"/>
                  <a:pt x="401" y="2566"/>
                  <a:pt x="423" y="2569"/>
                </a:cubicBezTo>
                <a:cubicBezTo>
                  <a:pt x="462" y="2573"/>
                  <a:pt x="501" y="2577"/>
                  <a:pt x="541" y="2581"/>
                </a:cubicBezTo>
                <a:cubicBezTo>
                  <a:pt x="588" y="2595"/>
                  <a:pt x="635" y="2609"/>
                  <a:pt x="682" y="2624"/>
                </a:cubicBezTo>
                <a:cubicBezTo>
                  <a:pt x="734" y="2652"/>
                  <a:pt x="786" y="2680"/>
                  <a:pt x="839" y="2709"/>
                </a:cubicBezTo>
                <a:cubicBezTo>
                  <a:pt x="894" y="2754"/>
                  <a:pt x="949" y="2799"/>
                  <a:pt x="1004" y="2846"/>
                </a:cubicBezTo>
                <a:cubicBezTo>
                  <a:pt x="1018" y="2865"/>
                  <a:pt x="1032" y="2884"/>
                  <a:pt x="1046" y="2904"/>
                </a:cubicBezTo>
                <a:cubicBezTo>
                  <a:pt x="1061" y="2924"/>
                  <a:pt x="1076" y="2944"/>
                  <a:pt x="1093" y="2966"/>
                </a:cubicBezTo>
                <a:cubicBezTo>
                  <a:pt x="1112" y="2991"/>
                  <a:pt x="1131" y="3016"/>
                  <a:pt x="1151" y="3043"/>
                </a:cubicBezTo>
                <a:cubicBezTo>
                  <a:pt x="1175" y="3078"/>
                  <a:pt x="1199" y="3113"/>
                  <a:pt x="1225" y="3149"/>
                </a:cubicBezTo>
                <a:cubicBezTo>
                  <a:pt x="1262" y="3173"/>
                  <a:pt x="1299" y="3197"/>
                  <a:pt x="1338" y="3222"/>
                </a:cubicBezTo>
                <a:cubicBezTo>
                  <a:pt x="1387" y="3227"/>
                  <a:pt x="1436" y="3232"/>
                  <a:pt x="1487" y="3239"/>
                </a:cubicBezTo>
                <a:cubicBezTo>
                  <a:pt x="1537" y="3227"/>
                  <a:pt x="1587" y="3215"/>
                  <a:pt x="1637" y="3203"/>
                </a:cubicBezTo>
                <a:cubicBezTo>
                  <a:pt x="1674" y="3176"/>
                  <a:pt x="1711" y="3149"/>
                  <a:pt x="1750" y="3122"/>
                </a:cubicBezTo>
                <a:cubicBezTo>
                  <a:pt x="1758" y="3114"/>
                  <a:pt x="1766" y="3106"/>
                  <a:pt x="1775" y="3096"/>
                </a:cubicBezTo>
                <a:cubicBezTo>
                  <a:pt x="1786" y="3085"/>
                  <a:pt x="1797" y="3074"/>
                  <a:pt x="1809" y="3063"/>
                </a:cubicBezTo>
                <a:cubicBezTo>
                  <a:pt x="1821" y="3050"/>
                  <a:pt x="1833" y="3037"/>
                  <a:pt x="1847" y="3024"/>
                </a:cubicBezTo>
                <a:cubicBezTo>
                  <a:pt x="1861" y="3011"/>
                  <a:pt x="1875" y="2998"/>
                  <a:pt x="1889" y="2984"/>
                </a:cubicBezTo>
                <a:cubicBezTo>
                  <a:pt x="1911" y="2965"/>
                  <a:pt x="1933" y="2946"/>
                  <a:pt x="1955" y="2926"/>
                </a:cubicBezTo>
                <a:cubicBezTo>
                  <a:pt x="1981" y="2911"/>
                  <a:pt x="2007" y="2896"/>
                  <a:pt x="2033" y="2880"/>
                </a:cubicBezTo>
                <a:cubicBezTo>
                  <a:pt x="2062" y="2868"/>
                  <a:pt x="2091" y="2856"/>
                  <a:pt x="2122" y="2844"/>
                </a:cubicBezTo>
                <a:cubicBezTo>
                  <a:pt x="2155" y="2836"/>
                  <a:pt x="2188" y="2828"/>
                  <a:pt x="2221" y="2818"/>
                </a:cubicBezTo>
                <a:cubicBezTo>
                  <a:pt x="2221" y="2817"/>
                  <a:pt x="2221" y="2816"/>
                  <a:pt x="2221" y="2813"/>
                </a:cubicBezTo>
                <a:cubicBezTo>
                  <a:pt x="2221" y="2810"/>
                  <a:pt x="2221" y="2807"/>
                  <a:pt x="2221" y="2804"/>
                </a:cubicBezTo>
                <a:cubicBezTo>
                  <a:pt x="2221" y="2801"/>
                  <a:pt x="2221" y="2798"/>
                  <a:pt x="2221" y="2794"/>
                </a:cubicBezTo>
                <a:cubicBezTo>
                  <a:pt x="2221" y="2793"/>
                  <a:pt x="2221" y="2792"/>
                  <a:pt x="2221" y="2790"/>
                </a:cubicBezTo>
                <a:cubicBezTo>
                  <a:pt x="2229" y="2790"/>
                  <a:pt x="2237" y="2790"/>
                  <a:pt x="2245" y="2790"/>
                </a:cubicBezTo>
                <a:cubicBezTo>
                  <a:pt x="2255" y="2790"/>
                  <a:pt x="2265" y="2790"/>
                  <a:pt x="2275" y="2790"/>
                </a:cubicBezTo>
                <a:cubicBezTo>
                  <a:pt x="2285" y="2790"/>
                  <a:pt x="2295" y="2790"/>
                  <a:pt x="2305" y="2790"/>
                </a:cubicBezTo>
                <a:cubicBezTo>
                  <a:pt x="2313" y="2790"/>
                  <a:pt x="2321" y="2790"/>
                  <a:pt x="2331" y="2790"/>
                </a:cubicBezTo>
                <a:cubicBezTo>
                  <a:pt x="2378" y="2785"/>
                  <a:pt x="2425" y="2780"/>
                  <a:pt x="2474" y="2774"/>
                </a:cubicBezTo>
                <a:cubicBezTo>
                  <a:pt x="2498" y="2772"/>
                  <a:pt x="2522" y="2770"/>
                  <a:pt x="2548" y="2766"/>
                </a:cubicBezTo>
                <a:cubicBezTo>
                  <a:pt x="2557" y="2765"/>
                  <a:pt x="2566" y="2764"/>
                  <a:pt x="2576" y="2763"/>
                </a:cubicBezTo>
                <a:cubicBezTo>
                  <a:pt x="2577" y="2763"/>
                  <a:pt x="2578" y="2763"/>
                  <a:pt x="2580" y="2763"/>
                </a:cubicBezTo>
                <a:cubicBezTo>
                  <a:pt x="2586" y="2763"/>
                  <a:pt x="2592" y="2763"/>
                  <a:pt x="2600" y="2763"/>
                </a:cubicBezTo>
                <a:cubicBezTo>
                  <a:pt x="2607" y="2763"/>
                  <a:pt x="2614" y="2763"/>
                  <a:pt x="2621" y="2763"/>
                </a:cubicBezTo>
                <a:cubicBezTo>
                  <a:pt x="2628" y="2763"/>
                  <a:pt x="2635" y="2763"/>
                  <a:pt x="2642" y="2763"/>
                </a:cubicBezTo>
                <a:cubicBezTo>
                  <a:pt x="2649" y="2763"/>
                  <a:pt x="2656" y="2763"/>
                  <a:pt x="2663" y="2763"/>
                </a:cubicBezTo>
                <a:cubicBezTo>
                  <a:pt x="2668" y="2763"/>
                  <a:pt x="2673" y="2763"/>
                  <a:pt x="2679" y="2763"/>
                </a:cubicBezTo>
                <a:cubicBezTo>
                  <a:pt x="2682" y="2763"/>
                  <a:pt x="2685" y="2763"/>
                  <a:pt x="2690" y="2763"/>
                </a:cubicBezTo>
                <a:cubicBezTo>
                  <a:pt x="2693" y="2763"/>
                  <a:pt x="2696" y="2763"/>
                  <a:pt x="2701" y="2763"/>
                </a:cubicBezTo>
                <a:cubicBezTo>
                  <a:pt x="2706" y="2763"/>
                  <a:pt x="2711" y="2763"/>
                  <a:pt x="2718" y="2763"/>
                </a:cubicBezTo>
                <a:cubicBezTo>
                  <a:pt x="2761" y="2738"/>
                  <a:pt x="2804" y="2713"/>
                  <a:pt x="2847" y="2686"/>
                </a:cubicBezTo>
                <a:cubicBezTo>
                  <a:pt x="2878" y="2654"/>
                  <a:pt x="2909" y="2622"/>
                  <a:pt x="2942" y="2590"/>
                </a:cubicBezTo>
                <a:cubicBezTo>
                  <a:pt x="2961" y="2554"/>
                  <a:pt x="2980" y="2518"/>
                  <a:pt x="3001" y="2482"/>
                </a:cubicBezTo>
                <a:cubicBezTo>
                  <a:pt x="3008" y="2447"/>
                  <a:pt x="3015" y="2412"/>
                  <a:pt x="3022" y="2375"/>
                </a:cubicBezTo>
                <a:cubicBezTo>
                  <a:pt x="3027" y="2310"/>
                  <a:pt x="3032" y="2245"/>
                  <a:pt x="3038" y="2180"/>
                </a:cubicBezTo>
                <a:cubicBezTo>
                  <a:pt x="3062" y="2134"/>
                  <a:pt x="3086" y="2088"/>
                  <a:pt x="3111" y="2040"/>
                </a:cubicBezTo>
                <a:cubicBezTo>
                  <a:pt x="3146" y="2006"/>
                  <a:pt x="3181" y="1972"/>
                  <a:pt x="3216" y="1936"/>
                </a:cubicBezTo>
                <a:cubicBezTo>
                  <a:pt x="3253" y="1908"/>
                  <a:pt x="3290" y="1880"/>
                  <a:pt x="3327" y="1850"/>
                </a:cubicBezTo>
                <a:cubicBezTo>
                  <a:pt x="3357" y="1809"/>
                  <a:pt x="3387" y="1768"/>
                  <a:pt x="3419" y="1725"/>
                </a:cubicBezTo>
                <a:cubicBezTo>
                  <a:pt x="3428" y="1676"/>
                  <a:pt x="3437" y="1627"/>
                  <a:pt x="3447" y="1577"/>
                </a:cubicBezTo>
                <a:cubicBezTo>
                  <a:pt x="3434" y="1530"/>
                  <a:pt x="3421" y="1483"/>
                  <a:pt x="3407" y="1434"/>
                </a:cubicBezTo>
                <a:cubicBezTo>
                  <a:pt x="3371" y="1398"/>
                  <a:pt x="3335" y="1362"/>
                  <a:pt x="3298" y="1325"/>
                </a:cubicBezTo>
                <a:close/>
                <a:moveTo>
                  <a:pt x="1788" y="2817"/>
                </a:moveTo>
                <a:cubicBezTo>
                  <a:pt x="1678" y="2823"/>
                  <a:pt x="1568" y="2829"/>
                  <a:pt x="1458" y="2837"/>
                </a:cubicBezTo>
                <a:cubicBezTo>
                  <a:pt x="1354" y="2814"/>
                  <a:pt x="1250" y="2791"/>
                  <a:pt x="1145" y="2767"/>
                </a:cubicBezTo>
                <a:cubicBezTo>
                  <a:pt x="1051" y="2718"/>
                  <a:pt x="957" y="2669"/>
                  <a:pt x="862" y="2619"/>
                </a:cubicBezTo>
                <a:cubicBezTo>
                  <a:pt x="783" y="2548"/>
                  <a:pt x="704" y="2477"/>
                  <a:pt x="625" y="2405"/>
                </a:cubicBezTo>
                <a:cubicBezTo>
                  <a:pt x="567" y="2315"/>
                  <a:pt x="509" y="2225"/>
                  <a:pt x="449" y="2134"/>
                </a:cubicBezTo>
                <a:cubicBezTo>
                  <a:pt x="417" y="2030"/>
                  <a:pt x="385" y="1926"/>
                  <a:pt x="351" y="1821"/>
                </a:cubicBezTo>
                <a:cubicBezTo>
                  <a:pt x="348" y="1708"/>
                  <a:pt x="345" y="1595"/>
                  <a:pt x="340" y="1482"/>
                </a:cubicBezTo>
                <a:cubicBezTo>
                  <a:pt x="364" y="1377"/>
                  <a:pt x="388" y="1272"/>
                  <a:pt x="413" y="1165"/>
                </a:cubicBezTo>
                <a:cubicBezTo>
                  <a:pt x="462" y="1072"/>
                  <a:pt x="511" y="979"/>
                  <a:pt x="561" y="884"/>
                </a:cubicBezTo>
                <a:cubicBezTo>
                  <a:pt x="632" y="807"/>
                  <a:pt x="703" y="730"/>
                  <a:pt x="776" y="651"/>
                </a:cubicBezTo>
                <a:cubicBezTo>
                  <a:pt x="867" y="594"/>
                  <a:pt x="958" y="537"/>
                  <a:pt x="1049" y="480"/>
                </a:cubicBezTo>
                <a:cubicBezTo>
                  <a:pt x="1157" y="448"/>
                  <a:pt x="1265" y="416"/>
                  <a:pt x="1373" y="383"/>
                </a:cubicBezTo>
                <a:cubicBezTo>
                  <a:pt x="1482" y="380"/>
                  <a:pt x="1591" y="377"/>
                  <a:pt x="1700" y="372"/>
                </a:cubicBezTo>
                <a:cubicBezTo>
                  <a:pt x="1803" y="396"/>
                  <a:pt x="1906" y="420"/>
                  <a:pt x="2010" y="444"/>
                </a:cubicBezTo>
                <a:cubicBezTo>
                  <a:pt x="2103" y="492"/>
                  <a:pt x="2196" y="540"/>
                  <a:pt x="2289" y="590"/>
                </a:cubicBezTo>
                <a:cubicBezTo>
                  <a:pt x="2367" y="660"/>
                  <a:pt x="2445" y="730"/>
                  <a:pt x="2524" y="801"/>
                </a:cubicBezTo>
                <a:cubicBezTo>
                  <a:pt x="2583" y="889"/>
                  <a:pt x="2642" y="977"/>
                  <a:pt x="2702" y="1067"/>
                </a:cubicBezTo>
                <a:cubicBezTo>
                  <a:pt x="2738" y="1171"/>
                  <a:pt x="2774" y="1275"/>
                  <a:pt x="2811" y="1379"/>
                </a:cubicBezTo>
                <a:cubicBezTo>
                  <a:pt x="2813" y="1492"/>
                  <a:pt x="2815" y="1605"/>
                  <a:pt x="2819" y="1718"/>
                </a:cubicBezTo>
                <a:cubicBezTo>
                  <a:pt x="2794" y="1823"/>
                  <a:pt x="2769" y="1928"/>
                  <a:pt x="2742" y="2034"/>
                </a:cubicBezTo>
                <a:cubicBezTo>
                  <a:pt x="2692" y="2127"/>
                  <a:pt x="2642" y="2220"/>
                  <a:pt x="2590" y="2315"/>
                </a:cubicBezTo>
                <a:cubicBezTo>
                  <a:pt x="2518" y="2392"/>
                  <a:pt x="2446" y="2469"/>
                  <a:pt x="2373" y="2548"/>
                </a:cubicBezTo>
                <a:cubicBezTo>
                  <a:pt x="2283" y="2605"/>
                  <a:pt x="2193" y="2662"/>
                  <a:pt x="2102" y="2719"/>
                </a:cubicBezTo>
                <a:cubicBezTo>
                  <a:pt x="1998" y="2751"/>
                  <a:pt x="1894" y="2783"/>
                  <a:pt x="1788" y="2817"/>
                </a:cubicBezTo>
                <a:close/>
              </a:path>
            </a:pathLst>
          </a:custGeom>
          <a:solidFill>
            <a:srgbClr val="ff630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Freeform 6"/>
          <p:cNvSpPr/>
          <p:nvPr/>
        </p:nvSpPr>
        <p:spPr>
          <a:xfrm>
            <a:off x="326880" y="5389560"/>
            <a:ext cx="1633680" cy="130500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883" h="890">
                <a:moveTo>
                  <a:pt x="224" y="0"/>
                </a:moveTo>
                <a:lnTo>
                  <a:pt x="247" y="0"/>
                </a:lnTo>
                <a:lnTo>
                  <a:pt x="259" y="0"/>
                </a:lnTo>
                <a:lnTo>
                  <a:pt x="265" y="0"/>
                </a:lnTo>
                <a:lnTo>
                  <a:pt x="271" y="0"/>
                </a:lnTo>
                <a:lnTo>
                  <a:pt x="277" y="0"/>
                </a:lnTo>
                <a:lnTo>
                  <a:pt x="283" y="0"/>
                </a:lnTo>
                <a:lnTo>
                  <a:pt x="288" y="6"/>
                </a:lnTo>
                <a:lnTo>
                  <a:pt x="294" y="6"/>
                </a:lnTo>
                <a:lnTo>
                  <a:pt x="300" y="12"/>
                </a:lnTo>
                <a:lnTo>
                  <a:pt x="300" y="23"/>
                </a:lnTo>
                <a:lnTo>
                  <a:pt x="294" y="29"/>
                </a:lnTo>
                <a:lnTo>
                  <a:pt x="294" y="35"/>
                </a:lnTo>
                <a:lnTo>
                  <a:pt x="288" y="47"/>
                </a:lnTo>
                <a:lnTo>
                  <a:pt x="288" y="53"/>
                </a:lnTo>
                <a:lnTo>
                  <a:pt x="283" y="58"/>
                </a:lnTo>
                <a:lnTo>
                  <a:pt x="277" y="58"/>
                </a:lnTo>
                <a:lnTo>
                  <a:pt x="271" y="70"/>
                </a:lnTo>
                <a:lnTo>
                  <a:pt x="265" y="76"/>
                </a:lnTo>
                <a:lnTo>
                  <a:pt x="247" y="82"/>
                </a:lnTo>
                <a:lnTo>
                  <a:pt x="235" y="88"/>
                </a:lnTo>
                <a:lnTo>
                  <a:pt x="224" y="88"/>
                </a:lnTo>
                <a:lnTo>
                  <a:pt x="206" y="99"/>
                </a:lnTo>
                <a:lnTo>
                  <a:pt x="188" y="117"/>
                </a:lnTo>
                <a:lnTo>
                  <a:pt x="177" y="146"/>
                </a:lnTo>
                <a:lnTo>
                  <a:pt x="188" y="175"/>
                </a:lnTo>
                <a:lnTo>
                  <a:pt x="206" y="199"/>
                </a:lnTo>
                <a:lnTo>
                  <a:pt x="241" y="211"/>
                </a:lnTo>
                <a:lnTo>
                  <a:pt x="283" y="216"/>
                </a:lnTo>
                <a:lnTo>
                  <a:pt x="324" y="222"/>
                </a:lnTo>
                <a:lnTo>
                  <a:pt x="377" y="216"/>
                </a:lnTo>
                <a:lnTo>
                  <a:pt x="418" y="211"/>
                </a:lnTo>
                <a:lnTo>
                  <a:pt x="453" y="199"/>
                </a:lnTo>
                <a:lnTo>
                  <a:pt x="471" y="175"/>
                </a:lnTo>
                <a:lnTo>
                  <a:pt x="483" y="146"/>
                </a:lnTo>
                <a:lnTo>
                  <a:pt x="471" y="117"/>
                </a:lnTo>
                <a:lnTo>
                  <a:pt x="453" y="99"/>
                </a:lnTo>
                <a:lnTo>
                  <a:pt x="436" y="88"/>
                </a:lnTo>
                <a:lnTo>
                  <a:pt x="424" y="88"/>
                </a:lnTo>
                <a:lnTo>
                  <a:pt x="406" y="82"/>
                </a:lnTo>
                <a:lnTo>
                  <a:pt x="394" y="76"/>
                </a:lnTo>
                <a:lnTo>
                  <a:pt x="389" y="70"/>
                </a:lnTo>
                <a:lnTo>
                  <a:pt x="383" y="58"/>
                </a:lnTo>
                <a:lnTo>
                  <a:pt x="377" y="58"/>
                </a:lnTo>
                <a:lnTo>
                  <a:pt x="371" y="53"/>
                </a:lnTo>
                <a:lnTo>
                  <a:pt x="365" y="47"/>
                </a:lnTo>
                <a:lnTo>
                  <a:pt x="365" y="35"/>
                </a:lnTo>
                <a:lnTo>
                  <a:pt x="359" y="29"/>
                </a:lnTo>
                <a:lnTo>
                  <a:pt x="359" y="23"/>
                </a:lnTo>
                <a:lnTo>
                  <a:pt x="359" y="12"/>
                </a:lnTo>
                <a:lnTo>
                  <a:pt x="365" y="6"/>
                </a:lnTo>
                <a:lnTo>
                  <a:pt x="371" y="6"/>
                </a:lnTo>
                <a:lnTo>
                  <a:pt x="371" y="0"/>
                </a:lnTo>
                <a:lnTo>
                  <a:pt x="377" y="0"/>
                </a:lnTo>
                <a:lnTo>
                  <a:pt x="383" y="0"/>
                </a:lnTo>
                <a:lnTo>
                  <a:pt x="394" y="0"/>
                </a:lnTo>
                <a:lnTo>
                  <a:pt x="418" y="0"/>
                </a:lnTo>
                <a:lnTo>
                  <a:pt x="430" y="0"/>
                </a:lnTo>
                <a:lnTo>
                  <a:pt x="436" y="0"/>
                </a:lnTo>
                <a:lnTo>
                  <a:pt x="518" y="0"/>
                </a:lnTo>
                <a:lnTo>
                  <a:pt x="571" y="0"/>
                </a:lnTo>
                <a:lnTo>
                  <a:pt x="601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6"/>
                </a:lnTo>
                <a:lnTo>
                  <a:pt x="648" y="12"/>
                </a:lnTo>
                <a:lnTo>
                  <a:pt x="653" y="23"/>
                </a:lnTo>
                <a:lnTo>
                  <a:pt x="659" y="35"/>
                </a:lnTo>
                <a:lnTo>
                  <a:pt x="659" y="117"/>
                </a:lnTo>
                <a:lnTo>
                  <a:pt x="665" y="170"/>
                </a:lnTo>
                <a:lnTo>
                  <a:pt x="665" y="205"/>
                </a:lnTo>
                <a:lnTo>
                  <a:pt x="665" y="216"/>
                </a:lnTo>
                <a:lnTo>
                  <a:pt x="665" y="228"/>
                </a:lnTo>
                <a:lnTo>
                  <a:pt x="665" y="252"/>
                </a:lnTo>
                <a:lnTo>
                  <a:pt x="665" y="269"/>
                </a:lnTo>
                <a:lnTo>
                  <a:pt x="665" y="275"/>
                </a:lnTo>
                <a:lnTo>
                  <a:pt x="665" y="281"/>
                </a:lnTo>
                <a:lnTo>
                  <a:pt x="659" y="287"/>
                </a:lnTo>
                <a:lnTo>
                  <a:pt x="665" y="293"/>
                </a:lnTo>
                <a:lnTo>
                  <a:pt x="665" y="298"/>
                </a:lnTo>
                <a:lnTo>
                  <a:pt x="671" y="298"/>
                </a:lnTo>
                <a:lnTo>
                  <a:pt x="677" y="304"/>
                </a:lnTo>
                <a:lnTo>
                  <a:pt x="683" y="304"/>
                </a:lnTo>
                <a:lnTo>
                  <a:pt x="689" y="304"/>
                </a:lnTo>
                <a:lnTo>
                  <a:pt x="695" y="298"/>
                </a:lnTo>
                <a:lnTo>
                  <a:pt x="701" y="298"/>
                </a:lnTo>
                <a:lnTo>
                  <a:pt x="712" y="293"/>
                </a:lnTo>
                <a:lnTo>
                  <a:pt x="712" y="287"/>
                </a:lnTo>
                <a:lnTo>
                  <a:pt x="718" y="281"/>
                </a:lnTo>
                <a:lnTo>
                  <a:pt x="730" y="275"/>
                </a:lnTo>
                <a:lnTo>
                  <a:pt x="736" y="269"/>
                </a:lnTo>
                <a:lnTo>
                  <a:pt x="742" y="257"/>
                </a:lnTo>
                <a:lnTo>
                  <a:pt x="742" y="240"/>
                </a:lnTo>
                <a:lnTo>
                  <a:pt x="748" y="228"/>
                </a:lnTo>
                <a:lnTo>
                  <a:pt x="759" y="211"/>
                </a:lnTo>
                <a:lnTo>
                  <a:pt x="777" y="193"/>
                </a:lnTo>
                <a:lnTo>
                  <a:pt x="807" y="181"/>
                </a:lnTo>
                <a:lnTo>
                  <a:pt x="836" y="193"/>
                </a:lnTo>
                <a:lnTo>
                  <a:pt x="860" y="211"/>
                </a:lnTo>
                <a:lnTo>
                  <a:pt x="871" y="246"/>
                </a:lnTo>
                <a:lnTo>
                  <a:pt x="883" y="287"/>
                </a:lnTo>
                <a:lnTo>
                  <a:pt x="883" y="339"/>
                </a:lnTo>
                <a:lnTo>
                  <a:pt x="883" y="380"/>
                </a:lnTo>
                <a:lnTo>
                  <a:pt x="871" y="427"/>
                </a:lnTo>
                <a:lnTo>
                  <a:pt x="860" y="457"/>
                </a:lnTo>
                <a:lnTo>
                  <a:pt x="836" y="480"/>
                </a:lnTo>
                <a:lnTo>
                  <a:pt x="807" y="492"/>
                </a:lnTo>
                <a:lnTo>
                  <a:pt x="777" y="480"/>
                </a:lnTo>
                <a:lnTo>
                  <a:pt x="759" y="457"/>
                </a:lnTo>
                <a:lnTo>
                  <a:pt x="748" y="439"/>
                </a:lnTo>
                <a:lnTo>
                  <a:pt x="742" y="427"/>
                </a:lnTo>
                <a:lnTo>
                  <a:pt x="742" y="416"/>
                </a:lnTo>
                <a:lnTo>
                  <a:pt x="736" y="404"/>
                </a:lnTo>
                <a:lnTo>
                  <a:pt x="730" y="392"/>
                </a:lnTo>
                <a:lnTo>
                  <a:pt x="718" y="386"/>
                </a:lnTo>
                <a:lnTo>
                  <a:pt x="712" y="380"/>
                </a:lnTo>
                <a:lnTo>
                  <a:pt x="712" y="375"/>
                </a:lnTo>
                <a:lnTo>
                  <a:pt x="701" y="369"/>
                </a:lnTo>
                <a:lnTo>
                  <a:pt x="695" y="369"/>
                </a:lnTo>
                <a:lnTo>
                  <a:pt x="689" y="369"/>
                </a:lnTo>
                <a:lnTo>
                  <a:pt x="683" y="363"/>
                </a:lnTo>
                <a:lnTo>
                  <a:pt x="677" y="363"/>
                </a:lnTo>
                <a:lnTo>
                  <a:pt x="671" y="369"/>
                </a:lnTo>
                <a:lnTo>
                  <a:pt x="665" y="369"/>
                </a:lnTo>
                <a:lnTo>
                  <a:pt x="665" y="375"/>
                </a:lnTo>
                <a:lnTo>
                  <a:pt x="659" y="380"/>
                </a:lnTo>
                <a:lnTo>
                  <a:pt x="659" y="386"/>
                </a:lnTo>
                <a:lnTo>
                  <a:pt x="665" y="392"/>
                </a:lnTo>
                <a:lnTo>
                  <a:pt x="665" y="398"/>
                </a:lnTo>
                <a:lnTo>
                  <a:pt x="665" y="421"/>
                </a:lnTo>
                <a:lnTo>
                  <a:pt x="665" y="433"/>
                </a:lnTo>
                <a:lnTo>
                  <a:pt x="665" y="439"/>
                </a:lnTo>
                <a:lnTo>
                  <a:pt x="659" y="521"/>
                </a:lnTo>
                <a:lnTo>
                  <a:pt x="659" y="579"/>
                </a:lnTo>
                <a:lnTo>
                  <a:pt x="659" y="615"/>
                </a:lnTo>
                <a:lnTo>
                  <a:pt x="659" y="626"/>
                </a:lnTo>
                <a:lnTo>
                  <a:pt x="659" y="638"/>
                </a:lnTo>
                <a:lnTo>
                  <a:pt x="653" y="650"/>
                </a:lnTo>
                <a:lnTo>
                  <a:pt x="648" y="656"/>
                </a:lnTo>
                <a:lnTo>
                  <a:pt x="642" y="667"/>
                </a:lnTo>
                <a:lnTo>
                  <a:pt x="630" y="667"/>
                </a:lnTo>
                <a:lnTo>
                  <a:pt x="548" y="667"/>
                </a:lnTo>
                <a:lnTo>
                  <a:pt x="495" y="667"/>
                </a:lnTo>
                <a:lnTo>
                  <a:pt x="459" y="667"/>
                </a:lnTo>
                <a:lnTo>
                  <a:pt x="442" y="667"/>
                </a:lnTo>
                <a:lnTo>
                  <a:pt x="436" y="667"/>
                </a:lnTo>
                <a:lnTo>
                  <a:pt x="412" y="667"/>
                </a:lnTo>
                <a:lnTo>
                  <a:pt x="400" y="667"/>
                </a:lnTo>
                <a:lnTo>
                  <a:pt x="394" y="667"/>
                </a:lnTo>
                <a:lnTo>
                  <a:pt x="383" y="667"/>
                </a:lnTo>
                <a:lnTo>
                  <a:pt x="377" y="667"/>
                </a:lnTo>
                <a:lnTo>
                  <a:pt x="371" y="667"/>
                </a:lnTo>
                <a:lnTo>
                  <a:pt x="371" y="673"/>
                </a:lnTo>
                <a:lnTo>
                  <a:pt x="365" y="673"/>
                </a:lnTo>
                <a:lnTo>
                  <a:pt x="359" y="679"/>
                </a:lnTo>
                <a:lnTo>
                  <a:pt x="359" y="691"/>
                </a:lnTo>
                <a:lnTo>
                  <a:pt x="359" y="697"/>
                </a:lnTo>
                <a:lnTo>
                  <a:pt x="365" y="702"/>
                </a:lnTo>
                <a:lnTo>
                  <a:pt x="365" y="708"/>
                </a:lnTo>
                <a:lnTo>
                  <a:pt x="371" y="714"/>
                </a:lnTo>
                <a:lnTo>
                  <a:pt x="377" y="720"/>
                </a:lnTo>
                <a:lnTo>
                  <a:pt x="383" y="726"/>
                </a:lnTo>
                <a:lnTo>
                  <a:pt x="389" y="738"/>
                </a:lnTo>
                <a:lnTo>
                  <a:pt x="394" y="743"/>
                </a:lnTo>
                <a:lnTo>
                  <a:pt x="406" y="749"/>
                </a:lnTo>
                <a:lnTo>
                  <a:pt x="424" y="755"/>
                </a:lnTo>
                <a:lnTo>
                  <a:pt x="436" y="755"/>
                </a:lnTo>
                <a:lnTo>
                  <a:pt x="453" y="767"/>
                </a:lnTo>
                <a:lnTo>
                  <a:pt x="471" y="784"/>
                </a:lnTo>
                <a:lnTo>
                  <a:pt x="483" y="814"/>
                </a:lnTo>
                <a:lnTo>
                  <a:pt x="471" y="843"/>
                </a:lnTo>
                <a:lnTo>
                  <a:pt x="453" y="860"/>
                </a:lnTo>
                <a:lnTo>
                  <a:pt x="418" y="878"/>
                </a:lnTo>
                <a:lnTo>
                  <a:pt x="377" y="884"/>
                </a:lnTo>
                <a:lnTo>
                  <a:pt x="324" y="890"/>
                </a:lnTo>
                <a:lnTo>
                  <a:pt x="283" y="884"/>
                </a:lnTo>
                <a:lnTo>
                  <a:pt x="241" y="878"/>
                </a:lnTo>
                <a:lnTo>
                  <a:pt x="206" y="860"/>
                </a:lnTo>
                <a:lnTo>
                  <a:pt x="188" y="843"/>
                </a:lnTo>
                <a:lnTo>
                  <a:pt x="177" y="814"/>
                </a:lnTo>
                <a:lnTo>
                  <a:pt x="188" y="784"/>
                </a:lnTo>
                <a:lnTo>
                  <a:pt x="206" y="767"/>
                </a:lnTo>
                <a:lnTo>
                  <a:pt x="224" y="755"/>
                </a:lnTo>
                <a:lnTo>
                  <a:pt x="235" y="755"/>
                </a:lnTo>
                <a:lnTo>
                  <a:pt x="247" y="749"/>
                </a:lnTo>
                <a:lnTo>
                  <a:pt x="265" y="743"/>
                </a:lnTo>
                <a:lnTo>
                  <a:pt x="271" y="738"/>
                </a:lnTo>
                <a:lnTo>
                  <a:pt x="277" y="726"/>
                </a:lnTo>
                <a:lnTo>
                  <a:pt x="283" y="720"/>
                </a:lnTo>
                <a:lnTo>
                  <a:pt x="288" y="714"/>
                </a:lnTo>
                <a:lnTo>
                  <a:pt x="288" y="708"/>
                </a:lnTo>
                <a:lnTo>
                  <a:pt x="294" y="702"/>
                </a:lnTo>
                <a:lnTo>
                  <a:pt x="294" y="697"/>
                </a:lnTo>
                <a:lnTo>
                  <a:pt x="300" y="691"/>
                </a:lnTo>
                <a:lnTo>
                  <a:pt x="300" y="679"/>
                </a:lnTo>
                <a:lnTo>
                  <a:pt x="294" y="673"/>
                </a:lnTo>
                <a:lnTo>
                  <a:pt x="288" y="673"/>
                </a:lnTo>
                <a:lnTo>
                  <a:pt x="288" y="667"/>
                </a:lnTo>
                <a:lnTo>
                  <a:pt x="283" y="667"/>
                </a:lnTo>
                <a:lnTo>
                  <a:pt x="277" y="667"/>
                </a:lnTo>
                <a:lnTo>
                  <a:pt x="271" y="667"/>
                </a:lnTo>
                <a:lnTo>
                  <a:pt x="265" y="667"/>
                </a:lnTo>
                <a:lnTo>
                  <a:pt x="241" y="667"/>
                </a:lnTo>
                <a:lnTo>
                  <a:pt x="230" y="667"/>
                </a:lnTo>
                <a:lnTo>
                  <a:pt x="224" y="667"/>
                </a:lnTo>
                <a:lnTo>
                  <a:pt x="141" y="667"/>
                </a:lnTo>
                <a:lnTo>
                  <a:pt x="88" y="667"/>
                </a:lnTo>
                <a:lnTo>
                  <a:pt x="53" y="667"/>
                </a:lnTo>
                <a:lnTo>
                  <a:pt x="35" y="667"/>
                </a:lnTo>
                <a:lnTo>
                  <a:pt x="29" y="667"/>
                </a:lnTo>
                <a:lnTo>
                  <a:pt x="18" y="667"/>
                </a:lnTo>
                <a:lnTo>
                  <a:pt x="6" y="656"/>
                </a:lnTo>
                <a:lnTo>
                  <a:pt x="0" y="650"/>
                </a:lnTo>
                <a:lnTo>
                  <a:pt x="0" y="638"/>
                </a:lnTo>
                <a:lnTo>
                  <a:pt x="0" y="556"/>
                </a:lnTo>
                <a:lnTo>
                  <a:pt x="0" y="497"/>
                </a:lnTo>
                <a:lnTo>
                  <a:pt x="0" y="462"/>
                </a:lnTo>
                <a:lnTo>
                  <a:pt x="0" y="445"/>
                </a:lnTo>
                <a:lnTo>
                  <a:pt x="0" y="439"/>
                </a:lnTo>
                <a:lnTo>
                  <a:pt x="0" y="416"/>
                </a:lnTo>
                <a:lnTo>
                  <a:pt x="0" y="404"/>
                </a:lnTo>
                <a:lnTo>
                  <a:pt x="0" y="398"/>
                </a:lnTo>
                <a:lnTo>
                  <a:pt x="0" y="392"/>
                </a:lnTo>
                <a:lnTo>
                  <a:pt x="0" y="386"/>
                </a:lnTo>
                <a:lnTo>
                  <a:pt x="0" y="380"/>
                </a:lnTo>
                <a:lnTo>
                  <a:pt x="0" y="375"/>
                </a:lnTo>
                <a:lnTo>
                  <a:pt x="6" y="375"/>
                </a:lnTo>
                <a:lnTo>
                  <a:pt x="6" y="369"/>
                </a:lnTo>
                <a:lnTo>
                  <a:pt x="12" y="363"/>
                </a:lnTo>
                <a:lnTo>
                  <a:pt x="18" y="363"/>
                </a:lnTo>
                <a:lnTo>
                  <a:pt x="29" y="369"/>
                </a:lnTo>
                <a:lnTo>
                  <a:pt x="35" y="369"/>
                </a:lnTo>
                <a:lnTo>
                  <a:pt x="41" y="369"/>
                </a:lnTo>
                <a:lnTo>
                  <a:pt x="47" y="375"/>
                </a:lnTo>
                <a:lnTo>
                  <a:pt x="53" y="380"/>
                </a:lnTo>
                <a:lnTo>
                  <a:pt x="59" y="386"/>
                </a:lnTo>
                <a:lnTo>
                  <a:pt x="71" y="392"/>
                </a:lnTo>
                <a:lnTo>
                  <a:pt x="76" y="404"/>
                </a:lnTo>
                <a:lnTo>
                  <a:pt x="76" y="416"/>
                </a:lnTo>
                <a:lnTo>
                  <a:pt x="88" y="427"/>
                </a:lnTo>
                <a:lnTo>
                  <a:pt x="88" y="439"/>
                </a:lnTo>
                <a:lnTo>
                  <a:pt x="100" y="457"/>
                </a:lnTo>
                <a:lnTo>
                  <a:pt x="118" y="480"/>
                </a:lnTo>
                <a:lnTo>
                  <a:pt x="147" y="492"/>
                </a:lnTo>
                <a:lnTo>
                  <a:pt x="177" y="480"/>
                </a:lnTo>
                <a:lnTo>
                  <a:pt x="194" y="457"/>
                </a:lnTo>
                <a:lnTo>
                  <a:pt x="212" y="427"/>
                </a:lnTo>
                <a:lnTo>
                  <a:pt x="218" y="380"/>
                </a:lnTo>
                <a:lnTo>
                  <a:pt x="224" y="339"/>
                </a:lnTo>
                <a:lnTo>
                  <a:pt x="218" y="287"/>
                </a:lnTo>
                <a:lnTo>
                  <a:pt x="212" y="246"/>
                </a:lnTo>
                <a:lnTo>
                  <a:pt x="194" y="211"/>
                </a:lnTo>
                <a:lnTo>
                  <a:pt x="177" y="193"/>
                </a:lnTo>
                <a:lnTo>
                  <a:pt x="147" y="181"/>
                </a:lnTo>
                <a:lnTo>
                  <a:pt x="118" y="193"/>
                </a:lnTo>
                <a:lnTo>
                  <a:pt x="100" y="211"/>
                </a:lnTo>
                <a:lnTo>
                  <a:pt x="88" y="228"/>
                </a:lnTo>
                <a:lnTo>
                  <a:pt x="88" y="240"/>
                </a:lnTo>
                <a:lnTo>
                  <a:pt x="76" y="257"/>
                </a:lnTo>
                <a:lnTo>
                  <a:pt x="76" y="269"/>
                </a:lnTo>
                <a:lnTo>
                  <a:pt x="71" y="275"/>
                </a:lnTo>
                <a:lnTo>
                  <a:pt x="59" y="281"/>
                </a:lnTo>
                <a:lnTo>
                  <a:pt x="53" y="287"/>
                </a:lnTo>
                <a:lnTo>
                  <a:pt x="47" y="293"/>
                </a:lnTo>
                <a:lnTo>
                  <a:pt x="41" y="298"/>
                </a:lnTo>
                <a:lnTo>
                  <a:pt x="35" y="298"/>
                </a:lnTo>
                <a:lnTo>
                  <a:pt x="29" y="304"/>
                </a:lnTo>
                <a:lnTo>
                  <a:pt x="18" y="304"/>
                </a:lnTo>
                <a:lnTo>
                  <a:pt x="12" y="304"/>
                </a:lnTo>
                <a:lnTo>
                  <a:pt x="6" y="298"/>
                </a:lnTo>
                <a:lnTo>
                  <a:pt x="0" y="293"/>
                </a:lnTo>
                <a:lnTo>
                  <a:pt x="0" y="287"/>
                </a:lnTo>
                <a:lnTo>
                  <a:pt x="0" y="281"/>
                </a:lnTo>
                <a:lnTo>
                  <a:pt x="0" y="275"/>
                </a:lnTo>
                <a:lnTo>
                  <a:pt x="0" y="246"/>
                </a:lnTo>
                <a:lnTo>
                  <a:pt x="0" y="234"/>
                </a:lnTo>
                <a:lnTo>
                  <a:pt x="0" y="228"/>
                </a:lnTo>
                <a:lnTo>
                  <a:pt x="0" y="146"/>
                </a:lnTo>
                <a:lnTo>
                  <a:pt x="0" y="94"/>
                </a:lnTo>
                <a:lnTo>
                  <a:pt x="0" y="58"/>
                </a:lnTo>
                <a:lnTo>
                  <a:pt x="0" y="41"/>
                </a:lnTo>
                <a:lnTo>
                  <a:pt x="0" y="35"/>
                </a:lnTo>
                <a:lnTo>
                  <a:pt x="0" y="23"/>
                </a:lnTo>
                <a:lnTo>
                  <a:pt x="6" y="12"/>
                </a:lnTo>
                <a:lnTo>
                  <a:pt x="18" y="6"/>
                </a:lnTo>
                <a:lnTo>
                  <a:pt x="29" y="0"/>
                </a:lnTo>
                <a:lnTo>
                  <a:pt x="224" y="0"/>
                </a:lnTo>
                <a:close/>
              </a:path>
            </a:pathLst>
          </a:cu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Picture 7" descr=""/>
          <p:cNvPicPr/>
          <p:nvPr/>
        </p:nvPicPr>
        <p:blipFill>
          <a:blip r:embed="rId1"/>
          <a:stretch/>
        </p:blipFill>
        <p:spPr>
          <a:xfrm>
            <a:off x="485640" y="2308320"/>
            <a:ext cx="822600" cy="795240"/>
          </a:xfrm>
          <a:prstGeom prst="rect">
            <a:avLst/>
          </a:prstGeom>
          <a:ln w="0">
            <a:noFill/>
          </a:ln>
        </p:spPr>
      </p:pic>
      <p:sp>
        <p:nvSpPr>
          <p:cNvPr id="658" name="Oval 8"/>
          <p:cNvSpPr/>
          <p:nvPr/>
        </p:nvSpPr>
        <p:spPr>
          <a:xfrm>
            <a:off x="2122560" y="2286000"/>
            <a:ext cx="815760" cy="81612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Freeform 9"/>
          <p:cNvSpPr/>
          <p:nvPr/>
        </p:nvSpPr>
        <p:spPr>
          <a:xfrm>
            <a:off x="1960560" y="2155680"/>
            <a:ext cx="1143000" cy="1143000"/>
          </a:xfrm>
          <a:custGeom>
            <a:avLst/>
            <a:gdLst>
              <a:gd name="textAreaLeft" fmla="*/ 0 w 1143000"/>
              <a:gd name="textAreaRight" fmla="*/ 114300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10" descr=""/>
          <p:cNvPicPr/>
          <p:nvPr/>
        </p:nvPicPr>
        <p:blipFill>
          <a:blip r:embed="rId2"/>
          <a:stretch/>
        </p:blipFill>
        <p:spPr>
          <a:xfrm>
            <a:off x="1541520" y="4330800"/>
            <a:ext cx="1722240" cy="105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816120" y="1468440"/>
            <a:ext cx="7673760" cy="473544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3"/>
          <p:cNvSpPr/>
          <p:nvPr/>
        </p:nvSpPr>
        <p:spPr>
          <a:xfrm>
            <a:off x="816120" y="65412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Formato de imagen vectoria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2"/>
          <p:cNvSpPr/>
          <p:nvPr/>
        </p:nvSpPr>
        <p:spPr>
          <a:xfrm>
            <a:off x="816120" y="2122560"/>
            <a:ext cx="800100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de Selección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9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2286000" y="0"/>
            <a:ext cx="469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2"/>
          <p:cNvSpPr/>
          <p:nvPr/>
        </p:nvSpPr>
        <p:spPr>
          <a:xfrm>
            <a:off x="816120" y="2122560"/>
            <a:ext cx="800100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Para cortar y crear sectore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0" y="39600"/>
            <a:ext cx="9213840" cy="68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2184480" y="0"/>
            <a:ext cx="4998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2"/>
          <p:cNvSpPr/>
          <p:nvPr/>
        </p:nvSpPr>
        <p:spPr>
          <a:xfrm>
            <a:off x="816120" y="2122560"/>
            <a:ext cx="800100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de Retoque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"/>
          <p:cNvPicPr/>
          <p:nvPr/>
        </p:nvPicPr>
        <p:blipFill>
          <a:blip r:embed="rId1"/>
          <a:stretch/>
        </p:blipFill>
        <p:spPr>
          <a:xfrm>
            <a:off x="1692360" y="609480"/>
            <a:ext cx="575784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0" y="-163440"/>
            <a:ext cx="9144000" cy="70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2286000" y="0"/>
            <a:ext cx="4722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2"/>
          <p:cNvSpPr/>
          <p:nvPr/>
        </p:nvSpPr>
        <p:spPr>
          <a:xfrm>
            <a:off x="816120" y="2122560"/>
            <a:ext cx="800100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de Pintura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d58"/>
                </a:solidFill>
                <a:latin typeface="Arial"/>
              </a:rPr>
              <a:t>Historia Photoshop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684360" y="1773360"/>
          <a:ext cx="7775280" cy="4297320"/>
        </p:xfrm>
        <a:graphic>
          <a:graphicData uri="http://schemas.openxmlformats.org/drawingml/2006/table">
            <a:tbl>
              <a:tblPr/>
              <a:tblGrid>
                <a:gridCol w="792000"/>
                <a:gridCol w="1150920"/>
                <a:gridCol w="1584360"/>
                <a:gridCol w="4248000"/>
              </a:tblGrid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s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tafor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 de lanzamien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mbios signifi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rero de 19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io de 199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ción de los Paths permitiendo diseño vecto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40">
                <a:tc rowSpan="2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tas tabladas(Tabbed Palettes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s (layers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ows, IRI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iembre de 199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iembre de 1996 - Agosto de 19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s de ajuste (Adjustment Layers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s de letra que pueden ser editadas (en las versiones anteriores, el texto era convertido para el formato imagen ráster después de introducido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o de 19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hacer múltiplo (Multiple Undo) a través de la paleta "histórico" (History Palette), anteriormente sólo permitía 1 deshacer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 del color (color Management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paquete del programa incluye el Adobe ImageRead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raer (Extract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guras geométricas vectorial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iembre de 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Healing Brush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tro Liquif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Picture 2" descr=""/>
          <p:cNvPicPr/>
          <p:nvPr/>
        </p:nvPicPr>
        <p:blipFill>
          <a:blip r:embed="rId1"/>
          <a:stretch/>
        </p:blipFill>
        <p:spPr>
          <a:xfrm>
            <a:off x="2611440" y="0"/>
            <a:ext cx="4092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2"/>
          <p:cNvSpPr/>
          <p:nvPr/>
        </p:nvSpPr>
        <p:spPr>
          <a:xfrm>
            <a:off x="816120" y="2122560"/>
            <a:ext cx="800100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de Dibujo y Texto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97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2"/>
          <p:cNvSpPr/>
          <p:nvPr/>
        </p:nvSpPr>
        <p:spPr>
          <a:xfrm>
            <a:off x="816120" y="2122560"/>
            <a:ext cx="800100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de Notas, Medidas y Navegación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684360" y="198360"/>
          <a:ext cx="7991280" cy="6035760"/>
        </p:xfrm>
        <a:graphic>
          <a:graphicData uri="http://schemas.openxmlformats.org/drawingml/2006/table">
            <a:tbl>
              <a:tblPr/>
              <a:tblGrid>
                <a:gridCol w="814320"/>
                <a:gridCol w="1035000"/>
                <a:gridCol w="1776240"/>
                <a:gridCol w="4365720"/>
              </a:tblGrid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s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tafor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 de lanzamien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mbios signifi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zo de 20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o totalmente vecto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Healing Brush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evo "motor" de pintura (painting engine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gin opcional "Camera RAW 1.x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 (8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ubre de 20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gin "Camera RAW 2.x" incluido de raíz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ando "Sombras/Iluminaciones" (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dow/Highlight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ando corresponder/igualar a la color (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 Colour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tro 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s flare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grama en tiempo-real (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-Time Histogram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tema para detectar automáticamente la impresión de imágenes digitalizadas de algunos tipos de papel-moneda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70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2 (9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ril de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gin "Camera RAW 3.x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rt Object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age Warp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t healing brush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de reducción del efecto de los "ojos rojos" (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-Eye tool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tro 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s Correction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rt Sharpen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nto de fuga (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nishing Point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 mejorada de la memoria RAM en Macintosh de 64-bits a correr Mac OS X 10.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porte a 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dynamic range imaging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tro 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pe Blur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3 (10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ril de 2007 (versión definitiva. Hubo un Beta público desde enero de 200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 versiones: una básica y una extendid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tros no destructivo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porte para Zoomif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porte para 3D y Video (sólo la versión Extended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joras en la herramienta 'Vanishing Point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684360" y="326880"/>
          <a:ext cx="7775280" cy="6218280"/>
        </p:xfrm>
        <a:graphic>
          <a:graphicData uri="http://schemas.openxmlformats.org/drawingml/2006/table">
            <a:tbl>
              <a:tblPr/>
              <a:tblGrid>
                <a:gridCol w="792000"/>
                <a:gridCol w="1008000"/>
                <a:gridCol w="1656000"/>
                <a:gridCol w="4319280"/>
              </a:tblGrid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s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tafor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 de lanzamien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mbios signifi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zo 27 de 20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7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4 (11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iembre 23 de 2008 (versión definitiva. Hubo una Beta pública desde mayo de 2008)</a:t>
                      </a:r>
                      <a:r>
                        <a:rPr b="0" lang="es-ES" sz="1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[1]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 versiones: una básica y una extendid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calar según contenid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de rotar lienzo en tiempo re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jora en las herramientas de 3d (sólo para la versión Extended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el de ajust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el de máscara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porte para procesadores de 64 bits sólo para Windows. Mac OS deberá esperar al CS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94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5 (12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ril 12 de 20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 versiones: una básica y una extendid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ásic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nulado añadido en Adobe Camera Raw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ción de objetivo automátic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de enderezamiento de image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ñeta posterior al recor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nología de márgenes de selección más re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ontaminación de color para las seleccio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s de selección y perfeccionamiento de máscara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leno según el contenid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ncel mezclado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ntas de cerda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ormación de posición lib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obe Mini Bridg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obe CS Review, parte de los servicios en línea de Adobe CS Liv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gar en context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did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nología de márgenes de selección más re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d58"/>
                </a:solidFill>
                <a:latin typeface="Arial"/>
              </a:rPr>
              <a:t>En Síntesis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pic>
        <p:nvPicPr>
          <p:cNvPr id="599" name="Picture 4" descr="vector_vs_bitmap_by_indaLone"/>
          <p:cNvPicPr/>
          <p:nvPr/>
        </p:nvPicPr>
        <p:blipFill>
          <a:blip r:embed="rId1"/>
          <a:stretch/>
        </p:blipFill>
        <p:spPr>
          <a:xfrm>
            <a:off x="279360" y="1773360"/>
            <a:ext cx="3429000" cy="25444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"/>
          <p:cNvPicPr/>
          <p:nvPr/>
        </p:nvPicPr>
        <p:blipFill>
          <a:blip r:embed="rId2"/>
          <a:stretch/>
        </p:blipFill>
        <p:spPr>
          <a:xfrm>
            <a:off x="3703680" y="1773360"/>
            <a:ext cx="3747960" cy="25574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"/>
          <p:cNvPicPr/>
          <p:nvPr/>
        </p:nvPicPr>
        <p:blipFill>
          <a:blip r:embed="rId3"/>
          <a:stretch/>
        </p:blipFill>
        <p:spPr>
          <a:xfrm>
            <a:off x="1835280" y="4302000"/>
            <a:ext cx="36558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2"/>
          <p:cNvSpPr/>
          <p:nvPr/>
        </p:nvSpPr>
        <p:spPr>
          <a:xfrm>
            <a:off x="684360" y="1557360"/>
            <a:ext cx="8001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(picture elem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Un píxel no tiene una medida concret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no se puede decir si mide 1 mm. o 1 cm. o 1 m., simplemente es la medida de división de una retícula en celdill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3" descr=""/>
          <p:cNvPicPr/>
          <p:nvPr/>
        </p:nvPicPr>
        <p:blipFill>
          <a:blip r:embed="rId1"/>
          <a:stretch/>
        </p:blipFill>
        <p:spPr>
          <a:xfrm>
            <a:off x="-49320" y="3803760"/>
            <a:ext cx="9229680" cy="25048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íxel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2"/>
          <p:cNvSpPr/>
          <p:nvPr/>
        </p:nvSpPr>
        <p:spPr>
          <a:xfrm>
            <a:off x="654120" y="1698480"/>
            <a:ext cx="2938320" cy="39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</a:rPr>
              <a:t>Cada píxel solamente puede ser de un color, cuando decimos que una imagen es de 256 colores, queremos decir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3591000" y="1690560"/>
            <a:ext cx="5127480" cy="369900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4"/>
          <p:cNvSpPr/>
          <p:nvPr/>
        </p:nvSpPr>
        <p:spPr>
          <a:xfrm>
            <a:off x="630360" y="5438880"/>
            <a:ext cx="74041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</a:rPr>
              <a:t>que cada píxel puede tomar uno de esos 256 color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654120" y="816120"/>
            <a:ext cx="1631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9:16:30Z</dcterms:created>
  <dc:creator>ehamuy</dc:creator>
  <dc:description/>
  <dc:language>en-US</dc:language>
  <cp:lastModifiedBy>alumnosc13</cp:lastModifiedBy>
  <dcterms:modified xsi:type="dcterms:W3CDTF">2011-04-11T22:57:31Z</dcterms:modified>
  <cp:revision>11</cp:revision>
  <dc:subject/>
  <dc:title>Historia Photoshop</dc:title>
</cp:coreProperties>
</file>