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3581E-3BA8-47DE-9A31-FD9A0302C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7453B-0DE7-4B91-B139-21E3F6465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2D6A3-65A9-4C40-A066-2C8AFAD44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9D2FA-FC8C-4A0E-9AF2-DF1CF52FE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A86E4-C59D-4183-AFD4-0FA7DB2F9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D90CF-D043-4FCF-9B64-8C95E00AE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8FB40-6AB3-4AA1-BCDC-BF82A7DB3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CFB8A-829D-4DAD-8361-949D54087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794F0-35B0-4136-AF7F-4FFDF4F91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7FE76-65E9-4D17-974F-409581886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2ABCF-C4F0-412C-8194-0029AF768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319B2-FA6A-43B2-9A83-62910D261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CDC12-4BF7-41BE-8C6C-BD10DFE67CAA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4468" t="2763" r="2874" b="13043"/>
          <a:stretch/>
        </p:blipFill>
        <p:spPr>
          <a:xfrm>
            <a:off x="0" y="765000"/>
            <a:ext cx="7236000" cy="51692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26920" y="1387440"/>
            <a:ext cx="7345440" cy="10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RANSFORMACION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JERCICIOS RESUEL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47628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G E O M E T R Í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6380280"/>
            <a:ext cx="763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 R O F ES O R A:  M I R T H A   P A L L A R É S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 Y U D A N T E : E L I S A B E T H   A V A L O S.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68360" y="6093000"/>
            <a:ext cx="842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 N I V E R S I D A D  D E   C H I L E.    F A C U L T A D    D E   A R Q U I T E C T U R A   Y   U R B A N I S M O.   P R I M E R   A Ñ O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03640" y="549360"/>
            <a:ext cx="763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ICLO I.  TEORÍA DE LAS TRANSFORMACION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95280" y="47628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G E O M E T R Í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203640" y="549360"/>
            <a:ext cx="763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ICLO I.  TEORÍA DE LAS TRANSFORMACION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68360" y="6380280"/>
            <a:ext cx="763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 R O F ES O R A:  M I R T H A   P A L L A R É S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 Y U D A N T E : E L I S A B E T H   A V A L O S.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8360" y="6093000"/>
            <a:ext cx="842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 N I V E R S I D A D  D E   C H I L E.    F A C U L T A D    D E   A R Q U I T E C T U R A   Y   U R B A N I S M O.   P R I M E R   A Ñ O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504800"/>
            <a:ext cx="734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JERCICIO 5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900000" y="2060640"/>
            <a:ext cx="7345440" cy="20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ado un cuadrado ABCD de lado 3 cm., se pide determinar la transform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T= (T4T2T3T2T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Siendo T1=H(Oi,2)     T2=R(Oi,45º)    T3=T(Ai,Ci)   T4=H(Oi, 0,5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onde O es el centro del cuadrado, AB es el lado del cuadrado; i es subíndice de la última transformació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987640" y="2637000"/>
            <a:ext cx="2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rcRect l="4468" t="2763" r="2874" b="13043"/>
          <a:stretch/>
        </p:blipFill>
        <p:spPr>
          <a:xfrm>
            <a:off x="0" y="907920"/>
            <a:ext cx="7236000" cy="50263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826920" y="1387440"/>
            <a:ext cx="7345440" cy="10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RANSFORMACION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JERCICIOS PARA DESARROLLAR EN CL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95280" y="47628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G E O M E T R Í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6380280"/>
            <a:ext cx="763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 R O F ES O R A:  M I R T H A   P A L L A R É S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 Y U D A N T E : E L I S A B E T H   A V A L O S.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6093000"/>
            <a:ext cx="842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 N I V E R S I D A D  D E   C H I L E.    F A C U L T A D    D E   A R Q U I T E C T U R A   Y   U R B A N I S M O.   P R I M E R   A Ñ O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03640" y="549360"/>
            <a:ext cx="763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ICLO I.  TEORÍA DE LAS TRANSFORMACION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95280" y="47628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G E O M E T R Í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68360" y="6380280"/>
            <a:ext cx="763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 R O F ES O R A:  M I R T H A   P A L L A R É S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 Y U D A N T E : E L I S A B E T H   A V A L O S.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68360" y="6093000"/>
            <a:ext cx="842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 N I V E R S I D A D  D E   C H I L E.    F A C U L T A D    D E   A R Q U I T E C T U R A   Y   U R B A N I S M O.   P R I M E R   A Ñ O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3640" y="549360"/>
            <a:ext cx="763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ICLO I.  TEORÍA DE LAS TRANSFORMACION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116000" y="5013360"/>
            <a:ext cx="288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so 1: PENS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0" y="2060640"/>
          <a:ext cx="9144000" cy="254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60640"/>
                    <a:ext cx="9144000" cy="254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95280" y="47628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G E O M E T R Í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68360" y="6380280"/>
            <a:ext cx="763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 R O F ES O R A:  M I R T H A   P A L L A R É S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 Y U D A N T E : E L I S A B E T H   A V A L O S.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68360" y="6093000"/>
            <a:ext cx="842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 N I V E R S I D A D  D E   C H I L E.    F A C U L T A D    D E   A R Q U I T E C T U R A   Y   U R B A N I S M O.   P R I M E R   A Ñ O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203640" y="549360"/>
            <a:ext cx="763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ICLO I.  TEORÍA DE LAS TRANSFORMACION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116000" y="5013360"/>
            <a:ext cx="288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so 1: PENS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324000" y="1557360"/>
          <a:ext cx="8280360" cy="2957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557360"/>
                    <a:ext cx="8280360" cy="29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95280" y="47628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G E O M E T R Í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68360" y="6380280"/>
            <a:ext cx="763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 R O F ES O R A:  M I R T H A   P A L L A R É S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 Y U D A N T E : E L I S A B E T H   A V A L O S.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68360" y="6093000"/>
            <a:ext cx="842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 N I V E R S I D A D  D E   C H I L E.    F A C U L T A D    D E   A R Q U I T E C T U R A   Y   U R B A N I S M O.   P R I M E R   A Ñ O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203640" y="549360"/>
            <a:ext cx="763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ICLO I.  TEORÍA DE LAS TRANSFORMACION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116000" y="5315040"/>
            <a:ext cx="288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so 1: PENS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73080" y="1197000"/>
          <a:ext cx="8531280" cy="408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080" y="1197000"/>
                    <a:ext cx="8531280" cy="408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95280" y="47628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G E O M E T R Í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68360" y="6380280"/>
            <a:ext cx="763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 R O F ES O R A:  M I R T H A   P A L L A R É S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 Y U D A N T E : E L I S A B E T H   A V A L O S.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68360" y="6093000"/>
            <a:ext cx="842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 N I V E R S I D A D  D E   C H I L E.    F A C U L T A D    D E   A R Q U I T E C T U R A   Y   U R B A N I S M O.   P R I M E R   A Ñ O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203640" y="549360"/>
            <a:ext cx="763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ICLO I.  TEORÍA DE LAS TRANSFORMACION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116000" y="5315040"/>
            <a:ext cx="288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so 1: PENS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755640" y="1111320"/>
          <a:ext cx="7632720" cy="41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1111320"/>
                    <a:ext cx="7632720" cy="41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95280" y="47628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G E O M E T R Í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68360" y="6380280"/>
            <a:ext cx="763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 R O F ES O R A:  M I R T H A   P A L L A R É S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 Y U D A N T E : E L I S A B E T H   A V A L O S.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68360" y="6093000"/>
            <a:ext cx="842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 N I V E R S I D A D  D E   C H I L E.    F A C U L T A D    D E   A R Q U I T E C T U R A   Y   U R B A N I S M O.   P R I M E R   A Ñ O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203640" y="549360"/>
            <a:ext cx="763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ICLO I.  TEORÍA DE LAS TRANSFORMACION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116000" y="5602320"/>
            <a:ext cx="288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so 1: PENS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755640" y="1268280"/>
          <a:ext cx="7632720" cy="4351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1268280"/>
                    <a:ext cx="7632720" cy="435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5280" y="47628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G E O M E T R Í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68360" y="6380280"/>
            <a:ext cx="763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 R O F ES O R A:  M I R T H A   P A L L A R É S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 Y U D A N T E : E L I S A B E T H   A V A L O S.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68360" y="6093000"/>
            <a:ext cx="842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 N I V E R S I D A D  D E   C H I L E.    F A C U L T A D    D E   A R Q U I T E C T U R A   Y   U R B A N I S M O.   P R I M E R   A Ñ O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203640" y="549360"/>
            <a:ext cx="763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ICLO I.  TEORÍA DE LAS TRANSFORMACION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116000" y="5602320"/>
            <a:ext cx="288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so 1: PENS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612720" y="1171440"/>
          <a:ext cx="8207280" cy="420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2720" y="1171440"/>
                    <a:ext cx="8207280" cy="420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95280" y="47628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G E O M E T R Í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68360" y="6380280"/>
            <a:ext cx="763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 R O F ES O R A:  M I R T H A   P A L L A R É S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 Y U D A N T E : E L I S A B E T H   A V A L O S.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68360" y="6093000"/>
            <a:ext cx="842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 N I V E R S I D A D  D E   C H I L E.    F A C U L T A D    D E   A R Q U I T E C T U R A   Y   U R B A N I S M O.   P R I M E R   A Ñ O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203640" y="549360"/>
            <a:ext cx="763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ICLO I.  TEORÍA DE LAS TRANSFORMACION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116000" y="5602320"/>
            <a:ext cx="288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so 1: PENS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34920" y="1224000"/>
          <a:ext cx="8893080" cy="4076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920" y="1224000"/>
                    <a:ext cx="8893080" cy="407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95280" y="47628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G E O M E T R Í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68360" y="6380280"/>
            <a:ext cx="763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 R O F ES O R A:  M I R T H A   P A L L A R É S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 Y U D A N T E : E L I S A B E T H   A V A L O S.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68360" y="6093000"/>
            <a:ext cx="842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 N I V E R S I D A D  D E   C H I L E.    F A C U L T A D    D E   A R Q U I T E C T U R A   Y   U R B A N I S M O.   P R I M E R   A Ñ O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203640" y="549360"/>
            <a:ext cx="763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ICLO I.  TEORÍA DE LAS TRANSFORMACION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116000" y="5602320"/>
            <a:ext cx="288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so 1: PENS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7" name=""/>
          <p:cNvGraphicFramePr/>
          <p:nvPr/>
        </p:nvGraphicFramePr>
        <p:xfrm>
          <a:off x="-36360" y="1052640"/>
          <a:ext cx="9109080" cy="433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6360" y="1052640"/>
                    <a:ext cx="9109080" cy="433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900000" y="2060640"/>
            <a:ext cx="7345440" cy="20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ado un cuadrado ABCD de lado 4 cm., se pide determinar la transform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T= (T2 T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Siendo T1=R(Oi,45º)     T2=T(Bi,D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onde O es el centro del cuadrado, AB es el lado del cuadrado; i es subíndice de la última transformació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898560" y="1504800"/>
            <a:ext cx="734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JERCICIO 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47628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G E O M E T R Í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03640" y="549360"/>
            <a:ext cx="763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ICLO I.  TEORÍA DE LAS TRANSFORMACION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8360" y="6380280"/>
            <a:ext cx="763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 R O F ES O R A:  M I R T H A   P A L L A R É S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 Y U D A N T E : E L I S A B E T H   A V A L O S.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6093000"/>
            <a:ext cx="842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 N I V E R S I D A D  D E   C H I L E.    F A C U L T A D    D E   A R Q U I T E C T U R A   Y   U R B A N I S M O.   P R I M E R   A Ñ O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124000" y="2679840"/>
            <a:ext cx="289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95280" y="47628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G E O M E T R Í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03640" y="549360"/>
            <a:ext cx="763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ICLO I.  TEORÍA DE LAS TRANSFORMACION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6380280"/>
            <a:ext cx="763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 R O F ES O R A:  M I R T H A   P A L L A R É S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 Y U D A N T E : E L I S A B E T H   A V A L O S.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68360" y="6093000"/>
            <a:ext cx="842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 N I V E R S I D A D  D E   C H I L E.    F A C U L T A D    D E   A R Q U I T E C T U R A   Y   U R B A N I S M O.   P R I M E R   A Ñ O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2050920" y="1052640"/>
          <a:ext cx="4969080" cy="485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0920" y="1052640"/>
                    <a:ext cx="4969080" cy="485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95280" y="47628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G E O M E T R Í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03640" y="549360"/>
            <a:ext cx="763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ICLO I.  TEORÍA DE LAS TRANSFORMACION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6380280"/>
            <a:ext cx="763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 R O F ES O R A:  M I R T H A   P A L L A R É S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 Y U D A N T E : E L I S A B E T H   A V A L O S.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68360" y="6093000"/>
            <a:ext cx="842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 N I V E R S I D A D  D E   C H I L E.    F A C U L T A D    D E   A R Q U I T E C T U R A   Y   U R B A N I S M O.   P R I M E R   A Ñ O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98560" y="1504800"/>
            <a:ext cx="734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JERCICIO 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900000" y="2060640"/>
            <a:ext cx="7345440" cy="20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ado un cuadrado ABCD de lado 2 cm., se pide determinar la transform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T= (T2 T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Siendo T1=H(A,1,5)     T2=R(A,45º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onde O es el centro del cuadrado, AB es el lado del cuadrado; i es subíndice de la última transformació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24000" y="2679840"/>
            <a:ext cx="289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47628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G E O M E T R Í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203640" y="549360"/>
            <a:ext cx="763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ICLO I.  TEORÍA DE LAS TRANSFORMACION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68360" y="6380280"/>
            <a:ext cx="763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 R O F ES O R A:  M I R T H A   P A L L A R É S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 Y U D A N T E : E L I S A B E T H   A V A L O S.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6093000"/>
            <a:ext cx="842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 N I V E R S I D A D  D E   C H I L E.    F A C U L T A D    D E   A R Q U I T E C T U R A   Y   U R B A N I S M O.   P R I M E R   A Ñ O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403280" y="981000"/>
            <a:ext cx="5689800" cy="48006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1692360" y="1700280"/>
            <a:ext cx="863640" cy="79200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932360" y="4869000"/>
            <a:ext cx="863640" cy="79200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95280" y="47628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G E O M E T R Í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03640" y="549360"/>
            <a:ext cx="763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ICLO I.  TEORÍA DE LAS TRANSFORMACION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68360" y="6380280"/>
            <a:ext cx="763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 R O F ES O R A:  M I R T H A   P A L L A R É S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 Y U D A N T E : E L I S A B E T H   A V A L O S.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68360" y="6093000"/>
            <a:ext cx="842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 N I V E R S I D A D  D E   C H I L E.    F A C U L T A D    D E   A R Q U I T E C T U R A   Y   U R B A N I S M O.   P R I M E R   A Ñ O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00000" y="1504800"/>
            <a:ext cx="734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JERCICIO 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900000" y="2060640"/>
            <a:ext cx="7345440" cy="20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ado un cuadrado ABCD de lado 3 cm., se pide determinar la transform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T= (T4 (T3)  T2 (T1)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Siendo T1=H(Bi,2)     T2=R(Bi)    T3=H(Di,-0,5)   T4=R(Bi,-45º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onde O es el centro del cuadrado, AB es el lado del cuadrado; i es subíndice de la última transformació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95640" y="2708280"/>
            <a:ext cx="28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130560" y="2708280"/>
            <a:ext cx="2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348000" y="2708280"/>
            <a:ext cx="2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95280" y="47628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G E O M E T R Í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203640" y="549360"/>
            <a:ext cx="763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ICLO I.  TEORÍA DE LAS TRANSFORMACION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68360" y="6380280"/>
            <a:ext cx="763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 R O F ES O R A:  M I R T H A   P A L L A R É S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 Y U D A N T E : E L I S A B E T H   A V A L O S.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68360" y="6093000"/>
            <a:ext cx="842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 N I V E R S I D A D  D E   C H I L E.    F A C U L T A D    D E   A R Q U I T E C T U R A   Y   U R B A N I S M O.   P R I M E R   A Ñ O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1116000" y="914400"/>
          <a:ext cx="6624720" cy="500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914400"/>
                    <a:ext cx="6624720" cy="500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95280" y="47628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G E O M E T R Í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203640" y="549360"/>
            <a:ext cx="763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ICLO I.  TEORÍA DE LAS TRANSFORMACION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68360" y="6380280"/>
            <a:ext cx="763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 R O F ES O R A:  M I R T H A   P A L L A R É S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 Y U D A N T E : E L I S A B E T H   A V A L O S.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68360" y="6093000"/>
            <a:ext cx="842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 N I V E R S I D A D  D E   C H I L E.    F A C U L T A D    D E   A R Q U I T E C T U R A   Y   U R B A N I S M O.   P R I M E R   A Ñ O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900000" y="1504800"/>
            <a:ext cx="734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JERCICIO 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900000" y="2060640"/>
            <a:ext cx="7345440" cy="20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ado un pentágono ABCDE de lado 4 cm., se pide determinar la transform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T= T4((T3)  T2(T1)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Siendo T1=H(Ai,2)     T2=R(Ai)    T3=H(Ai, 0,5)   T4=R(Ai,90º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onde A es un vértice del pentágono, AB es el lado del pentágono; i es subíndice de la última transformació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987640" y="2708280"/>
            <a:ext cx="2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122560" y="2708280"/>
            <a:ext cx="28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203640" y="2708280"/>
            <a:ext cx="28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95280" y="47628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G E O M E T R Í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3640" y="549360"/>
            <a:ext cx="763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ICLO I.  TEORÍA DE LAS TRANSFORMACION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68360" y="6380280"/>
            <a:ext cx="763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 R O F ES O R A:  M I R T H A   P A L L A R É S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 Y U D A N T E : E L I S A B E T H   A V A L O S.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68360" y="6093000"/>
            <a:ext cx="842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 N I V E R S I D A D  D E   C H I L E.    F A C U L T A D    D E   A R Q U I T E C T U R A   Y   U R B A N I S M O.   P R I M E R   A Ñ O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1619280" y="907920"/>
          <a:ext cx="5400720" cy="505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9280" y="907920"/>
                    <a:ext cx="5400720" cy="505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0T13:28:16Z</dcterms:created>
  <dc:creator>Beth</dc:creator>
  <dc:description/>
  <dc:language>en-US</dc:language>
  <cp:lastModifiedBy>benjamin</cp:lastModifiedBy>
  <dcterms:modified xsi:type="dcterms:W3CDTF">2009-04-21T23:49:39Z</dcterms:modified>
  <cp:revision>116</cp:revision>
  <dc:subject/>
  <dc:title>Diapositiva 1</dc:title>
</cp:coreProperties>
</file>