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504-863E-4D14-8F82-000D1F1E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01A-C071-42A4-81A1-F10672BB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5FE-6411-401C-8F65-50EC5C1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2C7-D2A1-496A-A074-3778327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04B-21D7-40CC-8365-4BF1E5C1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43-B625-4634-88A4-40FF20C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0F2-0B5F-4081-BD20-A39097CE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164-0F0A-4B77-8330-7F0E78DA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F05-82F8-4FD3-B882-8E19B9A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5F7-A39C-437D-80A3-2047962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6C5-A5AA-4577-8BCA-074A9FA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A41-D186-4345-9004-681C4F4F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CCA-85D1-449C-A787-76A53E89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56720" cy="547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580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2:17:36Z</dcterms:created>
  <dc:creator>benja</dc:creator>
  <dc:description/>
  <dc:language>en-US</dc:language>
  <cp:lastModifiedBy>benja</cp:lastModifiedBy>
  <dcterms:modified xsi:type="dcterms:W3CDTF">2008-04-18T02:17:56Z</dcterms:modified>
  <cp:revision>1</cp:revision>
  <dc:subject/>
  <dc:title>Diapositiva 1</dc:title>
</cp:coreProperties>
</file>