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A3E-EDDD-46CA-8CC2-C9AE10F7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4BE-DB63-44D6-BB1B-899ABD83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814-6C93-4F64-ACC8-8BBDD677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3FB-4EF2-443C-B853-461497C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AB4-0713-4CC3-8F35-7DEE5B45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6AB-1C0D-4F71-AB41-616497A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B1A-768B-4D85-83E0-D398B41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6BF-BC0B-42BF-8A8D-31585215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77E-9976-44C4-BCE6-4EE8B0C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646-AD51-48ED-83AC-843D5BB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DF4-E87C-435E-9601-4C98E81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F38-8849-49DB-A4BC-B817AB60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CD5-4951-4B2A-8C6F-6EEF683A28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765000"/>
            <a:ext cx="7236000" cy="51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RE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T2T3T2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Oi,2)     T2=R(Oi,45º)    T3=T(Ai,Ci)   T4=H(Oi, 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907920"/>
            <a:ext cx="7236000" cy="5026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PARA DESARROLLAR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060640"/>
          <a:ext cx="9144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9144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557360"/>
          <a:ext cx="828036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2803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3080" y="1197000"/>
          <a:ext cx="853128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197000"/>
                    <a:ext cx="85312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5640" y="1111320"/>
          <a:ext cx="76327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11320"/>
                    <a:ext cx="76327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268280"/>
          <a:ext cx="76327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6327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2720" y="1171440"/>
          <a:ext cx="8207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171440"/>
                    <a:ext cx="8207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920" y="1224000"/>
          <a:ext cx="8893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24000"/>
                    <a:ext cx="8893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36360" y="1052640"/>
          <a:ext cx="91090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52640"/>
                    <a:ext cx="91090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R(Oi,45º)     T2=T(Bi,D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0920" y="1052640"/>
          <a:ext cx="496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496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2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,1,5)     T2=R(A,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689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170028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486900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 (T3)  T2 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Bi,2)     T2=R(Bi)    T3=H(Di,-0,5)   T4=R(Bi,-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056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914400"/>
          <a:ext cx="662472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14400"/>
                    <a:ext cx="6624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pentágono ABCDE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T4((T3)  T2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i,2)     T2=R(Ai)    T3=H(Ai, 0,5)   T4=R(Ai,90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A es un vértice del pentágono, AB es el lado del pentágon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907920"/>
          <a:ext cx="540072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0072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28:16Z</dcterms:created>
  <dc:creator>Beth</dc:creator>
  <dc:description/>
  <dc:language>en-US</dc:language>
  <cp:lastModifiedBy>benjamin</cp:lastModifiedBy>
  <dcterms:modified xsi:type="dcterms:W3CDTF">2009-04-21T23:49:39Z</dcterms:modified>
  <cp:revision>116</cp:revision>
  <dc:subject/>
  <dc:title>Diapositiva 1</dc:title>
</cp:coreProperties>
</file>