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79FB-59DC-48C0-B429-CAAEE403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234A-F67B-499B-BBFE-BA761100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B5E-4E74-4D34-BE47-77C4C36D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A7CB-836D-47AA-B131-B5023B35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892E-EC6D-4184-BD3A-28B2045F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332-C23B-4255-B175-253A7DA2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9573-CA66-4937-A702-F0560B6B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977E-B47C-4872-8668-960B2985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4BC3-EC7A-4495-9BCD-36BC6DD1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A58-2EBE-43BA-8429-A74EF019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980-A009-4625-9D21-54E2DE50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1813-82D2-44DF-9E3A-A5BD99B8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1E0B-0EB0-4C28-8AB0-D116B4AFF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856720" cy="5478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163440"/>
            <a:ext cx="498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4d4d4d"/>
                </a:solidFill>
                <a:latin typeface="Arial"/>
              </a:rPr>
              <a:t>Universidad de Chile / fau / Depto. Ciencias de la Constr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d4d4d"/>
                </a:solidFill>
                <a:latin typeface="Arial"/>
              </a:rPr>
              <a:t>Prof. Titular: Mirtha Pallarés (arquitect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d4d4d"/>
                </a:solidFill>
                <a:latin typeface="Arial"/>
              </a:rPr>
              <a:t>Prof. Ayudante: Elisabeth Ávalos (arquitecto) / Benjamín Leyton (Diseñador Industri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66520" y="39852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1º año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8964720" cy="5808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9280" y="163440"/>
            <a:ext cx="498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4d4d4d"/>
                </a:solidFill>
                <a:latin typeface="Arial"/>
              </a:rPr>
              <a:t>Universidad de Chile / fau / Depto. Ciencias de la Constr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d4d4d"/>
                </a:solidFill>
                <a:latin typeface="Arial"/>
              </a:rPr>
              <a:t>Prof. Titular: Mirtha Pallarés (arquitect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d4d4d"/>
                </a:solidFill>
                <a:latin typeface="Arial"/>
              </a:rPr>
              <a:t>Prof. Ayudante: Elisabeth Ávalos (arquitecto) / Benjamín Leyton (Diseñador Industri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6520" y="39852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1º año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2:17:36Z</dcterms:created>
  <dc:creator>benja</dc:creator>
  <dc:description/>
  <dc:language>en-US</dc:language>
  <cp:lastModifiedBy>benja</cp:lastModifiedBy>
  <dcterms:modified xsi:type="dcterms:W3CDTF">2008-04-18T02:17:56Z</dcterms:modified>
  <cp:revision>1</cp:revision>
  <dc:subject/>
  <dc:title>Diapositiva 1</dc:title>
</cp:coreProperties>
</file>