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582-ABFE-4361-86AA-D5A86D8B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A89-2BC0-4F21-8C03-0F23FB5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5C4-2848-454A-86D7-2BFFBAFF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3E3-FB94-4275-AB65-72FA2D8B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9E2-5A7F-4456-8679-AEDE4D9F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3A6-BD5B-4B93-9878-19927E4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5DB-C462-4E7A-A8E1-88CFB731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9AB-B2FD-417C-AB1F-50FDB047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877-9FBE-4A6D-BA8F-99363427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504-5469-4D71-B38B-5CE74F6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36F-CA11-44F9-A84A-27884DA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F8E-E73C-4530-91E1-236E94E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14A2-880B-4D5D-99FE-4B0CE4E3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rtada" descr=""/>
          <p:cNvPicPr/>
          <p:nvPr/>
        </p:nvPicPr>
        <p:blipFill>
          <a:blip r:embed="rId1"/>
          <a:stretch/>
        </p:blipFill>
        <p:spPr>
          <a:xfrm>
            <a:off x="762120" y="868320"/>
            <a:ext cx="807696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CION DEL TABL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l%20soporte%20básico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62560" cy="36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O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ro melam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146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62120" y="228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2120" y="2514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2120" y="2743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621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dibu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743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l adhe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72000"/>
            <a:ext cx="5904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e el tablero y la hoja de dibujo se recomienda colocar un pliego de papel hilado para minimizar las deficiencias en el dibujo por causa de las irregularidades de la superficie del tab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pel adhesivo (cinta de enmascarar) evita que la hoja se desplace de manera imprevista y se perjudique el dibu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ortada" descr=""/>
          <p:cNvPicPr/>
          <p:nvPr/>
        </p:nvPicPr>
        <p:blipFill>
          <a:blip r:embed="rId1"/>
          <a:srcRect l="11143" t="8450" r="7825" b="8637"/>
          <a:stretch/>
        </p:blipFill>
        <p:spPr>
          <a:xfrm>
            <a:off x="2971800" y="129528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EGLAS Y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021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emás de estos tres elementos, se requiere de una regla graduada (mm), y eventualmente un transportador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/6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133720"/>
            <a:ext cx="2819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19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21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2362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120" y="2819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90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la 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 Regla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105520"/>
            <a:ext cx="46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aterial de la hoja y de la cabeza suele ser madera na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linear%20hoja%20con%20regla%20T" descr=""/>
          <p:cNvPicPr/>
          <p:nvPr/>
        </p:nvPicPr>
        <p:blipFill>
          <a:blip r:embed="rId1"/>
          <a:srcRect l="5708" t="13524" r="12522" b="33281"/>
          <a:stretch/>
        </p:blipFill>
        <p:spPr>
          <a:xfrm>
            <a:off x="2971800" y="23623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840" y="27432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66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hoja de la regla T debe ser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2860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cabeza de la regla T debe ser r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676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 de la regl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038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plástico transparente permite ver el dibujo a través de la reg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8095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razar%20una%20recta%20paralela%20a%20la%20cualquiera" descr=""/>
          <p:cNvPicPr/>
          <p:nvPr/>
        </p:nvPicPr>
        <p:blipFill>
          <a:blip r:embed="rId1"/>
          <a:srcRect l="0" t="14515" r="13203" b="0"/>
          <a:stretch/>
        </p:blipFill>
        <p:spPr>
          <a:xfrm>
            <a:off x="3352680" y="1981080"/>
            <a:ext cx="4600800" cy="30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21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04812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21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6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16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916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linear%20hoja%20con%20regla%20T" descr=""/>
          <p:cNvPicPr/>
          <p:nvPr/>
        </p:nvPicPr>
        <p:blipFill>
          <a:blip r:embed="rId1"/>
          <a:srcRect l="7070" t="8536" r="13203" b="10557"/>
          <a:stretch/>
        </p:blipFill>
        <p:spPr>
          <a:xfrm>
            <a:off x="3048120" y="1981080"/>
            <a:ext cx="533376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LINEACIÓ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14800"/>
            <a:ext cx="296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abeza de la regla T debe tocar completamente el borde del tabler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962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520" y="4495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523880"/>
            <a:ext cx="29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hoja de dibujo debe coincidir con el borde de plástico de la regla 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943240" y="19810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62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95288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e quedar un espacio adecuado para apoyar los brazos sin dañar la hoja de dibuj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bujar%20línea%20horizontal%20copia" descr=""/>
          <p:cNvPicPr/>
          <p:nvPr/>
        </p:nvPicPr>
        <p:blipFill>
          <a:blip r:embed="rId1"/>
          <a:stretch/>
        </p:blipFill>
        <p:spPr>
          <a:xfrm>
            <a:off x="3062160" y="1676520"/>
            <a:ext cx="6081840" cy="40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 Trazar línea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bujar%20línea%20vertical%20copia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943600" cy="430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Trazar línea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razar%20una%20recta%20cualquiera%20copia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0400" cy="2352600"/>
          </a:xfrm>
          <a:prstGeom prst="rect">
            <a:avLst/>
          </a:prstGeom>
          <a:ln w="0">
            <a:noFill/>
          </a:ln>
        </p:spPr>
      </p:pic>
      <p:pic>
        <p:nvPicPr>
          <p:cNvPr id="204" name="Trazar%20una%20recta%20paralela%20a%20la%20cualquiera%20con%20regla%20T%20copia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7692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4 Trazar línea paralela a l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3 Trazar líne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7:34Z</dcterms:created>
  <dc:creator>Elisabeth Avalos</dc:creator>
  <dc:description/>
  <dc:language>en-US</dc:language>
  <cp:lastModifiedBy>Benja</cp:lastModifiedBy>
  <dcterms:modified xsi:type="dcterms:W3CDTF">2007-03-20T15:30:09Z</dcterms:modified>
  <cp:revision>71</cp:revision>
  <dc:subject/>
  <dc:title>Diapositiva 1</dc:title>
</cp:coreProperties>
</file>