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E0F7-B37C-400B-9EBD-69202A05C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5B0C-66AA-48A7-A43B-87C37C3BD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6E3E-7705-45F1-B977-1B9F3999A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4909-53A6-4B58-9755-349187CBA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3E1A-83F0-403E-922E-DBD18A0D9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D795-FBF3-4668-A940-B83A37B39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B1AA-27F4-4E58-B685-880CD80C4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90B3-2EFF-486E-AE9D-6EEF5042F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ED8C-B70B-4E6C-91CE-C3FA4CC9D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56F0-F137-4884-A894-3BFA764DF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A443-A280-410B-9C63-7ED6AD37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0C7F-3F1E-48DB-B087-F38AD35EE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87D08-E72D-4C3B-B3C0-C45EF984A3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ortada" descr=""/>
          <p:cNvPicPr/>
          <p:nvPr/>
        </p:nvPicPr>
        <p:blipFill>
          <a:blip r:embed="rId1"/>
          <a:stretch/>
        </p:blipFill>
        <p:spPr>
          <a:xfrm>
            <a:off x="762120" y="868320"/>
            <a:ext cx="8076960" cy="5427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03640" y="549360"/>
            <a:ext cx="548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 O N A   D E   T R A B A J O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522936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PARACION DEL TABLE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34120" y="6308640"/>
            <a:ext cx="28954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 A R C E L O   V A L E N Z U E L A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 E N J A M I N   L E Y T O N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601992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19320" y="6324480"/>
            <a:ext cx="4190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P R O F E S O R E S:  M I R T H A   P A L L A R É S            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 Y U D A N T E S    : E L I S A B E T H   A V A L O S.         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9436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El%20soporte%20básico" descr=""/>
          <p:cNvPicPr/>
          <p:nvPr/>
        </p:nvPicPr>
        <p:blipFill>
          <a:blip r:embed="rId1"/>
          <a:stretch/>
        </p:blipFill>
        <p:spPr>
          <a:xfrm>
            <a:off x="3429000" y="1676520"/>
            <a:ext cx="5362560" cy="36147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126828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 SOPOR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20574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blero melamin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352680" y="2286000"/>
            <a:ext cx="1524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352680" y="2743200"/>
            <a:ext cx="12956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2514600"/>
            <a:ext cx="2286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352680" y="2971800"/>
            <a:ext cx="1600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762120" y="228600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762120" y="251460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762120" y="274320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762120" y="297180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ja de dibuj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25146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ja de apoy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27432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pel adhesiv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3640" y="549360"/>
            <a:ext cx="548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 O N A   D E   T R A B A J O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9640" y="4572000"/>
            <a:ext cx="5904000" cy="11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tre el tablero y la hoja de dibujo se recomienda colocar un pliego de papel hilado para minimizar las deficiencias en el dibujo por causa de las irregularidades de la superficie del table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 papel adhesivo (cinta de enmascarar) evita que la hoja se desplace de manera imprevista y se perjudique el dibuj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34120" y="6308640"/>
            <a:ext cx="28954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 A R C E L O   V A L E N Z U E L A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 E N J A M I N   L E Y T O N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601992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6324480"/>
            <a:ext cx="4190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P R O F E S O R E S:  M I R T H A   P A L L A R É S            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 Y U D A N T E S    : E L I S A B E T H   A V A L O S.         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59436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ortada" descr=""/>
          <p:cNvPicPr/>
          <p:nvPr/>
        </p:nvPicPr>
        <p:blipFill>
          <a:blip r:embed="rId1"/>
          <a:srcRect l="11143" t="8450" r="7825" b="8637"/>
          <a:stretch/>
        </p:blipFill>
        <p:spPr>
          <a:xfrm>
            <a:off x="2971800" y="1295280"/>
            <a:ext cx="6095880" cy="41911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8360" y="126828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 REGLAS Y ESCUAD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9640" y="5021280"/>
            <a:ext cx="590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emás de estos tres elementos, se requiere de una regla graduada (mm), y eventualmente un transportador.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3640" y="549360"/>
            <a:ext cx="548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 O N A   D E   T R A B A J O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19051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cuadra 30º/60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52680" y="2133720"/>
            <a:ext cx="28195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2362320"/>
            <a:ext cx="22860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52680" y="2819520"/>
            <a:ext cx="1600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762120" y="213372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62120" y="236232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762120" y="281952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21337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cuadra 45ª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25909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gla 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34120" y="6308640"/>
            <a:ext cx="28954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 A R C E L O   V A L E N Z U E L A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 E N J A M I N   L E Y T O N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8360" y="601992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19320" y="6324480"/>
            <a:ext cx="4190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P R O F E S O R E S:  M I R T H A   P A L L A R É S            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 Y U D A N T E S    : E L I S A B E T H   A V A L O S.         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59436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126828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1 Regla 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09880" y="5105520"/>
            <a:ext cx="46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 material de la hoja y de la cabeza suele ser madera natu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03640" y="549360"/>
            <a:ext cx="548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 O N A   D E   T R A B A J O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Alinear%20hoja%20con%20regla%20T" descr=""/>
          <p:cNvPicPr/>
          <p:nvPr/>
        </p:nvPicPr>
        <p:blipFill>
          <a:blip r:embed="rId1"/>
          <a:srcRect l="5708" t="13524" r="12522" b="33281"/>
          <a:stretch/>
        </p:blipFill>
        <p:spPr>
          <a:xfrm>
            <a:off x="2971800" y="2362320"/>
            <a:ext cx="5562720" cy="24382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895840" y="2743200"/>
            <a:ext cx="137088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2666880"/>
            <a:ext cx="2590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 borde de trabajo de la hoja de la regla T debe ser rec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181480" y="289548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90920" y="2286000"/>
            <a:ext cx="9903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52480" y="3733920"/>
            <a:ext cx="1600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5181120" y="289548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762120" y="22860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761760" y="37339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2057400"/>
            <a:ext cx="2057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 borde de trabajo de la cabeza de la regla T debe ser rec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350532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BEZ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09880" y="28954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0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81280" y="190512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7924680" y="182844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3581280" y="1828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00600" y="16765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ngitud de la regla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34120" y="34290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OJ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4038480"/>
            <a:ext cx="2362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 borde de plástico transparente permite ver el dibujo a través de la reg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5181120" y="464832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181480" y="3809520"/>
            <a:ext cx="4572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34120" y="6308640"/>
            <a:ext cx="28954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 A R C E L O   V A L E N Z U E L A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 E N J A M I N   L E Y T O N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601992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219320" y="6324480"/>
            <a:ext cx="4190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P R O F E S O R E S:  M I R T H A   P A L L A R É S            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 Y U D A N T E S    : E L I S A B E T H   A V A L O S.         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59436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126828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2 Escuad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Trazar%20una%20recta%20paralela%20a%20la%20cualquiera" descr=""/>
          <p:cNvPicPr/>
          <p:nvPr/>
        </p:nvPicPr>
        <p:blipFill>
          <a:blip r:embed="rId1"/>
          <a:srcRect l="0" t="14515" r="13203" b="0"/>
          <a:stretch/>
        </p:blipFill>
        <p:spPr>
          <a:xfrm>
            <a:off x="3352680" y="1981080"/>
            <a:ext cx="4600800" cy="30448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203640" y="549360"/>
            <a:ext cx="548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 O N A   D E   T R A B A J O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90920" y="2514600"/>
            <a:ext cx="12189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762120" y="2514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cuadra 45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90920" y="3048120"/>
            <a:ext cx="3352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762120" y="30481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8195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cuadra 30º60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57600" y="231624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5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15000" y="35053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5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162920" y="33526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0º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8098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0º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19920" y="44956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0º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38480" y="391644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90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34120" y="6308640"/>
            <a:ext cx="28954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 A R C E L O   V A L E N Z U E L A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 E N J A M I N   L E Y T O N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8360" y="601992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19320" y="6324480"/>
            <a:ext cx="4190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P R O F E S O R E S:  M I R T H A   P A L L A R É S            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 Y U D A N T E S    : E L I S A B E T H   A V A L O S.         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59436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Alinear%20hoja%20con%20regla%20T" descr=""/>
          <p:cNvPicPr/>
          <p:nvPr/>
        </p:nvPicPr>
        <p:blipFill>
          <a:blip r:embed="rId1"/>
          <a:srcRect l="7070" t="8536" r="13203" b="10557"/>
          <a:stretch/>
        </p:blipFill>
        <p:spPr>
          <a:xfrm>
            <a:off x="3048120" y="1981080"/>
            <a:ext cx="5333760" cy="36464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126828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 ALINEACIÓN PAP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4114800"/>
            <a:ext cx="296064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 cabeza de la regla T debe tocar completamente el borde del tablero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03640" y="549360"/>
            <a:ext cx="548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 O N A   D E   T R A B A J O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3581280" y="3962160"/>
            <a:ext cx="4572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533520" y="4495680"/>
            <a:ext cx="3504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09880" y="1523880"/>
            <a:ext cx="2960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 hoja de dibujo debe coincidir con el borde de plástico de la regla T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5943240" y="198108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3886200" y="19810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4876920"/>
            <a:ext cx="76320" cy="685800"/>
          </a:xfrm>
          <a:custGeom>
            <a:avLst/>
            <a:gdLst>
              <a:gd name="textAreaLeft" fmla="*/ 48960 w 76320"/>
              <a:gd name="textAreaRight" fmla="*/ 7632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48769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342864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4952880"/>
            <a:ext cx="29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be quedar un espacio adecuado para apoyar los brazos sin dañar la hoja de dibujo.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34120" y="6308640"/>
            <a:ext cx="28954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 A R C E L O   V A L E N Z U E L A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 E N J A M I N   L E Y T O N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68360" y="601992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19320" y="6324480"/>
            <a:ext cx="4190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P R O F E S O R E S:  M I R T H A   P A L L A R É S            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 Y U D A N T E S    : E L I S A B E T H   A V A L O S.         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59436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Dibujar%20línea%20horizontal%20copia" descr=""/>
          <p:cNvPicPr/>
          <p:nvPr/>
        </p:nvPicPr>
        <p:blipFill>
          <a:blip r:embed="rId1"/>
          <a:stretch/>
        </p:blipFill>
        <p:spPr>
          <a:xfrm>
            <a:off x="3062160" y="1676520"/>
            <a:ext cx="6081840" cy="40860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1268280"/>
            <a:ext cx="7632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 TRAZAR LIN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1 Trazar línea horizon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203640" y="549360"/>
            <a:ext cx="548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 O N A   D E   T R A B A J O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34120" y="6308640"/>
            <a:ext cx="28954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 A R C E L O   V A L E N Z U E L A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 E N J A M I N   L E Y T O N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68360" y="601992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19320" y="6324480"/>
            <a:ext cx="4190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P R O F E S O R E S:  M I R T H A   P A L L A R É S            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 Y U D A N T E S    : E L I S A B E T H   A V A L O S.         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59436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Dibujar%20línea%20vertical%20copia" descr=""/>
          <p:cNvPicPr/>
          <p:nvPr/>
        </p:nvPicPr>
        <p:blipFill>
          <a:blip r:embed="rId1"/>
          <a:stretch/>
        </p:blipFill>
        <p:spPr>
          <a:xfrm>
            <a:off x="3200400" y="1676520"/>
            <a:ext cx="5943600" cy="4302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03640" y="549360"/>
            <a:ext cx="548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 O N A   D E   T R A B A J O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34120" y="6308640"/>
            <a:ext cx="28954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 A R C E L O   V A L E N Z U E L A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 E N J A M I N   L E Y T O N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68360" y="601992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219320" y="6324480"/>
            <a:ext cx="4190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P R O F E S O R E S:  M I R T H A   P A L L A R É S            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 Y U D A N T E S    : E L I S A B E T H   A V A L O S.         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59436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8360" y="1268280"/>
            <a:ext cx="7632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 TRAZAR LIN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2 Trazar línea vert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5280" y="476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 E O M E T R Í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03640" y="549360"/>
            <a:ext cx="548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 O N A   D E   T R A B A J O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34120" y="6308640"/>
            <a:ext cx="28954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 A R C E L O   V A L E N Z U E L A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 E N J A M I N   L E Y T O N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601992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 N I V E R S I D A D  D E   C H I L E.    F A C U L T A D    D E   A R Q U I T E C T U R A   Y   U R B A N I S M O.   P R I M E R   A Ñ O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19320" y="6324480"/>
            <a:ext cx="4190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P R O F E S O R E S:  M I R T H A   P A L L A R É S            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 Y U D A N T E S    : E L I S A B E T H   A V A L O S.             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59436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Trazar%20una%20recta%20cualquiera%20copia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3200400" cy="2352600"/>
          </a:xfrm>
          <a:prstGeom prst="rect">
            <a:avLst/>
          </a:prstGeom>
          <a:ln w="0">
            <a:noFill/>
          </a:ln>
        </p:spPr>
      </p:pic>
      <p:pic>
        <p:nvPicPr>
          <p:cNvPr id="204" name="Trazar%20una%20recta%20paralela%20a%20la%20cualquiera%20con%20regla%20T%20copia" descr=""/>
          <p:cNvPicPr/>
          <p:nvPr/>
        </p:nvPicPr>
        <p:blipFill>
          <a:blip r:embed="rId2"/>
          <a:stretch/>
        </p:blipFill>
        <p:spPr>
          <a:xfrm>
            <a:off x="4191120" y="2590920"/>
            <a:ext cx="4495680" cy="31654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4876920" y="1600200"/>
            <a:ext cx="39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4 Trazar línea paralela a la arbitra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68360" y="1268280"/>
            <a:ext cx="7632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 TRAZAR LIN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3 Trazar línea arbitra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2T20:27:34Z</dcterms:created>
  <dc:creator>Elisabeth Avalos</dc:creator>
  <dc:description/>
  <dc:language>en-US</dc:language>
  <cp:lastModifiedBy>Benja</cp:lastModifiedBy>
  <dcterms:modified xsi:type="dcterms:W3CDTF">2007-03-20T15:30:09Z</dcterms:modified>
  <cp:revision>71</cp:revision>
  <dc:subject/>
  <dc:title>Diapositiva 1</dc:title>
</cp:coreProperties>
</file>