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858-50B1-47C5-AE51-A7C3A05F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3BF-F18E-4583-88D1-93E33B2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C84-E250-473E-BE0C-336B433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8B2-22C3-4F65-BADA-AEB7A897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B8C-0746-439E-AE92-C063AC0B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6B9-66E7-44B4-95C3-4B329C91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C6E0-1669-44CC-97A1-312331D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BE5-4311-4ED0-B34C-04946E6C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BC3B-105C-4147-84D1-AB774366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2915-A0A3-4489-9C05-07006076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5FC6-672B-459B-8054-87E4CB1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DE3-BF96-4FAF-8118-24FEBC9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9484-5EFF-4021-809B-E4B49C4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9824-7B62-4A7A-B2E1-5245985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F481-2349-408F-A750-8D9ECC9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3625-2571-44C9-B094-FDCC7EF7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62D-504F-45BA-913F-3826569C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A6B-7A53-4708-82EA-B7DCD77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07D-FEA5-46F9-8743-C39CDE8C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1B2-C250-404D-A328-17B8C32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BF7-F433-491E-B4D0-0F1E8CE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E8B-9D2F-40F1-9596-4D7F95A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A7C-1E87-46CD-A8F4-2D2272E1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D14-A023-4AEB-8A68-B26323D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131-45B7-4B67-A36A-701C4454414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AD5-E2BF-4638-A654-C9F2FD5BC1E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Lucida Sans Unicode"/>
              </a:rPr>
              <a:t>Ficha Uno 26-abril-2011 – Historia y Teoría del Diseño I</a:t>
            </a:r>
            <a:br>
              <a:rPr sz="1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Tema: Diseño como experiencia,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diseño encontrad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1. Contenidos: Investigación referida al uso cotidiano de objetos- cosificación- del entorno inmediato (casa-habitación) y su contrapunto objetual externo (diseñ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2. Objetiv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Determinar  la puesta en cuadro del espacio interior elegid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un aprendizaje significativo de la producción y consumo material (objet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Provocar un contrapunto gráfico y contextual  con el fuera de cuadro (diseño, objet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tres lecturas visuales como mínimo- Léase dirección, peso, equilibrio, tensión, color, textura, valor en gama de grises, entre otros recursos visuales-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3. Pieza Gráfica: Formato digital (puede ser un análogo digitalizado o 100% digital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4. Técnica: Lib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5. Texto de apoyo: 20 líneas máximo que expliquen los objetivos solicit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6. Presentación: PPT de 3 diapositivas (Presentación, gráfica, text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Mendez Olivares</cp:lastModifiedBy>
  <dcterms:modified xsi:type="dcterms:W3CDTF">2011-04-24T21:32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