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606C-F9E5-470A-99AA-65F36AE6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31DB-6271-471B-8233-8A5E8A2B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DFDB-C286-4759-83DE-2BCF5078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60B9-958D-4D56-A332-C24C8DB6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7B47-2567-4102-9482-EA965069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D3B0-6E22-48EC-89F1-F77FAC2E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9ABF-1BB1-403E-85C5-0F316A4F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0B56-6EAE-42FB-980C-3B5D4E80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4CCA-A118-4603-8C11-36C2255D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F4D3-A1AB-4C0B-B1DC-66D28211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DC3A-8D6F-4EFE-9E8C-92A5B5C7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B760-69A8-44A9-8434-4FE8BF40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7EB4-D191-4E92-84C6-F374369F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464E-2DAE-4110-8F12-9B148BE2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107F-5DE4-4622-BA36-612C1E0D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81A8-471A-4620-B6B9-4A6CE24A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B041-65AF-482E-97EA-D35AF449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7B10-7DD3-480D-B619-92D7FBC9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1CDE-9CCD-469C-8B80-74508859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9D20-C9CC-4F9E-BB77-C50D60D7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957B-9B7D-446A-9548-6ABEA627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33FA-F7DC-400D-A73F-9C902D6C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8FBB-9789-49D3-8506-D65783B9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B8A4-177B-486D-B4DA-4EEA2A1A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52AF-F3DD-48B0-BDAC-7A7CC5517B8C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64C0-9A38-4BB7-9F3A-37B00B6BA2CE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Lucida Sans Unicode"/>
              </a:rPr>
              <a:t>Ficha Uno 26-abril-2011 – Historia y Teoría del Diseño I</a:t>
            </a:r>
            <a:br>
              <a:rPr sz="1800"/>
            </a:br>
            <a:r>
              <a:rPr b="1" lang="en-US" sz="2800" spc="-1" strike="noStrike">
                <a:solidFill>
                  <a:srgbClr val="006666"/>
                </a:solidFill>
                <a:latin typeface="Lucida Sans Unicode"/>
              </a:rPr>
              <a:t>Tema: Diseño como experiencia, 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Lucida Sans Unicode"/>
              </a:rPr>
              <a:t>diseño encontrad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1. Contenidos: Investigación referida al uso cotidiano de objetos- cosificación- del entorno inmediato (casa-habitación) y su contrapunto objetual externo (diseño encontrado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2. Objetiv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Determinar  la puesta en cuadro del espacio interior elegid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Lograr un aprendizaje significativo de la producción y consumo material (objetos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Provocar un contrapunto gráfico y contextual  con el fuera de cuadro (diseño, objeto encontrado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Lograr tres lecturas visuales como mínimo- Léase dirección, peso, equilibrio, tensión, color, textura, valor en gama de grises, entre otros recursos visuales-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3. Pieza Gráfica: Formato digital (puede ser un análogo digitalizado o 100% digital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4. Técnica: Libr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5. Texto de apoyo: 20 líneas máximo que expliquen los objetivos solicitad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6. Presentación: PPT de 3 diapositivas (Presentación, gráfica, texto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van Mendez Olivares</cp:lastModifiedBy>
  <dcterms:modified xsi:type="dcterms:W3CDTF">2011-04-24T21:32:1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