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B8E-0A1A-46AE-ACA0-ADFCEE98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DF7-D7BD-4E5F-BF82-265E0AD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832-7DF1-40E6-B447-20EC34DB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EAA-BDF0-4A29-B777-A53BD949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9EE0-914F-4E8E-BF69-ADBDE443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687-6669-4F1E-BBFB-D1A94E2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EA4-E4B6-41A3-B6ED-DA1BDA98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E5E-0B02-4D57-8816-E4042129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736-8A81-475B-9742-F56E9A39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EFC-EFDD-47DD-BD0D-D1D564F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5F1-45EB-41EB-A51E-D97C95B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B50-6983-4623-84BF-83DCECE1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CDA8-17DE-479C-80A4-4C8D84A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AE7-CD30-4500-BD5B-2D55D03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BA97-6CA1-4E4E-84C7-2FA49D1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797B-C94A-4B38-912E-AE6831AB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8431-DC25-4AC7-9A11-0DE9DD8A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899-E8DF-418F-838C-DE1E7EE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424-4628-4CDC-8181-99C49CD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DF1-4D0D-45A5-B546-8B87A71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862-FEED-43B0-A530-22092B7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4C7-6EFA-410D-A1FE-F6C9C95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DAC-7950-4F5F-A32A-DE688E0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2F7-7EBA-42E2-9E09-5FFE855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E15A-0842-4C77-AAB3-3149A75FFFE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CF19-E25C-4FA9-B1AF-1F921E651DA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Sans Unicode"/>
              </a:rPr>
              <a:t>Ficha Uno 26-abril-2011 – Historia y Teoría del Diseño I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Tema: Diseño como experiencia,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diseño encontrad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1. Contenidos: Investigación referida al uso cotidiano de objetos- cosificación- del entorno inmediato (casa-habitación) y su contrapunto objetual externo (diseñ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2. Objetiv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Determinar  la puesta en cuadro del espacio interior elegid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un aprendizaje significativo de la producción y consumo material (objet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Provocar un contrapunto gráfico y contextual  con el fuera de cuadro (diseño, objet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tres lecturas visuales como mínimo- Léase dirección, peso, equilibrio, tensión, color, textura, valor en gama de grises, entre otros recursos visuales-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3. Pieza Gráfica: Formato digital (puede ser un análogo digitalizado o 100% digital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4. Técnica: Lib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5. Texto de apoyo: 20 líneas máximo que expliquen los objetivos solici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6. Presentación: PPT de 3 diapositivas (Presentación, gráfica, text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Mendez Olivares</cp:lastModifiedBy>
  <dcterms:modified xsi:type="dcterms:W3CDTF">2011-04-24T21:32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