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51D-22DA-43BE-B319-EB52A41A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E33-9D17-4D44-AB62-39E3F06B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1DC-978E-49FC-A95F-4036C194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813-105B-4797-8FDA-AA92A2F4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168E-0D04-47D7-884D-D3B17320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E769-BEBB-4DFF-A38C-7159277F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718E-FC75-4E43-82B2-6A1A2BC9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1E5C-929B-499F-8459-DAB231FD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B2C7-89AC-4742-8F59-CCBBA8E1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ED17-E80F-4B05-9AC6-C83B1A41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9183-18B8-42B5-979F-1ED0E4F6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812-99C4-424B-AFEB-DC8CDA0B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2BB7-D03C-473D-83A7-F282125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39CD-DCE7-499C-A27B-FCC60B30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E99D-74A3-4195-880D-F37FBD9C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050D-EC60-4098-A5BB-46E19D5C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28C5-9FDF-48F9-840F-C862F883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B28-2EA6-4BCE-A9C3-53641726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7D6-4B04-4EBC-8996-F6187939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7CB-9E43-4382-97B1-7137A0FE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540-A271-4D90-A701-C3D5F27E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DE8-144E-406C-8809-218C24D5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68C-EB68-4395-9E6E-8C3EE0CE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BA7-EC13-4D0A-ADD6-86234FF8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62C3-6C31-4944-9319-B927909404A0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25EB-4E9E-4B42-97E5-32DD2D3C529F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Lucida Sans Unicode"/>
              </a:rPr>
              <a:t>Ficha Uno 26-abril-2011 – Historia y Teoría del Diseño I</a:t>
            </a:r>
            <a:br>
              <a:rPr sz="1800"/>
            </a:br>
            <a:r>
              <a:rPr b="1" lang="en-US" sz="2800" spc="-1" strike="noStrike">
                <a:solidFill>
                  <a:srgbClr val="006666"/>
                </a:solidFill>
                <a:latin typeface="Lucida Sans Unicode"/>
              </a:rPr>
              <a:t>Tema: Diseño como experiencia,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Lucida Sans Unicode"/>
              </a:rPr>
              <a:t>diseño encontrad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1. Contenidos: Investigación referida al uso cotidiano de objetos- cosificación- del entorno inmediato (casa-habitación) y su contrapunto objetual externo (diseño encontrad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2. Objetiv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Determinar  la puesta en cuadro del espacio interior elegid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Lograr un aprendizaje significativo de la producción y consumo material (objeto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Provocar un contrapunto gráfico y contextual  con el fuera de cuadro (diseño, objeto encontrad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Lograr tres lecturas visuales como mínimo- Léase dirección, peso, equilibrio, tensión, color, textura, valor en gama de grises, entre otros recursos visuales-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3. Pieza Gráfica: Formato digital (puede ser un análogo digitalizado o 100% digital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4. Técnica: Lib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5. Texto de apoyo: 20 líneas máximo que expliquen los objetivos solicitad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Lucida Sans Unicode"/>
              </a:rPr>
              <a:t>6. Presentación: PPT de 3 diapositivas (Presentación, gráfica, texto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Mendez Olivares</cp:lastModifiedBy>
  <dcterms:modified xsi:type="dcterms:W3CDTF">2011-04-24T21:32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