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881-2FF8-4DC5-8106-80EBF841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9EF2-BF40-4FD5-91D8-81B1858E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8386-FCCF-41E4-A0C8-6A97D9E9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5503-E6E8-4FE7-9504-8FBA1D30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BB19-79B4-4D1B-BC10-4304DAAB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E70A-38FB-43ED-B11C-D5CDACA7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B801-4651-428C-81BB-A1FB29CA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5664-B8B7-45D0-A425-92D69FBD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346A-152E-4D81-A491-51517A6F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D9A7-7DE1-4845-8142-066EAA0C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A3C6-984E-4E92-A639-B1CDD755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951-1AF9-4F70-BD75-5EC010B6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7C4F-C03A-4546-B120-7EE5338A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1670-7840-4039-B53D-597A2A62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55E3-580F-4E06-AAF8-F2BEBC9D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9649-4EE2-4790-B553-A45ACE5D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6447-0907-4459-8890-CA5D645A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283-9205-4B3A-BB72-0DCF6402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A44E-1695-4F12-838C-26285A6C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EA1E-A86F-4E3A-A936-685B3B19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434F-7822-4F94-8CE9-A103E734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13A-3321-4BBF-801C-8429C413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9D9A-C04A-47E2-87EA-EC1F0A0E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5ED-A83C-4AAB-8D0A-ADC6AE4E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D46E-574C-4405-A82C-A01647ED01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6ED9-0C89-4EF2-95E7-728F89A0DE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Unidad I. Modernidad, contrarreforma y diseño.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 Siglos XV, XVI y XVII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392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digma Medie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istóte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rreforma ecles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fabet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pesin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udal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 político institucional Igle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blo medie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27280" y="1989000"/>
            <a:ext cx="471636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digma Renacenti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car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forma ecles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urgues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ercio marítimo y portu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Gremios artísticos y técn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ol institucional Igle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iu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oría del diseg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Unidad II. Modernidad, era industrial y diseño.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Siglos XVIII y XIX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rnismo europ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ts and Craf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w sty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t Nouve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Stil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erkbund/Judenstil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t Dec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lat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lat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iza, Aust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ma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Unidad III. Modernidad, vanguardias artísticas, diseño. La obra total. Siglo XX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b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utur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bstra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d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structivism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premat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ayon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rreal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ema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cia, Suiza, Alema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 Sovi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 Sovi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Unidad IV. Modernidad, funcionalismo y el “buen diseño”. Siglo XX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uha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o Bauhau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m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o Bauhau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sa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cuela Superior de Diseño de Ul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ionalis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en 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Unidad V. Modernidad, posmodernidad y “nuevo diseño”. Siglo XX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perestructura Ide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curso glob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jeto unidimens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nocultural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gnificado/signific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uncionaml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foque Cogni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magen ana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rrículum disciplin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xto lin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pacio-tiempo analóg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versidad ide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versidad discurs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jeto multidimens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ulticultural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gnificante abier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tructiv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foque crea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magen pi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rrículum transdisciplin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ipertexto dig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yberespa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Unidad VI. Praxis del diseño en la era digital. Siglo XXI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 y  territo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, poesía y ciu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 y redes sociales en intern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alidad virtual y 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avegación en la 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ase de da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ideojue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dustrias cre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ilo Vin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3:30:22Z</dcterms:created>
  <dc:creator>Ivan Mendez Olivares</dc:creator>
  <dc:description/>
  <dc:language>en-US</dc:language>
  <cp:lastModifiedBy>Ivan Mendez Olivares</cp:lastModifiedBy>
  <dcterms:modified xsi:type="dcterms:W3CDTF">2011-04-01T13:19:00Z</dcterms:modified>
  <cp:revision>16</cp:revision>
  <dc:subject/>
  <dc:title>Unidad I. Modernidad, contrarreforma y diseño</dc:title>
</cp:coreProperties>
</file>