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B6F-9773-46AF-99D8-E36568EE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672-2EB1-467A-81DE-F0EBF980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F3F-6C1B-4EF4-A34D-FD179C2E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019-B0EE-49F5-B49A-B1C44778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F0FC-6A94-4C52-BD58-EA8753BB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2832-BB18-4897-AE51-7C07EFA9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26E0-D58E-496E-BFD3-01CE7B8C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E5D9-7481-4D84-8112-91EFCB44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3D8A-D2F4-480F-99BB-014D8154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DF3C-832B-423C-8B75-A332ED24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95E-7207-4546-9132-76B567DA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4B5-6836-4B57-B5FA-1F3A633D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3133-63A4-42B4-8DC3-2BA8314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1F09-8EA2-49D6-8EBB-F716AFAD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135A-959F-4DAF-992F-144D32D9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1767-4F95-40E8-ADBF-83432EF4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F0B4-142A-49B0-B4ED-16C22966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8CC-BEE9-4177-8B21-A3C5F926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4C7-9FE9-4FC4-A4A6-14A8ED2A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00D-90FB-4047-9640-601DF29A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4E2-F64A-4ED5-BFCD-07D373D3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896-15D0-4242-AD73-09F777D9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D4F-A51A-4A8E-A1FD-3F48318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796-D07F-4E93-86B7-40049DAE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53B8-A9BD-4B39-B32D-EBECF0DF2B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6CBD-8159-4FCF-A12D-F08D0CBA64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Unidad I. Modernidad, contrarreforma y diseño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Siglos XV, XVI y XVII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digma Medie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stóte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rreforma ecles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fabet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pesin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uda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 político institucional Igl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blo medie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7280" y="1989000"/>
            <a:ext cx="47163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digma Renacenti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car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forma ecles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urgues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ercio marítimo y portu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remios artísticos y téc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l institucional Igl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iu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eoría del diseg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Unidad II. Modernidad, era industrial y diseño.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iglos XVIII y XIX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rnismo europ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s and Craf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w 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 Nouv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Stil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erkbund/Judenstil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 Dec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lat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za, Aust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Unidad III. Modernidad, vanguardias artísticas, diseño. La obra total. Siglo XX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ub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tur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bst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d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structivism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premat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ayon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rreal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ma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ia, Suiza, Alema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 Sovi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 Sovi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Unidad IV. Modernidad, funcionalismo y el “buen diseño”. Siglo XX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uha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o Bauhau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m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o Bauhau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sa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uela Superior de Diseño de Ul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ionalis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en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Unidad V. Modernidad, posmodernidad y “nuevo diseño”. Siglo XX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perestructura Ide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curso glob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jeto unidimen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nocultura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gnificado/signific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uncionam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foque Cogni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magen ana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rrículum discipl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exto lin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acio-tiempo analó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versidad ide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versidad discurs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jeto multidimen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ulticultura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gnificante abie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tructiv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foque cre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magen pi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rrículum transdiscipl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ipertexto dig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yberespa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Unidad VI. Praxis del diseño en la era digital. Siglo XXI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 y  terri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, poesía y ciu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 y redes sociales en intern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idad virtual y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vegación en la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ase de da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deojueg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dustrias cre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ilo Vi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3:30:22Z</dcterms:created>
  <dc:creator>Ivan Mendez Olivares</dc:creator>
  <dc:description/>
  <dc:language>en-US</dc:language>
  <cp:lastModifiedBy>Ivan Mendez Olivares</cp:lastModifiedBy>
  <dcterms:modified xsi:type="dcterms:W3CDTF">2011-04-01T13:19:00Z</dcterms:modified>
  <cp:revision>16</cp:revision>
  <dc:subject/>
  <dc:title>Unidad I. Modernidad, contrarreforma y diseño</dc:title>
</cp:coreProperties>
</file>