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C433-8CEF-4D5E-B399-2B6691A79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3671-EC9F-473D-A6E1-1958F8A2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2CAE-7F93-452B-A6D7-A1775A5FD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68D1-DBD0-4B4A-8C53-D432E9C0A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D436-62FC-4E88-8F8C-570E8527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B319-5B5D-437C-A04D-FCEBC789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9AFA-BEDC-44FD-B0BE-70C79AA0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DE86-F2E2-4409-ADC4-A46C3AE9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5992-3931-497F-8C34-002B382F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9F2F-3A6B-4A86-881B-062ED1D6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6604-348A-48B6-BC5A-69368F9F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77B3-974B-4D8E-B4B5-2048AE4A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FE3C-A802-4F09-B641-9253C4E69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457200" y="3808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El 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106668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Con el Cliente dejar claramente estipulado</a:t>
            </a:r>
            <a:br>
              <a:rPr sz="1600"/>
            </a:b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Las tareas a realizar.</a:t>
            </a:r>
            <a:br>
              <a:rPr sz="1600"/>
            </a:b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Lo que no se hará por que no son parte de su área.</a:t>
            </a:r>
            <a:br>
              <a:rPr sz="1600"/>
            </a:b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Lo que podría tener un cargo adicional.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br>
              <a:rPr sz="1600"/>
            </a:b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Los compromisos y plazos de entrega.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Mantenga informado al cliente sobre la evolución del proyecto.</a:t>
            </a:r>
            <a:br>
              <a:rPr sz="1600"/>
            </a:b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Las aprobaciones por parte del cliente debe estar firm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51424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La Primera Reun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457200" y="3808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La Primera Reun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106668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a primera reunión es fundamenta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vantar requerimientos del Proyecto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nalisis del Cliente (Tratar de definir el perfil psicologico)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jar aque el cliente exponga su idea tratar de no interrumpir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2438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-BoldMT"/>
              </a:rPr>
              <a:t>Cuestionario para los Cl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447920" y="9907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76201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-BoldMT"/>
              </a:rPr>
              <a:t>Identificación del público objetivo</a:t>
            </a: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Cuál es el mensaje principal que pretende transmitir a los visitantes de este sitio web?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Qué beneficios obtendrá la empresa con esta página?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Cuál es el público objetivo?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Existen diferencias entre el perfil de sus clientes habituales y el público objetivo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de este sitio web?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Quiénes son sus principales competidores?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Por qué tendría que decidirse un cliente potencial por su empresa en lugar de por la competencia?</a:t>
            </a:r>
            <a:br>
              <a:rPr sz="1600"/>
            </a:b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457200" y="3808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uestionario para los c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447920" y="9907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76201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-BoldMT"/>
              </a:rPr>
              <a:t>Definición del sitio web</a:t>
            </a: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Cómo le gustaría que la gente describiera su página?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El nuevo sitio debe reforzar o cambiar la concepción que sus clientes tienen de su empresa?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Prevé alguna razón por la que le pueda resultar difícil trasmitir la imagen deseada?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Hay aspectos de su imagen corporativa y del material de marketing existente que deben recogerse en el sitio?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Hay aspectos del sitio web de la competencia que le gusten o disgusten especialmente?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57200" y="3808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uestionario para los c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026"/>
          <p:cNvSpPr/>
          <p:nvPr/>
        </p:nvSpPr>
        <p:spPr>
          <a:xfrm>
            <a:off x="1447920" y="9907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76201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-BoldMT"/>
              </a:rPr>
              <a:t>Contenido del sitio web</a:t>
            </a: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Usará material ya existente en el nuevo sito web?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En qué formato?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Quién es el responsable de aprobar los contenidos?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Tiene alguna idea para la organización de los contenidos?</a:t>
            </a:r>
            <a:br>
              <a:rPr sz="1600"/>
            </a:b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28"/>
          <p:cNvSpPr/>
          <p:nvPr/>
        </p:nvSpPr>
        <p:spPr>
          <a:xfrm>
            <a:off x="457200" y="3808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uestionario para los c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026"/>
          <p:cNvSpPr/>
          <p:nvPr/>
        </p:nvSpPr>
        <p:spPr>
          <a:xfrm>
            <a:off x="1447920" y="9907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76201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-BoldMT"/>
              </a:rPr>
              <a:t>Detalles Técnicos</a:t>
            </a: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Qué plataformas y navegadores usa su público objetivo potencial?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Deberá incorporar el sitio web una base de datos? ¿Dispone ya de una?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Describa el sofware usado para generarla  y especifique los servicios de hosting con los que cuente (alojamiento, redireccionamiento…)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Describa con detalle qué transacciones de comercio electrónico desea llevar a cabo desde el sitio web.</a:t>
            </a: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28"/>
          <p:cNvSpPr/>
          <p:nvPr/>
        </p:nvSpPr>
        <p:spPr>
          <a:xfrm>
            <a:off x="457200" y="3808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uestionario para los c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026"/>
          <p:cNvSpPr/>
          <p:nvPr/>
        </p:nvSpPr>
        <p:spPr>
          <a:xfrm>
            <a:off x="1447920" y="9907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76201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-BoldMT"/>
              </a:rPr>
              <a:t>Estrategias de marketing</a:t>
            </a: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Tiene algún plan para promocionar o desarrollar el sitio web?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Cómo pretende dar a conocer el sitio web en su propia empresa?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800" spc="-1" strike="noStrike">
                <a:solidFill>
                  <a:srgbClr val="ffffff"/>
                </a:solidFill>
                <a:latin typeface="Arial-BoldMT"/>
              </a:rPr>
              <a:t>Datos administrativos</a:t>
            </a: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Cómo quiere que se actualice el sitio web?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Cuál debería ser la fecha de lanzamiento del sitio web?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Ha registrado ya un nombre de dominio? ¿Ha pensado en alguno?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Consideraría la posibilidad de crear el sitio web en diferentes fases para adaptarse a limitaciones presupuestarias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28"/>
          <p:cNvSpPr/>
          <p:nvPr/>
        </p:nvSpPr>
        <p:spPr>
          <a:xfrm>
            <a:off x="457200" y="3808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uestionario para los c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9250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  <a:ea typeface="Arial"/>
              </a:rPr>
              <a:t>Datos Pract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457200" y="3808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Datos Practicos sobre le 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93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Escuche a sus Clientes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Intente entender sus necesidades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Establezca una relación de respeto profesional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Cumpla sus promesas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Mantenga una buena relación con sus clientes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No considere las reuniones con sus clientes a petición de ellos como un problema.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Ustedes son los expertos contratados para solucionar los problemas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El cliente no quiere saber como se hace un sitio o una aplicación, el quiere que funcione.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Cuando explique algo muy tecnico utilice ejemplos cotidianos para que el cliente entienda.</a:t>
            </a: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457200" y="380880"/>
            <a:ext cx="8381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Errores de Usa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blemas de legibilidad con tipos de letra demasiado pequeños, de tamaño fi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laces no estándar: no subrayados, que no distinguen enlaces visitados de no visitado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enido que no ha sido escrito para la we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ompatibilidad con ciertos navegad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457200" y="3808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Errores de Usa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mularios demasiado largos y complic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lta de información de contacto o sobre la empresa en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eños rígidos con ancho fi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l uso de la ampliación de fotos; si vas a dejar que los usuarios vean una imagen más de cerca, que sea a un tamaño lo suficientemente grande para permitirle apreciar los detalles, nunca le enseñes la misma imagen o una versión sólo un poco may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457200" y="380880"/>
            <a:ext cx="838188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Naveg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lorer 8 14.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lorer 7 1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lorer 6 9.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refox 46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ome 11.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fari 3.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http://www.w3schools.com/browsers/browsers_stats.asp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a febrero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solución de Pantal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7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24x768 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0x600 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http://www.w3schools.com/browsers/browsers_display.asp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a enero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457200" y="380880"/>
            <a:ext cx="8381880" cy="43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solución de Pantal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280x1024 18.2 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280x800 17.3 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440x900 10.5 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680x1050 10.0 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920x1200 4.6 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366x768 3.6 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920x1080 2.3 % (full h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152x864 2.1 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600x1200 1.4 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280x768 1.2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251424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El Cl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457200" y="3808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El 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79250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cliente elige por “me gusta o no me gusta”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y su gusto siempre es anticuado, vulgar o pretencioso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cliente prefiere la peor opció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cliente quiere el logo más grande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o el texto más grande, o lo que sea, pero más grande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cliente es arbitrario y caprichoso.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cliente no me tiene confianza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cliente cambia de opinión todos los día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cliente quiere todo para mañana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cliente mete la mano en mi trabajo (con el MI en mayúscula bold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cliente me destruyó mi diseño (con el ME y el MI en mayúscula extrablack)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cliente no comprende el valor del diseño (y compra por preci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15:28:45Z</dcterms:created>
  <dc:creator>k k</dc:creator>
  <dc:description/>
  <dc:language>en-US</dc:language>
  <cp:lastModifiedBy>alumnosc14</cp:lastModifiedBy>
  <dcterms:modified xsi:type="dcterms:W3CDTF">2010-08-09T17:47:37Z</dcterms:modified>
  <cp:revision>108</cp:revision>
  <dc:subject/>
  <dc:title>PowerPoint Presentation</dc:title>
</cp:coreProperties>
</file>