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9E2-4711-4D30-81DF-7CA06B50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EA0-6B76-43F3-B1A5-139171A8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F0E-548D-46E8-950A-515BAF0C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81F-C863-484C-86BD-23601A3A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DF2-3B18-44AE-89ED-B8C59847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53F-01AA-43C4-BBC8-B5E1F19F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3F1-D01A-448C-8D2D-C27F8847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6CB-C115-4AA0-81BE-72DEE4F8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051-E7FE-4385-9CE5-DC42EA9B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EC9-202C-494E-847E-E29D20A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E6E-2EF3-47A7-9FF6-EC7B15D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7F0-1A9A-4DC6-A7D1-7C81B19A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4E6-A7A3-48A0-A1E8-FECF7DCB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 el Cliente dejar claramente estipulad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tareas a realizar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no se hará por que no son parte de su área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podría tener un cargo adicional.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s compromisos y plazos de entrega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Mantenga informado al cliente sobre la evolución del proyecto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aprobaciones por parte del cliente debe estar firm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La Primera Re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 es fundament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vantar requerimientos del Proyecto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isis del Cliente (Tratar de definir el perfil psicologico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jar aque el cliente exponga su idea tratar de no interrumpi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-BoldMT"/>
              </a:rPr>
              <a:t>Cuestionario par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Identificación del público objetivo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mensaje principal que pretende transmitir a los visitantes de este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beneficios obtendrá la empresa con esta págin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público objetiv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xisten diferencias entre el perfil de sus clientes habituales y el público objetivo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 este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es son sus principales competidores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or qué tendría que decidirse un cliente potencial por su empresa en lugar de por la competencia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finición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le gustaría que la gente describiera su pági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l nuevo sitio debe reforzar o cambiar la concepción que sus clientes tienen de su empres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revé alguna razón por la que le pueda resultar difícil trasmitir la imagen desead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 su imagen corporativa y del material de marketing existente que deben recogerse en el siti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l sitio web de la competencia que le gusten o disgusten especialment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Contenido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Usará material ya existente en el nuevo sit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n qué format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 es el responsable de aprobar los contenidos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una idea para la organización de los contenidos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talles Técnic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plataformas y navegadores usa su público objetivo potencial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berá incorporar el sitio web una base de datos? ¿Dispone ya de u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scriba el sofware usado para generarla  y especifique los servicios de hosting con los que cuente (alojamiento, redireccionamiento…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scriba con detalle qué transacciones de comercio electrónico desea llevar a cabo desde el sitio web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Estrategias de marketing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ún plan para promocionar o desarrollar 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pretende dar a conocer el sitio web en su propia empresa?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atos administrativ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quiere que se actualice el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debería ser la fecha de lanzamiento d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 registrado ya un nombre de dominio? ¿Ha pensado en algun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onsideraría la posibilidad de crear el sitio web en diferentes fases para adaptarse a limitaciones presupuestaria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Datos Prac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atos Practicos sobre le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cuche a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tente entender sus necesidad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una relación de respeto profesional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mpla sus promesa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ntenga una buena relación con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o considere las reuniones con sus clientes a petición de ellos como un problema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Ustedes son los expertos contratados para solucionar los problemas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l cliente no quiere saber como se hace un sitio o una aplicación, el quiere que funcione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ando explique algo muy tecnico utilice ejemplos cotidianos para que el cliente entienda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380880"/>
            <a:ext cx="838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as de legibilidad con tipos de letra demasiado pequeños, de tamañ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laces no estándar: no subrayados, que no distinguen enlaces visitados de no visitado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ido que no ha sido escrito para la w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mpatibilidad con ciertos naveg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3808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ularios demasiado largos y compl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ta de información de contacto o sobre la empresa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ños rígidos con anch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 uso de la ampliación de fotos; si vas a dejar que los usuarios vean una imagen más de cerca, que sea a un tamaño lo suficientemente grande para permitirle apreciar los detalles, nunca le enseñes la misma imagen o una versión sólo un poco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380880"/>
            <a:ext cx="83818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Naveg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8 14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7 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6 9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fox 46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e 11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ari 3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stats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febr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7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24x768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x600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display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en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380880"/>
            <a:ext cx="83818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1024 18.2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800 17.3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440x900 10.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80x1050 10.0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200 4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366x768 3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080 2.3 % (full h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152x864 2.1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00x1200 1.4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768 1.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lige por “me gusta o no me gust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y su gusto siempre es anticuado, vulgar o pretencioso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prefiere la peor opció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el logo más grand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o el texto más grande, o lo que sea, pero más grande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s arbitrario y caprichoso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me tiene confianz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cambia de opinión todos los día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todo para mañan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te la mano en mi trabajo (con el MI en mayúscula bold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 destruyó mi diseño (con el ME y el MI en mayúscula extrablack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comprende el valor del diseño (y compra por prec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5:28:45Z</dcterms:created>
  <dc:creator>k k</dc:creator>
  <dc:description/>
  <dc:language>en-US</dc:language>
  <cp:lastModifiedBy>alumnosc14</cp:lastModifiedBy>
  <dcterms:modified xsi:type="dcterms:W3CDTF">2010-08-09T17:47:37Z</dcterms:modified>
  <cp:revision>108</cp:revision>
  <dc:subject/>
  <dc:title>PowerPoint Presentation</dc:title>
</cp:coreProperties>
</file>