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2E7-8933-4254-B03A-54573CF3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E2A-BBB3-4C19-ADFF-DE448EA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1E4-90B6-4E3A-9528-325C27CB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4B5-A3F5-4D10-A64E-DEFFD3A0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6B2-A2FC-4A4D-A207-1A5B4EE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18E-0914-4658-AC2B-EDABA7A4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7E1-A8AF-4F6C-850F-A9231F13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68BD-9570-49C5-A89E-31D72D9D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AD8-E6A5-4059-A3CA-6BB160C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112-ED24-43D6-AEC2-52DB569D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405-CF83-4120-B489-38ADCFB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851-CEF5-48FB-BB1A-8E97ABB6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962C-A36B-4234-BD91-B7B8B13AB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 el Cliente dejar claramente estipulado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tareas a realizar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no se hará por que no son parte de su área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 que podría tener un cargo adicional.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os compromisos y plazos de entrega.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Mantenga informado al cliente sobre la evolución del proyecto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as aprobaciones por parte del cliente debe estar firm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La Primera Reun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reunión es fundament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vantar requerimientos del Proyecto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isis del Cliente (Tratar de definir el perfil psicologico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jar aque el cliente exponga su idea tratar de no interrumpi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438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-BoldMT"/>
              </a:rPr>
              <a:t>Cuestionario para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Identificación del público objetivo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mensaje principal que pretende transmitir a los visitantes de este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beneficios obtendrá la empresa con esta págin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es el público objetiv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xisten diferencias entre el perfil de sus clientes habituales y el público objetivo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 este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es son sus principales competidores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or qué tendría que decidirse un cliente potencial por su empresa en lugar de por la competencia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finición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le gustaría que la gente describiera su pági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l nuevo sitio debe reforzar o cambiar la concepción que sus clientes tienen de su empres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Prevé alguna razón por la que le pueda resultar difícil trasmitir la imagen deseada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 su imagen corporativa y del material de marketing existente que deben recogerse en el sitio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y aspectos del sitio web de la competencia que le gusten o disgusten especialmente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Contenido del sitio web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Usará material ya existente en el nuevo sit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En qué format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ién es el responsable de aprobar los contenidos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una idea para la organización de los contenidos?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etalles Técnic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Qué plataformas y navegadores usa su público objetivo potencial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berá incorporar el sitio web una base de datos? ¿Dispone ya de una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Describa el sofware usado para generarla  y especifique los servicios de hosting con los que cuente (alojamiento, redireccionamiento…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Describa con detalle qué transacciones de comercio electrónico desea llevar a cabo desde el sitio web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6"/>
          <p:cNvSpPr/>
          <p:nvPr/>
        </p:nvSpPr>
        <p:spPr>
          <a:xfrm>
            <a:off x="1447920" y="990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Estrategias de marketing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Tiene algún plan para promocionar o desarrollar 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pretende dar a conocer el sitio web en su propia empresa?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ffffff"/>
                </a:solidFill>
                <a:latin typeface="Arial-BoldMT"/>
              </a:rPr>
              <a:t>Datos administrativo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ómo quiere que se actualice el sitio web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uál debería ser la fecha de lanzamiento del sitio web?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Ha registrado ya un nombre de dominio? ¿Ha pensado en alguno?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MT"/>
              </a:rPr>
              <a:t>¿Consideraría la posibilidad de crear el sitio web en diferentes fases para adaptarse a limitaciones presupuestaria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28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uestionario para los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Arial"/>
              </a:rPr>
              <a:t>Datos Prac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atos Practicos sobre le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cuche a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tente entender sus necesidad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una relación de respeto profesional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mpla sus promesa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antenga una buena relación con sus clientes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No considere las reuniones con sus clientes a petición de ellos como un problema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Ustedes son los expertos contratados para solucionar los problemas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l cliente no quiere saber como se hace un sitio o una aplicación, el quiere que funcione.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Cuando explique algo muy tecnico utilice ejemplos cotidianos para que el cliente entienda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as de legibilidad con tipos de letra demasiado pequeños, de tamañ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laces no estándar: no subrayados, que no distinguen enlaces visitados de no visitado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ido que no ha sido escrito para la we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mpatibilidad con ciertos naveg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3808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rrores de Us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ularios demasiado largos y compl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ta de información de contacto o sobre la empresa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eños rígidos con ancho fi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 uso de la ampliación de fotos; si vas a dejar que los usuarios vean una imagen más de cerca, que sea a un tamaño lo suficientemente grande para permitirle apreciar los detalles, nunca le enseñes la misma imagen o una versión sólo un poco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380880"/>
            <a:ext cx="83818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Naveg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8 14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7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rer 6 9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efox 4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e 11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ri 3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stats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febr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7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24x768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0x600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www.w3schools.com/browsers/browsers_display.asp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a ener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380880"/>
            <a:ext cx="83818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ución de Pant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1024 18.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800 17.3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440x900 10.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80x1050 10.0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200 4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366x768 3.6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920x1080 2.3 % (full h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152x864 2.1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600x1200 1.4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1280x768 1.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5720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lige por “me gusta o no me gust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y su gusto siempre es anticuado, vulgar o pretencioso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prefiere la peor opció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el logo más grande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o el texto más grande, o lo que sea, pero más grande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es arbitrario y capricho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me tiene confianz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cambia de opinión todos los día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quiere todo para mañana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te la mano en mi trabajo (con el MI en mayúscula bold)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me destruyó mi diseño (con el ME y el MI en mayúscula extrablack)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 cliente no comprende el valor del diseño (y compra por preci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5:28:45Z</dcterms:created>
  <dc:creator>k k</dc:creator>
  <dc:description/>
  <dc:language>en-US</dc:language>
  <cp:lastModifiedBy>alumnosc14</cp:lastModifiedBy>
  <dcterms:modified xsi:type="dcterms:W3CDTF">2010-08-09T17:47:37Z</dcterms:modified>
  <cp:revision>108</cp:revision>
  <dc:subject/>
  <dc:title>PowerPoint Presentation</dc:title>
</cp:coreProperties>
</file>