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5299-B25A-4F3F-883E-BC3300F1F839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3BBD-63F9-46E2-8BDA-C3C483C45AD7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685E-CB21-4E2E-BA4D-B2A8F381EE2C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D57C-A9C0-4B04-A71F-EF23DD04A264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0034-D54C-4493-BFAF-585FE120B171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2C3C-6458-4E27-82D1-9C923282BD34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4B98-FE69-4953-A915-0FADC9C113BA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B6FB-DDE9-4908-B996-F1156D5850BC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47C7-D3A9-4FAE-9F32-D85023DE58EF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F258-911B-47EE-B521-E97B3F23B68B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E3C7-8A54-43FE-A15C-C598B7BF1B6A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B677-3C51-4E90-95BC-D2671208F9DF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0962-5E6F-40AC-B1C3-C1919197ED78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FF3B-D27C-4FF2-B3BF-D6953979699B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E40A-33CF-4746-BFD0-1EEEDE23A112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40AF-DE58-43A3-BD11-1B662B886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243B-7DF2-418E-A161-696D72A4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B4F7-945D-42E4-B77A-EA15FBFCF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22E9-6BC1-4BA1-9ADE-F0BE24B0B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5235-3EEA-45E5-8208-DBF9E0D9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854C-9B88-4DE4-8082-39A90AA4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D0C3-A5A0-472F-BEE8-843E8B85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6441-8E14-4AAF-B28E-A8ADB0AD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090E-B5E0-4746-8392-E05E52E2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9793-273F-49F2-A870-9F3BD021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AF74-7BCF-4C8F-BA8F-2D7CEBBE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5AC6-C66D-440B-8B5C-B36B6BA6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5C57-0366-4C4B-BBAF-6EBEE6F9A9C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18"/>
          <p:cNvSpPr/>
          <p:nvPr/>
        </p:nvSpPr>
        <p:spPr>
          <a:xfrm>
            <a:off x="611280" y="2637000"/>
            <a:ext cx="3241440" cy="3238200"/>
          </a:xfrm>
          <a:prstGeom prst="ellipse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411280" y="4222800"/>
            <a:ext cx="630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6600"/>
                </a:solidFill>
                <a:latin typeface="Lucida Sans"/>
              </a:rPr>
              <a:t>Análisis Sísmico    </a:t>
            </a:r>
            <a:r>
              <a:rPr b="1" lang="es-ES" sz="2400" spc="-1" strike="noStrike">
                <a:solidFill>
                  <a:srgbClr val="ffffff"/>
                </a:solidFill>
                <a:latin typeface="Lucida Sans"/>
              </a:rPr>
              <a:t>DEFINICIÓN DEL COEFICIENTE SISMICO</a:t>
            </a: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611280" y="52941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370ff"/>
                </a:solidFill>
                <a:latin typeface="Verdana"/>
              </a:rPr>
              <a:t>gabriela muñoz s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6"/>
          <p:cNvGrpSpPr/>
          <p:nvPr/>
        </p:nvGrpSpPr>
        <p:grpSpPr>
          <a:xfrm>
            <a:off x="2266920" y="981000"/>
            <a:ext cx="5978520" cy="5175360"/>
            <a:chOff x="2266920" y="981000"/>
            <a:chExt cx="5978520" cy="5175360"/>
          </a:xfrm>
        </p:grpSpPr>
        <p:pic>
          <p:nvPicPr>
            <p:cNvPr id="64" name="Picture 3" descr=""/>
            <p:cNvPicPr/>
            <p:nvPr/>
          </p:nvPicPr>
          <p:blipFill>
            <a:blip r:embed="rId1"/>
            <a:srcRect l="13817" t="46075" r="47056" b="26367"/>
            <a:stretch/>
          </p:blipFill>
          <p:spPr>
            <a:xfrm>
              <a:off x="2268360" y="981000"/>
              <a:ext cx="5977080" cy="315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5" descr=""/>
            <p:cNvPicPr/>
            <p:nvPr/>
          </p:nvPicPr>
          <p:blipFill>
            <a:blip r:embed="rId2"/>
            <a:srcRect l="15493" t="13230" r="43361" b="68273"/>
            <a:stretch/>
          </p:blipFill>
          <p:spPr>
            <a:xfrm>
              <a:off x="2266920" y="4140360"/>
              <a:ext cx="5977080" cy="2016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rcRect l="15493" t="31077" r="43361" b="30319"/>
          <a:stretch/>
        </p:blipFill>
        <p:spPr>
          <a:xfrm>
            <a:off x="2268360" y="1916280"/>
            <a:ext cx="5977080" cy="42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"/>
          <p:cNvPicPr/>
          <p:nvPr/>
        </p:nvPicPr>
        <p:blipFill>
          <a:blip r:embed="rId1"/>
          <a:srcRect l="16032" t="12586" r="35239" b="11611"/>
          <a:stretch/>
        </p:blipFill>
        <p:spPr>
          <a:xfrm>
            <a:off x="2811600" y="331920"/>
            <a:ext cx="5432400" cy="63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1"/>
          <a:srcRect l="13086" t="16538" r="47056" b="49028"/>
          <a:stretch/>
        </p:blipFill>
        <p:spPr>
          <a:xfrm>
            <a:off x="2700360" y="2573280"/>
            <a:ext cx="554364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Oval 4"/>
          <p:cNvSpPr/>
          <p:nvPr/>
        </p:nvSpPr>
        <p:spPr>
          <a:xfrm>
            <a:off x="8244000" y="5805360"/>
            <a:ext cx="647640" cy="649440"/>
          </a:xfrm>
          <a:prstGeom prst="ellipse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Text Box 8"/>
          <p:cNvSpPr/>
          <p:nvPr/>
        </p:nvSpPr>
        <p:spPr>
          <a:xfrm rot="16200000">
            <a:off x="6474960" y="3275280"/>
            <a:ext cx="435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Lucida Sans"/>
              </a:rPr>
              <a:t>gms 2010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468360" y="40464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6600"/>
              </a:buClr>
              <a:buFont typeface="Lucida San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 </a:t>
            </a: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Zonificación sísmica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Se distinguen tres zonas sísmicas en el territorio nacional, que dan lugar a tres valores de aceleración efectiva, dependiendo del lugar de emplazamiento de la construcción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Zona 1 Ao = 0,20g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Zona 2 Ao = 0,30g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Zona 3 Ao =</a:t>
            </a: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0,40g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rcRect l="14925" t="23040" r="17538" b="2633"/>
          <a:stretch/>
        </p:blipFill>
        <p:spPr>
          <a:xfrm>
            <a:off x="2986200" y="1973160"/>
            <a:ext cx="568944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611280" y="404640"/>
            <a:ext cx="7848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b) Efecto del suelo de fundación en las características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del movimiento sísmico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Se distinguen 4 tipos de suelo de acuerdo a la velocidad de propagación de onda, densidad relativa, resistencia a la compresión, etc. y se les asocia un período respectivo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rcRect l="14032" t="22439" r="44092" b="32269"/>
          <a:stretch/>
        </p:blipFill>
        <p:spPr>
          <a:xfrm>
            <a:off x="2843280" y="2276640"/>
            <a:ext cx="547380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611280" y="743040"/>
            <a:ext cx="727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c) Clasificación de los edificios según su importancia,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uso y riesgo de falla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Lucida Sans"/>
              </a:rPr>
              <a:t>Categoría A:</a:t>
            </a:r>
            <a:r>
              <a:rPr b="1" lang="es-ES" sz="1800" spc="-1" strike="noStrike">
                <a:solidFill>
                  <a:srgbClr val="ffffff"/>
                </a:solidFill>
                <a:latin typeface="Lucid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Edificios gubernamentales, municipales, de servicios públicos o de utilidad pública (como cuarteles de policía, centrales eléctricas y telefónicas, correos y telégrafos, radioemisoras, canales de televisión, plantas de agua potable y de bombeo, etc.), y aquellos cuyo uso es de especial importancia en caso de catástrofe (como hospitales, postas de primeros auxilios, cuarteles de bomberos, garajes para vehículos de emergencia, estaciones terminales, etc.)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684360" y="836640"/>
            <a:ext cx="7920000" cy="50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Lucida Sans"/>
              </a:rPr>
              <a:t>Categoría B:</a:t>
            </a:r>
            <a:r>
              <a:rPr b="1" lang="es-ES" sz="1800" spc="-1" strike="noStrike">
                <a:solidFill>
                  <a:srgbClr val="ffffff"/>
                </a:solidFill>
                <a:latin typeface="Lucid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Edificios cuyo contenido es de gran valor (como bibliotecas, museos, etc.) y aquellos donde existe frecuentemente aglomeración de personas. Entre estos últimos se incluyen los siguientes edificios: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salas destinadas a asamblea para 100 o más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personas;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estadios y graderías al aire libre para 2.000 o más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personas;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escuelas, parvularios y recintos universitarios;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Lucida San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  <a:ea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  <a:ea typeface="Arial"/>
              </a:rPr>
              <a:t>cárceles y lugares de detención</a:t>
            </a:r>
            <a:r>
              <a:rPr b="0" lang="es-ES" sz="1800" spc="-1" strike="noStrike">
                <a:solidFill>
                  <a:srgbClr val="000000"/>
                </a:solidFill>
                <a:latin typeface="Lucida Sans"/>
                <a:ea typeface="Arial"/>
              </a:rPr>
              <a:t>;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locales comerciales con una superficie igual o mayor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que 500 m2 por piso o de altura superior a 12 m;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centros comerciales con pasillos cubiertos, con un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área total superior a 3.000 m2 sin considerar la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superficie de estacionamientos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buClr>
                <a:srgbClr val="ffffff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84360" y="401760"/>
            <a:ext cx="7920000" cy="34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Lucida Sans"/>
              </a:rPr>
              <a:t>Categoría C:</a:t>
            </a:r>
            <a:r>
              <a:rPr b="1" lang="es-ES" sz="1800" spc="-1" strike="noStrike">
                <a:solidFill>
                  <a:srgbClr val="ffffff"/>
                </a:solidFill>
                <a:latin typeface="Lucid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Edificios destinados a la habitación privada o al uso público que no pertenecen a ninguna de las categorías A o B. y construcciones de cualquier tipo cuya falla puede poner en peligro otras construcciones de las categorías A, B o C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Lucida Sans"/>
              </a:rPr>
              <a:t>Categoría D:</a:t>
            </a:r>
            <a:r>
              <a:rPr b="1" lang="es-ES" sz="1800" spc="-1" strike="noStrike">
                <a:solidFill>
                  <a:srgbClr val="ffffff"/>
                </a:solidFill>
                <a:latin typeface="Lucid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Construcciones aisladas o provisionales no destinadas a habitación, no clasificables en ninguna de las categorías anteriores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buClr>
                <a:srgbClr val="ffffff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>
            <a:lum contrast="18000"/>
          </a:blip>
          <a:srcRect l="16032" t="28341" r="42611" b="45076"/>
          <a:stretch/>
        </p:blipFill>
        <p:spPr>
          <a:xfrm>
            <a:off x="2484360" y="3890880"/>
            <a:ext cx="576288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971640" y="620640"/>
            <a:ext cx="7345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d) Principios e hipótesis básicos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La norma está orientada a lograr estructuras que: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Resistan sin daños sismos de intensidad moderada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Limiten los daños a elementos no estructurales en sismos de mediana intensidad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Aunque presenten daños, eviten el colapso durante sismos de intensidad excepcionalmente severa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971640" y="3614760"/>
            <a:ext cx="727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e) Combinación de las solicitaciones sísmicas con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otras solicitaciones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Si el diseño es por el método de tensiones admisibles, Cargas permanentes + sobrecarga de uso + sismo, pudiendo aumentar las tensiones admisibles en un 33,33%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La acción del sismo se considera eventual y no es necesario combinarla con otras cargas eventuales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971640" y="620640"/>
            <a:ext cx="7272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Para el cálculo de la acción sísmica se deben considerar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las cargas permanentes + un porcentaje de las sobrecargas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de uso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25% en construcciones destinadas a la habitación privada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50% en construcciones donde es usual la aglomeración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En los edificios sin diafragma los elementos resistentes deben calcularse con las fuerzas horizontales que inciden directamente sobre ellos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f) Factor de modificación de la respuesta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Se establece una clasificación de los diferentes tipos de estructuraciones y materiales para, en base a sus características de absorción y disipación de energía, determinar un factor de modificación de la respuesta (Ro)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971640" y="260280"/>
            <a:ext cx="727236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g) Método estático de análisis sísmico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El método estático de análisis sísmico sólo puede usarse en el análisis sísmico de los siguientes edificios: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todas las estructuras de las categorías C y D ubicadas en zona sísmica I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todas las estructuras de no más de 5 pisos y de altura no mayor que 20 m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las estructuras de más de 5 pisos, pero menos de 16, bajo las restricciones que indica la norma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Se establece un sistema de fuerzas aplicadas en el centro de masas de cada nivel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El esfuerzo de corte basal está dado por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1" lang="es-ES" sz="2000" spc="-1" strike="noStrike">
                <a:solidFill>
                  <a:srgbClr val="3366ff"/>
                </a:solidFill>
                <a:latin typeface="Lucida Sans"/>
              </a:rPr>
              <a:t>Qo = C * I * P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en que: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C = coeficiente sísmico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I = coeficiente relativo a la categoría del edificio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P = peso del edificio sobre el nivel basal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4:23:01Z</dcterms:created>
  <dc:creator>BELI Y RAUL</dc:creator>
  <dc:description/>
  <dc:language>en-US</dc:language>
  <cp:lastModifiedBy>Valued Packard Bell Customer</cp:lastModifiedBy>
  <dcterms:modified xsi:type="dcterms:W3CDTF">2010-08-15T22:19:06Z</dcterms:modified>
  <cp:revision>156</cp:revision>
  <dc:subject/>
  <dc:title>Diapositiva 1</dc:title>
</cp:coreProperties>
</file>