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6A0D-E647-49D4-AD7A-D5BA39A5671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EC93-CF97-4AE1-8BA3-97D94793F05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FF76-84C5-46BB-ADCD-122F01CFC00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ADDA-30C9-46F6-A358-9B2FD07DACB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51FF-D3B6-420A-902E-683169927F56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3EF1-57F1-4125-AFA3-A3DE2345745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CCDF-D0D8-4A47-84ED-38758990CDD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B02E-D64B-4EC2-84E2-9184B771E98D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586B-E9A9-4EE0-B1E0-76B382EF1BB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CC37-37E1-4D1B-B71C-10BE88BBCDB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61EE-C85A-4947-B889-18367835990E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EDAE-EC42-4CA2-8C73-6B69AA3B6221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98EC-E74E-4A87-B760-4FF32D1B236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D5D3-19E6-46DD-829F-24ECB65E80B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6F30-EE11-4DF2-ABBE-5D2DD051D9B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9E6-D133-45D6-8E23-A4E5767C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250-8CDA-42AD-B4C8-0DB154BB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670-9563-438D-A468-F4E60344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FC6-A741-470A-A44C-5B5A9101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E8B-A2F9-42C8-9A7B-D5FC8D3D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731-AC8E-4D6A-9F35-274D7CB4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9B2-6A86-45A8-8DC4-66E8D3A1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E49-CC6E-4BC7-B99D-E2A57911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FB5-3451-4166-A973-4EA06FC9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5342-07A3-41EE-88EA-D42222DC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D5C-3EB4-4418-8B73-05955F9B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770-A25A-4D4E-AEFF-CA4A02F1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A27B-92DA-45C1-A8E7-214619DFBC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8"/>
          <p:cNvSpPr/>
          <p:nvPr/>
        </p:nvSpPr>
        <p:spPr>
          <a:xfrm>
            <a:off x="611280" y="2637000"/>
            <a:ext cx="3241440" cy="323820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411280" y="4222800"/>
            <a:ext cx="63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6600"/>
                </a:solidFill>
                <a:latin typeface="Lucida Sans"/>
              </a:rPr>
              <a:t>Análisis Sísmico    </a:t>
            </a:r>
            <a:r>
              <a:rPr b="1" lang="es-ES" sz="2400" spc="-1" strike="noStrike">
                <a:solidFill>
                  <a:srgbClr val="ffffff"/>
                </a:solidFill>
                <a:latin typeface="Lucida Sans"/>
              </a:rPr>
              <a:t>DEFINICIÓN DEL COEFICIENTE SISMICO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1280" y="52941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70ff"/>
                </a:solidFill>
                <a:latin typeface="Verdana"/>
              </a:rPr>
              <a:t>gabriela muñoz 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2266920" y="981000"/>
            <a:ext cx="5978520" cy="5175360"/>
            <a:chOff x="2266920" y="981000"/>
            <a:chExt cx="5978520" cy="5175360"/>
          </a:xfrm>
        </p:grpSpPr>
        <p:pic>
          <p:nvPicPr>
            <p:cNvPr id="64" name="Picture 3" descr=""/>
            <p:cNvPicPr/>
            <p:nvPr/>
          </p:nvPicPr>
          <p:blipFill>
            <a:blip r:embed="rId1"/>
            <a:srcRect l="13817" t="46075" r="47056" b="26367"/>
            <a:stretch/>
          </p:blipFill>
          <p:spPr>
            <a:xfrm>
              <a:off x="2268360" y="981000"/>
              <a:ext cx="5977080" cy="31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"/>
            <p:cNvPicPr/>
            <p:nvPr/>
          </p:nvPicPr>
          <p:blipFill>
            <a:blip r:embed="rId2"/>
            <a:srcRect l="15493" t="13230" r="43361" b="68273"/>
            <a:stretch/>
          </p:blipFill>
          <p:spPr>
            <a:xfrm>
              <a:off x="2266920" y="4140360"/>
              <a:ext cx="5977080" cy="20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rcRect l="15493" t="31077" r="43361" b="30319"/>
          <a:stretch/>
        </p:blipFill>
        <p:spPr>
          <a:xfrm>
            <a:off x="2268360" y="1916280"/>
            <a:ext cx="597708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rcRect l="16032" t="12586" r="35239" b="11611"/>
          <a:stretch/>
        </p:blipFill>
        <p:spPr>
          <a:xfrm>
            <a:off x="2811600" y="331920"/>
            <a:ext cx="54324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rcRect l="13086" t="16538" r="47056" b="49028"/>
          <a:stretch/>
        </p:blipFill>
        <p:spPr>
          <a:xfrm>
            <a:off x="2700360" y="2573280"/>
            <a:ext cx="55436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4"/>
          <p:cNvSpPr/>
          <p:nvPr/>
        </p:nvSpPr>
        <p:spPr>
          <a:xfrm>
            <a:off x="8244000" y="5805360"/>
            <a:ext cx="647640" cy="64944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Text Box 8"/>
          <p:cNvSpPr/>
          <p:nvPr/>
        </p:nvSpPr>
        <p:spPr>
          <a:xfrm rot="16200000">
            <a:off x="6474960" y="3275280"/>
            <a:ext cx="43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Lucida Sans"/>
              </a:rPr>
              <a:t>gms 2010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68360" y="40464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Lucida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 </a:t>
            </a: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Zonificación sísmic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tres zonas sísmicas en el territorio nacional, que dan lugar a tres valores de aceleración efectiva, dependiendo del lugar de emplazamiento de la construcción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1 Ao = 0,2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2 Ao = 0,3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Zona 3 Ao =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0,40g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14925" t="23040" r="17538" b="2633"/>
          <a:stretch/>
        </p:blipFill>
        <p:spPr>
          <a:xfrm>
            <a:off x="2986200" y="1973160"/>
            <a:ext cx="5689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11280" y="40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b) Efecto del suelo de fundación en las característic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el movimiento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distinguen 4 tipos de suelo de acuerdo a la velocidad de propagación de onda, densidad relativa, resistencia a la compresión, etc. y se les asocia un período respectiv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rcRect l="14032" t="22439" r="44092" b="32269"/>
          <a:stretch/>
        </p:blipFill>
        <p:spPr>
          <a:xfrm>
            <a:off x="2843280" y="2276640"/>
            <a:ext cx="54738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11280" y="743040"/>
            <a:ext cx="72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c) Clasificación de los edificios según su importancia,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uso y riesgo de fal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A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gubernamentales, municipales, de servicios públicos o de utilidad pública (como cuarteles de policía, centrales eléctricas y telefónicas, correos y telégrafos, radioemisoras, canales de televisión, plantas de agua potable y de bombeo, etc.), y aquellos cuyo uso es de especial importancia en caso de catástrofe (como hospitales, postas de primeros auxilios, cuarteles de bomberos, garajes para vehículos de emergencia, estaciones terminales, etc.)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684360" y="836640"/>
            <a:ext cx="7920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B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cuyo contenido es de gran valor (como bibliotecas, museos, etc.) y aquellos donde existe frecuentemente aglomeración de personas. Entre estos últimos se incluyen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salas destinadas a asamblea para 1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tadios y graderías al aire libre para 2.000 o má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ersona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escuelas, parvularios y recintos universitarios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Lucida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  <a:ea typeface="Arial"/>
              </a:rPr>
              <a:t>cárceles y lugares de detención</a:t>
            </a:r>
            <a:r>
              <a:rPr b="0" lang="es-ES" sz="1800" spc="-1" strike="noStrike">
                <a:solidFill>
                  <a:srgbClr val="000000"/>
                </a:solidFill>
                <a:latin typeface="Lucida Sans"/>
                <a:ea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ocales comerciales con una superficie igual o may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que 500 m2 por piso o de altura superior a 12 m;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centros comerciales con pasillos cubiertos, con u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área total superior a 3.000 m2 sin considerar l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uperficie de estacionamient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4360" y="401760"/>
            <a:ext cx="7920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C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dificios destinados a la habitación privada o al uso público que no pertenecen a ninguna de las categorías A o B. y construcciones de cualquier tipo cuya falla puede poner en peligro otras construcciones de las categorías A, B o C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Lucida Sans"/>
              </a:rPr>
              <a:t>Categoría D:</a:t>
            </a: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onstrucciones aisladas o provisionales no destinadas a habitación, no clasificables en ninguna de las categorías anterior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ffff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>
            <a:lum contrast="18000"/>
          </a:blip>
          <a:srcRect l="16032" t="28341" r="42611" b="45076"/>
          <a:stretch/>
        </p:blipFill>
        <p:spPr>
          <a:xfrm>
            <a:off x="2484360" y="3890880"/>
            <a:ext cx="57628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71640" y="62064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d) Principios e hipótesis básico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norma está orientada a lograr estructuras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Resistan sin daños sismos de intensidad moderad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imiten los daños a elementos no estructurales en sismos de mediana intensidad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Aunque presenten daños, eviten el colapso durante sismos de intensidad excepcionalmente sever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71640" y="36147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e) Combinación de las solicitaciones sísmicas co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otras solicitacione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i el diseño es por el método de tensiones admisibles, Cargas permanentes + sobrecarga de uso + sismo, pudiendo aumentar las tensiones admisibles en un 33,33%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 acción del sismo se considera eventual y no es necesario combinarla con otras cargas eventuale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71640" y="620640"/>
            <a:ext cx="7272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ara el cálculo de la acción sísmica se deben considera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las cargas permanentes + un porcentaje de las sobrecarga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de uso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25% en construcciones destinadas a la habitación privad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50% en construcciones donde es usual la aglomeración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los edificios sin diafragma los elementos resistentes deben calcularse con las fuerzas horizontales que inciden directamente sobre ello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f) Factor de modificación de la respuest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a clasificación de los diferentes tipos de estructuraciones y materiales para, en base a sus características de absorción y disipación de energía, determinar un factor de modificación de la respuesta (Ro)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971640" y="260280"/>
            <a:ext cx="72723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Lucida Sans"/>
              </a:rPr>
              <a:t>g) Método estático de análisis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método estático de análisis sísmico sólo puede usarse en el análisis sísmico de los siguientes edificios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las categorías C y D ubicadas en zona sísmica I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todas las estructuras de no más de 5 pisos y de altura no mayor que 20 m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- las estructuras de más de 5 pisos, pero menos de 16, bajo las restricciones que indica la norm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Se establece un sistema de fuerzas aplicadas en el centro de masas de cada nivel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l esfuerzo de corte basal está dado po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1" lang="es-ES" sz="2000" spc="-1" strike="noStrike">
                <a:solidFill>
                  <a:srgbClr val="3366ff"/>
                </a:solidFill>
                <a:latin typeface="Lucida Sans"/>
              </a:rPr>
              <a:t>Qo = C * I * P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en qu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C = coeficiente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I = coeficiente relativo a la categoría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Lucida Sans"/>
              </a:rPr>
              <a:t>P = peso del edificio sobre el nivel basal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23:01Z</dcterms:created>
  <dc:creator>BELI Y RAUL</dc:creator>
  <dc:description/>
  <dc:language>en-US</dc:language>
  <cp:lastModifiedBy>Valued Packard Bell Customer</cp:lastModifiedBy>
  <dcterms:modified xsi:type="dcterms:W3CDTF">2010-08-15T22:19:06Z</dcterms:modified>
  <cp:revision>156</cp:revision>
  <dc:subject/>
  <dc:title>Diapositiva 1</dc:title>
</cp:coreProperties>
</file>