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7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28.jpeg" ContentType="image/jpeg"/>
  <Override PartName="/ppt/media/image18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9.jpeg" ContentType="image/jpeg"/>
  <Override PartName="/ppt/media/image30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91A1-A4A3-4ED6-891B-F61AE7A8ED2A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397C-FDBB-48E0-849A-7DFF049C6F38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7F9E-B559-4581-B165-1010FB2E01A4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B361-7C86-4ACE-ABC4-8B5111BEB182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9A06-6ACA-457D-B946-E3B1310F5E88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FAC4-310A-4929-AD50-F97B6273CF92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37FB-C34B-427E-91C9-707E8AC10640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22F9-1A2E-4A89-8C78-D43FBA6A6D14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BE41-067F-41A2-A1E2-E7AA4ACDC39D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57BF-AC03-4366-BF8D-070FAE5567E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CABA-F079-4EB2-AE96-4CE4EE04B07A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2BBE-945D-4BAD-A94A-DDF79B3E2038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A857-1245-4140-B489-30830D870C0C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DA65-C7E3-496B-A2C1-D3F52C08AC20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46DB-49B7-4D7C-85DF-219F3103C579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1917-D896-47FD-A13B-D2876B9529D0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8335-0D27-4474-AA12-FA1EE6E00928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CCDC-7E2E-4931-9569-846373E12405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55F3-3633-41D4-8B6C-BA033A6C4996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881A-89B4-4760-B282-6E9EE55C0A95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5D5C-0EF8-4923-BE3C-6002A56526EA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DAF5-0188-4E0A-A8BA-DCAE5F64D116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0067-EAC8-4251-8826-DBE42FDFD442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F0C0-4A3D-42D0-962E-F343ECD61F91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1ECB-D415-4B6C-81B0-25EBA0C4C1B7}" type="slidenum">
              <a:rPr b="1" lang="es-E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812-2EB8-4DA4-A3BE-68B345F2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F652-81A7-4CB6-94A6-B76C6441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4EC-4579-4995-90D0-31E3AA03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26F-372A-43E5-84EC-AB072A17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A9A3-78D1-4B5C-8634-082C80A5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9B3-76BE-42F2-BC37-A011A493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B80-84E8-46BC-B3F2-4CBDC8D3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A12-270C-464F-86EE-4D0BEA7D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DB3-A1DA-4C55-BC71-F37D6F38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B60-C96B-43E4-889C-AD4E6016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4FE0-200F-4B12-81A8-43A73303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A4C-8D37-4A69-91A1-E7B45C98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92C0-43BC-4B7C-97FF-8EFF4FBB28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8"/>
          <p:cNvSpPr/>
          <p:nvPr/>
        </p:nvSpPr>
        <p:spPr>
          <a:xfrm>
            <a:off x="898560" y="2637000"/>
            <a:ext cx="3241800" cy="323820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411280" y="4222800"/>
            <a:ext cx="63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Lucida Sans"/>
              </a:rPr>
              <a:t>Estructura resistente    </a:t>
            </a:r>
            <a:r>
              <a:rPr b="1" lang="es-ES" sz="2400" spc="-1" strike="noStrike">
                <a:solidFill>
                  <a:srgbClr val="ff9900"/>
                </a:solidFill>
                <a:latin typeface="Lucida Sans"/>
              </a:rPr>
              <a:t>SISTEMAS ESTRUCTURALES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611280" y="52941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370ff"/>
                </a:solidFill>
                <a:latin typeface="Verdana"/>
              </a:rPr>
              <a:t>gabriela muñoz s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REPRESENTACIÓN TEÓRICA DEL SISMO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rcRect l="10872" t="22922" r="7461" b="12167"/>
          <a:stretch/>
        </p:blipFill>
        <p:spPr>
          <a:xfrm>
            <a:off x="1332000" y="2276640"/>
            <a:ext cx="62643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SISTEMAS ESTRUCTURALE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rcRect l="22094" t="17798" r="838" b="70252"/>
          <a:stretch/>
        </p:blipFill>
        <p:spPr>
          <a:xfrm>
            <a:off x="755640" y="1700280"/>
            <a:ext cx="6192720" cy="720720"/>
          </a:xfrm>
          <a:prstGeom prst="rect">
            <a:avLst/>
          </a:prstGeom>
          <a:ln w="0">
            <a:noFill/>
          </a:ln>
        </p:spPr>
      </p:pic>
      <p:grpSp>
        <p:nvGrpSpPr>
          <p:cNvPr id="87" name="14 Grupo"/>
          <p:cNvGrpSpPr/>
          <p:nvPr/>
        </p:nvGrpSpPr>
        <p:grpSpPr>
          <a:xfrm>
            <a:off x="7219800" y="1739880"/>
            <a:ext cx="1600200" cy="4857840"/>
            <a:chOff x="7219800" y="1739880"/>
            <a:chExt cx="1600200" cy="4857840"/>
          </a:xfrm>
        </p:grpSpPr>
        <p:pic>
          <p:nvPicPr>
            <p:cNvPr id="88" name="6 Imagen" descr="Arkinetia_bak_Arquitectos_-_Argentina_Casa_de_hormigon_en_el_bosque_de_Mar_Azul_qqqBREID0000000459-IMG001_r713.jpg"/>
            <p:cNvPicPr/>
            <p:nvPr/>
          </p:nvPicPr>
          <p:blipFill>
            <a:blip r:embed="rId2"/>
            <a:stretch/>
          </p:blipFill>
          <p:spPr>
            <a:xfrm>
              <a:off x="7219800" y="1739880"/>
              <a:ext cx="1599480" cy="159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12 Imagen" descr="8862895_orig.jpg"/>
            <p:cNvPicPr/>
            <p:nvPr/>
          </p:nvPicPr>
          <p:blipFill>
            <a:blip r:embed="rId3"/>
            <a:stretch/>
          </p:blipFill>
          <p:spPr>
            <a:xfrm>
              <a:off x="7219800" y="4997880"/>
              <a:ext cx="1599480" cy="159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13 Imagen" descr="quintay-constru-08.jpg"/>
            <p:cNvPicPr/>
            <p:nvPr/>
          </p:nvPicPr>
          <p:blipFill>
            <a:blip r:embed="rId4"/>
            <a:stretch/>
          </p:blipFill>
          <p:spPr>
            <a:xfrm>
              <a:off x="7219800" y="3368880"/>
              <a:ext cx="1600200" cy="159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6" descr=""/>
          <p:cNvPicPr/>
          <p:nvPr/>
        </p:nvPicPr>
        <p:blipFill>
          <a:blip r:embed="rId5"/>
          <a:srcRect l="16715" t="32928" r="13493" b="4095"/>
          <a:stretch/>
        </p:blipFill>
        <p:spPr>
          <a:xfrm>
            <a:off x="1123920" y="2492280"/>
            <a:ext cx="56088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DIAFRAGM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rcRect l="8527" t="19786" r="0" b="66900"/>
          <a:stretch/>
        </p:blipFill>
        <p:spPr>
          <a:xfrm>
            <a:off x="704880" y="1773360"/>
            <a:ext cx="7323120" cy="798480"/>
          </a:xfrm>
          <a:prstGeom prst="rect">
            <a:avLst/>
          </a:prstGeom>
          <a:ln w="0">
            <a:noFill/>
          </a:ln>
        </p:spPr>
      </p:pic>
      <p:pic>
        <p:nvPicPr>
          <p:cNvPr id="96" name="7 Imagen" descr="ee2g.jpg"/>
          <p:cNvPicPr/>
          <p:nvPr/>
        </p:nvPicPr>
        <p:blipFill>
          <a:blip r:embed="rId2"/>
          <a:stretch/>
        </p:blipFill>
        <p:spPr>
          <a:xfrm>
            <a:off x="6764400" y="458136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6 Imagen" descr="P09.jpg"/>
          <p:cNvPicPr/>
          <p:nvPr/>
        </p:nvPicPr>
        <p:blipFill>
          <a:blip r:embed="rId3"/>
          <a:stretch/>
        </p:blipFill>
        <p:spPr>
          <a:xfrm>
            <a:off x="6764400" y="2631960"/>
            <a:ext cx="1950840" cy="1949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4"/>
          <a:srcRect l="14822" t="35507" r="15922" b="15307"/>
          <a:stretch/>
        </p:blipFill>
        <p:spPr>
          <a:xfrm>
            <a:off x="900000" y="3141720"/>
            <a:ext cx="5543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EN BASE A MURO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rcRect l="9303" t="18704" r="0" b="51435"/>
          <a:stretch/>
        </p:blipFill>
        <p:spPr>
          <a:xfrm>
            <a:off x="826920" y="1781280"/>
            <a:ext cx="7255080" cy="1792080"/>
          </a:xfrm>
          <a:prstGeom prst="rect">
            <a:avLst/>
          </a:prstGeom>
          <a:ln w="0">
            <a:noFill/>
          </a:ln>
        </p:spPr>
      </p:pic>
      <p:grpSp>
        <p:nvGrpSpPr>
          <p:cNvPr id="103" name="10 Grupo"/>
          <p:cNvGrpSpPr/>
          <p:nvPr/>
        </p:nvGrpSpPr>
        <p:grpSpPr>
          <a:xfrm>
            <a:off x="324000" y="3714840"/>
            <a:ext cx="8510400" cy="2786040"/>
            <a:chOff x="324000" y="3714840"/>
            <a:chExt cx="8510400" cy="2786040"/>
          </a:xfrm>
        </p:grpSpPr>
        <p:pic>
          <p:nvPicPr>
            <p:cNvPr id="104" name="6 Imagen" descr="24516892.jpg"/>
            <p:cNvPicPr/>
            <p:nvPr/>
          </p:nvPicPr>
          <p:blipFill>
            <a:blip r:embed="rId2"/>
            <a:stretch/>
          </p:blipFill>
          <p:spPr>
            <a:xfrm>
              <a:off x="324000" y="3714840"/>
              <a:ext cx="2786760" cy="27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6 Imagen" descr="Arkinetia_bak_Arquitectos_-_Argentina_Casa_de_hormigon_en_el_bosque_de_Mar_Azul_qqqBREID0000000459-IMG001_r713.jpg"/>
            <p:cNvPicPr/>
            <p:nvPr/>
          </p:nvPicPr>
          <p:blipFill>
            <a:blip r:embed="rId3"/>
            <a:stretch/>
          </p:blipFill>
          <p:spPr>
            <a:xfrm>
              <a:off x="6048360" y="3714840"/>
              <a:ext cx="2786040" cy="27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9 Imagen" descr="anda01.jpg"/>
            <p:cNvPicPr/>
            <p:nvPr/>
          </p:nvPicPr>
          <p:blipFill>
            <a:blip r:embed="rId4"/>
            <a:stretch/>
          </p:blipFill>
          <p:spPr>
            <a:xfrm>
              <a:off x="3186720" y="3714840"/>
              <a:ext cx="2786040" cy="27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TextBox 7"/>
          <p:cNvSpPr/>
          <p:nvPr/>
        </p:nvSpPr>
        <p:spPr>
          <a:xfrm>
            <a:off x="900000" y="2205000"/>
            <a:ext cx="2880000" cy="1372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LBAÑILERIA SIMPLE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LBAÑILERIA CONFINADA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LBAÑILERIA ARMADA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HORMIGON ARMAD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EN BASE A MURO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rcRect l="11370" t="21854" r="5390" b="18457"/>
          <a:stretch/>
        </p:blipFill>
        <p:spPr>
          <a:xfrm>
            <a:off x="971640" y="2133720"/>
            <a:ext cx="69850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EN BASE A MURO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rcRect l="12588" t="22001" r="20710" b="3691"/>
          <a:stretch/>
        </p:blipFill>
        <p:spPr>
          <a:xfrm>
            <a:off x="1042920" y="1773360"/>
            <a:ext cx="55990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EN BASE A MURO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rcRect l="7346" t="23035" r="6276" b="5759"/>
          <a:stretch/>
        </p:blipFill>
        <p:spPr>
          <a:xfrm>
            <a:off x="779400" y="1827360"/>
            <a:ext cx="724860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RRIOSTR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3" name="19 Grupo"/>
          <p:cNvGrpSpPr/>
          <p:nvPr/>
        </p:nvGrpSpPr>
        <p:grpSpPr>
          <a:xfrm>
            <a:off x="371520" y="3716280"/>
            <a:ext cx="8486640" cy="2786040"/>
            <a:chOff x="371520" y="3716280"/>
            <a:chExt cx="8486640" cy="2786040"/>
          </a:xfrm>
        </p:grpSpPr>
        <p:pic>
          <p:nvPicPr>
            <p:cNvPr id="124" name="10 Imagen" descr="IMG_0711.jpg"/>
            <p:cNvPicPr/>
            <p:nvPr/>
          </p:nvPicPr>
          <p:blipFill>
            <a:blip r:embed="rId1"/>
            <a:stretch/>
          </p:blipFill>
          <p:spPr>
            <a:xfrm>
              <a:off x="6086520" y="3716280"/>
              <a:ext cx="2771640" cy="27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" descr=""/>
            <p:cNvPicPr/>
            <p:nvPr/>
          </p:nvPicPr>
          <p:blipFill>
            <a:blip r:embed="rId2"/>
            <a:stretch/>
          </p:blipFill>
          <p:spPr>
            <a:xfrm>
              <a:off x="3242880" y="3730320"/>
              <a:ext cx="2771640" cy="27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18 Imagen" descr="quintay-constru-04.jpg"/>
            <p:cNvPicPr/>
            <p:nvPr/>
          </p:nvPicPr>
          <p:blipFill>
            <a:blip r:embed="rId3"/>
            <a:stretch/>
          </p:blipFill>
          <p:spPr>
            <a:xfrm>
              <a:off x="371520" y="3716280"/>
              <a:ext cx="2771640" cy="27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Box 7"/>
          <p:cNvSpPr/>
          <p:nvPr/>
        </p:nvSpPr>
        <p:spPr>
          <a:xfrm>
            <a:off x="1187280" y="2276640"/>
            <a:ext cx="2521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MADERA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CER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HORMIGON ARMAD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4"/>
          <a:srcRect l="70490" t="20820" r="3396" b="62371"/>
          <a:stretch/>
        </p:blipFill>
        <p:spPr>
          <a:xfrm>
            <a:off x="5292720" y="2133720"/>
            <a:ext cx="2087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RRIOSTR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rcRect l="16501" t="30221" r="10595" b="17424"/>
          <a:stretch/>
        </p:blipFill>
        <p:spPr>
          <a:xfrm>
            <a:off x="1336680" y="2421000"/>
            <a:ext cx="61149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11280" y="33336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RRIOSTR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unione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1639800" y="2205000"/>
            <a:ext cx="56689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971640" y="1855800"/>
            <a:ext cx="712944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Lucida Sans"/>
              </a:rPr>
              <a:t>Conjunto de elementos que mantienen la estabilidad de una obra frente a las solicitaciones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(NCh 433 Of.96)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Solicitaciones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>
              <a:lnSpc>
                <a:spcPct val="100000"/>
              </a:lnSpc>
              <a:buClr>
                <a:srgbClr val="40404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  <a:ea typeface="Arial"/>
              </a:rPr>
              <a:t> </a:t>
            </a:r>
            <a:r>
              <a:rPr b="0" lang="es-ES" sz="2000" spc="-1" strike="noStrike">
                <a:solidFill>
                  <a:srgbClr val="404040"/>
                </a:solidFill>
                <a:latin typeface="Lucida Sans"/>
                <a:ea typeface="Arial"/>
              </a:rPr>
              <a:t>acciones que tienden a desplazar los objetos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buClr>
                <a:srgbClr val="40404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Acciones mecánicas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      </a:t>
            </a:r>
            <a:r>
              <a:rPr b="0" lang="es-ES" sz="2000" spc="-1" strike="noStrike">
                <a:solidFill>
                  <a:srgbClr val="404040"/>
                </a:solidFill>
                <a:latin typeface="Lucida Sans"/>
              </a:rPr>
              <a:t>- fuerzas (vectores)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Line 9"/>
          <p:cNvSpPr/>
          <p:nvPr/>
        </p:nvSpPr>
        <p:spPr>
          <a:xfrm flipH="1">
            <a:off x="611280" y="141300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11280" y="692280"/>
            <a:ext cx="770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 RESISTENTE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11280" y="33336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RRIOSTR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longitud de pandeo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rcRect l="15578" t="31304" r="3544" b="5906"/>
          <a:stretch/>
        </p:blipFill>
        <p:spPr>
          <a:xfrm>
            <a:off x="1042920" y="2205000"/>
            <a:ext cx="678348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11280" y="74916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PORTIC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rcRect l="70364" t="19885" r="2621" b="60531"/>
          <a:stretch/>
        </p:blipFill>
        <p:spPr>
          <a:xfrm>
            <a:off x="5435640" y="2060640"/>
            <a:ext cx="2160720" cy="1174680"/>
          </a:xfrm>
          <a:prstGeom prst="rect">
            <a:avLst/>
          </a:prstGeom>
          <a:ln w="0">
            <a:noFill/>
          </a:ln>
        </p:spPr>
      </p:pic>
      <p:grpSp>
        <p:nvGrpSpPr>
          <p:cNvPr id="145" name="17 Grupo"/>
          <p:cNvGrpSpPr/>
          <p:nvPr/>
        </p:nvGrpSpPr>
        <p:grpSpPr>
          <a:xfrm>
            <a:off x="395280" y="3789360"/>
            <a:ext cx="8299440" cy="2735280"/>
            <a:chOff x="395280" y="3789360"/>
            <a:chExt cx="8299440" cy="2735280"/>
          </a:xfrm>
        </p:grpSpPr>
        <p:pic>
          <p:nvPicPr>
            <p:cNvPr id="146" name="9 Imagen" descr="183752116_img_9396.jpg"/>
            <p:cNvPicPr/>
            <p:nvPr/>
          </p:nvPicPr>
          <p:blipFill>
            <a:blip r:embed="rId2"/>
            <a:stretch/>
          </p:blipFill>
          <p:spPr>
            <a:xfrm>
              <a:off x="5967360" y="3789360"/>
              <a:ext cx="2727360" cy="27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12 Imagen" descr="8862895_orig.jpg"/>
            <p:cNvPicPr/>
            <p:nvPr/>
          </p:nvPicPr>
          <p:blipFill>
            <a:blip r:embed="rId3">
              <a:lum contrast="22000"/>
            </a:blip>
            <a:stretch/>
          </p:blipFill>
          <p:spPr>
            <a:xfrm>
              <a:off x="3181320" y="3789360"/>
              <a:ext cx="2736000" cy="27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16 Imagen" descr="1TRTR.jpg"/>
            <p:cNvPicPr/>
            <p:nvPr/>
          </p:nvPicPr>
          <p:blipFill>
            <a:blip r:embed="rId4"/>
            <a:stretch/>
          </p:blipFill>
          <p:spPr>
            <a:xfrm>
              <a:off x="395280" y="3789360"/>
              <a:ext cx="2738160" cy="273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TextBox 7"/>
          <p:cNvSpPr/>
          <p:nvPr/>
        </p:nvSpPr>
        <p:spPr>
          <a:xfrm>
            <a:off x="1187280" y="2276640"/>
            <a:ext cx="2521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MADERA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ACER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 </a:t>
            </a:r>
            <a:r>
              <a:rPr b="1" lang="es-CL" sz="1400" spc="-1" strike="noStrike">
                <a:solidFill>
                  <a:srgbClr val="404040"/>
                </a:solidFill>
                <a:latin typeface="Lucida Sans"/>
              </a:rPr>
              <a:t>HORMIGON ARMADO</a:t>
            </a:r>
            <a:endParaRPr b="1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11280" y="74916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ESTRUCTURAS APORTICAD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rcRect l="8638" t="26515" r="28739" b="8909"/>
          <a:stretch/>
        </p:blipFill>
        <p:spPr>
          <a:xfrm>
            <a:off x="1692360" y="1844640"/>
            <a:ext cx="565632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826920" y="1990800"/>
            <a:ext cx="720108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404040"/>
                </a:solidFill>
                <a:uFillTx/>
                <a:latin typeface="Lucida Sans"/>
              </a:rPr>
              <a:t>PRINCIPIOS E HIPÓTESIS BÁSICOS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Lucida Sans"/>
              </a:rPr>
              <a:t>Resistir sin daños movimientos sísmicos de intensidad moderad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Lucida Sans"/>
              </a:rPr>
              <a:t>Limitar los daños en elementos no estructurales durante  sísmicos de mediana intensidad. 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Lucida Sans"/>
              </a:rPr>
              <a:t>Aunque presente daños evitar el colapso durante sismos de intensidad excepcionalmente severa.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611280" y="74916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9900"/>
                </a:solidFill>
                <a:latin typeface="Lucida Sans"/>
              </a:rPr>
              <a:t>NCh 433 Of.96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4"/>
          <p:cNvSpPr/>
          <p:nvPr/>
        </p:nvSpPr>
        <p:spPr>
          <a:xfrm>
            <a:off x="8244000" y="5805360"/>
            <a:ext cx="647640" cy="649440"/>
          </a:xfrm>
          <a:prstGeom prst="ellipse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 Box 8"/>
          <p:cNvSpPr/>
          <p:nvPr/>
        </p:nvSpPr>
        <p:spPr>
          <a:xfrm rot="16200000">
            <a:off x="6474960" y="3275280"/>
            <a:ext cx="43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Lucida Sans"/>
              </a:rPr>
              <a:t>gms 2010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11280" y="6890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SOLICITACIONES SOBRE LAS ESTRUCTUR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Line 3"/>
          <p:cNvSpPr/>
          <p:nvPr/>
        </p:nvSpPr>
        <p:spPr>
          <a:xfrm flipH="1">
            <a:off x="611280" y="170028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63272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11280" y="6890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NORMATIVA DE CÁLCULO ESTRUCTURAL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611280" y="1773360"/>
            <a:ext cx="7632720" cy="460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431 Of. 1977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Construcción – Sobrecargas de nieve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432 Of. 1971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Cálculo de la acción del viento sobre las construcciones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433 Of. 1996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Diseño sísmico de edificios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1537 Of. 1986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Diseño estructural de edificios - Cargas permanentes y sobrecargas de uso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9"/>
          <p:cNvSpPr/>
          <p:nvPr/>
        </p:nvSpPr>
        <p:spPr>
          <a:xfrm>
            <a:off x="611280" y="1700280"/>
            <a:ext cx="7632720" cy="4608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11280" y="6890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MATERIALE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Line 3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5761080" cy="36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11280" y="404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NORMATIVA DE MATERIALE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Line 3"/>
          <p:cNvSpPr/>
          <p:nvPr/>
        </p:nvSpPr>
        <p:spPr>
          <a:xfrm flipH="1">
            <a:off x="611280" y="105264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11280" y="1341360"/>
            <a:ext cx="7632720" cy="532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1198 Of. 2006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Madera - Construcciones en madera – Cálculo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428 Of. 1957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Ejecución de construcciones de acero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AISC 2005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Manual of Steel Construction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2123 Of. 1997 Mod. 2003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Albañilería Confinada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1928 Of. 1993 Mod. 2003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Albañilería Armada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Norma Chilena Oficial NCH 170 Of. 1985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Hormigón – Requisitos generales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-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ACI 318-2005 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 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Building Code Requirements for Structural Concrete</a:t>
            </a: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611280" y="33336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SISMORRESISTENCIA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placas tectónicas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Line 4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rcRect l="13349" t="27681" r="17538" b="6280"/>
          <a:stretch/>
        </p:blipFill>
        <p:spPr>
          <a:xfrm>
            <a:off x="971640" y="1673280"/>
            <a:ext cx="676908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11280" y="33336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SISMORRESISTENCIA 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zonificación sísmica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Line 4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rcRect l="14925" t="23040" r="18336" b="3672"/>
          <a:stretch/>
        </p:blipFill>
        <p:spPr>
          <a:xfrm>
            <a:off x="1547640" y="1700280"/>
            <a:ext cx="59040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11280" y="6778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Lucida Sans"/>
              </a:rPr>
              <a:t>ANÁLISIS SÍSMICO</a:t>
            </a:r>
            <a:endParaRPr b="1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Line 4"/>
          <p:cNvSpPr/>
          <p:nvPr/>
        </p:nvSpPr>
        <p:spPr>
          <a:xfrm flipH="1">
            <a:off x="611280" y="1341360"/>
            <a:ext cx="7632720" cy="0"/>
          </a:xfrm>
          <a:prstGeom prst="line">
            <a:avLst/>
          </a:prstGeom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11280" y="1628640"/>
            <a:ext cx="7632720" cy="504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- ANÁLISIS MODAL ESPECTRAL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4d4d4d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  </a:t>
            </a: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- ANÁLISIS ESTÁTICO</a:t>
            </a:r>
            <a:endParaRPr b="1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Qo = Corte total acumulado a nivel basal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Qo = C * I * P</a:t>
            </a: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C =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coeficiente sísmic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I  = importancia del edifici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P = peso total del edificio</a:t>
            </a:r>
            <a:endParaRPr b="1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4:23:01Z</dcterms:created>
  <dc:creator>BELI Y RAUL</dc:creator>
  <dc:description/>
  <dc:language>en-US</dc:language>
  <cp:lastModifiedBy>estructuras</cp:lastModifiedBy>
  <dcterms:modified xsi:type="dcterms:W3CDTF">2010-08-16T14:15:40Z</dcterms:modified>
  <cp:revision>168</cp:revision>
  <dc:subject/>
  <dc:title>Diapositiva 1</dc:title>
</cp:coreProperties>
</file>