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7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28.jpeg" ContentType="image/jpeg"/>
  <Override PartName="/ppt/media/image18.png" ContentType="image/png"/>
  <Override PartName="/ppt/media/image7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9.jpeg" ContentType="image/jpeg"/>
  <Override PartName="/ppt/media/image30.jpeg" ContentType="image/jpe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7367-99C9-4502-9508-9FCEF249C210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B3B3-200C-49D2-81C0-2A00E59CA123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46AB-FC5F-4972-8101-1228F9E738BD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4ED6-D22B-46B4-8F60-9EFD132F17DB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21E6-E3CE-45D8-8D54-27EE8A6400BA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1253-6992-45A0-ADB7-8F336142123B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E984-C1CB-4DBC-9135-71347782139F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DEEB-F895-48AE-B294-9F77256FAFA3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A9DC-185B-48C6-A064-076AC9D34F0F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59F8-9933-4353-B606-37D58129D55F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C10D-8F0C-44D0-83AD-3F31B6AF8FA9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4154-7E36-4DD6-B589-019C4717AA12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AA8A-1361-4938-9943-6FB8C164988A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FE89-2D14-4E55-A5D2-3B1A3C5416B9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30FC-70B1-4468-A109-35F75A689A4B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6107-522D-43CE-85BC-DDEB7BCCE216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1A06-0E1D-4349-93BE-2FB6A59531F0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EF60-AC9A-4703-8966-5A20DBE7C393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3A02-8B89-4E12-BB30-28497B5C1913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0854-B925-4E4C-8B8F-FBDAB5400485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C221-646A-447D-AD37-ECF8E35EBBAB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615B-71AD-4CC6-9EA3-08A200A47093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BE7B-85C4-46BA-BA00-09531F7DB25A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0A07-7339-44E2-A967-C354C934C636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51B1-8187-4DA9-A39D-6D2B356655C5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8905-9CDD-438D-B902-9AB9A5ABC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6D85-49D4-48F3-AC1B-8442389B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941C-623A-420C-A20B-A9FE0E8F0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6532-8055-4538-9D42-A136241CD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6057-F6FF-494A-B13C-839666AF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E8C2-7161-40BD-9338-2B3BD643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CF1B-2A14-4097-AB58-DDCC5149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E685-4301-4CDB-9108-B7E635BB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9E04-2A09-4F03-9BB2-01AAB032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0BB0-B1D1-4897-9E66-EA2BA570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781A-313C-4FEE-B413-A5D3F787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D532-6667-4BE4-BE77-4373FCD2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041F-FD61-4846-B84E-E39DC0A5BD1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18"/>
          <p:cNvSpPr/>
          <p:nvPr/>
        </p:nvSpPr>
        <p:spPr>
          <a:xfrm>
            <a:off x="898560" y="2637000"/>
            <a:ext cx="3241800" cy="3238200"/>
          </a:xfrm>
          <a:prstGeom prst="ellipse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411280" y="4222800"/>
            <a:ext cx="63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Lucida Sans"/>
              </a:rPr>
              <a:t>Estructura resistente    </a:t>
            </a:r>
            <a:r>
              <a:rPr b="1" lang="es-ES" sz="2400" spc="-1" strike="noStrike">
                <a:solidFill>
                  <a:srgbClr val="ff9900"/>
                </a:solidFill>
                <a:latin typeface="Lucida Sans"/>
              </a:rPr>
              <a:t>SISTEMAS ESTRUCTURALES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611280" y="52941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370ff"/>
                </a:solidFill>
                <a:latin typeface="Verdana"/>
              </a:rPr>
              <a:t>gabriela muñoz s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REPRESENTACIÓN TEÓRICA DEL SISMO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rcRect l="10872" t="22922" r="7461" b="12167"/>
          <a:stretch/>
        </p:blipFill>
        <p:spPr>
          <a:xfrm>
            <a:off x="1332000" y="2276640"/>
            <a:ext cx="62643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SISTEMAS ESTRUCTURALE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rcRect l="22094" t="17798" r="838" b="70252"/>
          <a:stretch/>
        </p:blipFill>
        <p:spPr>
          <a:xfrm>
            <a:off x="755640" y="1700280"/>
            <a:ext cx="6192720" cy="720720"/>
          </a:xfrm>
          <a:prstGeom prst="rect">
            <a:avLst/>
          </a:prstGeom>
          <a:ln w="0">
            <a:noFill/>
          </a:ln>
        </p:spPr>
      </p:pic>
      <p:grpSp>
        <p:nvGrpSpPr>
          <p:cNvPr id="87" name="14 Grupo"/>
          <p:cNvGrpSpPr/>
          <p:nvPr/>
        </p:nvGrpSpPr>
        <p:grpSpPr>
          <a:xfrm>
            <a:off x="7219800" y="1739880"/>
            <a:ext cx="1600200" cy="4857840"/>
            <a:chOff x="7219800" y="1739880"/>
            <a:chExt cx="1600200" cy="4857840"/>
          </a:xfrm>
        </p:grpSpPr>
        <p:pic>
          <p:nvPicPr>
            <p:cNvPr id="88" name="6 Imagen" descr="Arkinetia_bak_Arquitectos_-_Argentina_Casa_de_hormigon_en_el_bosque_de_Mar_Azul_qqqBREID0000000459-IMG001_r713.jpg"/>
            <p:cNvPicPr/>
            <p:nvPr/>
          </p:nvPicPr>
          <p:blipFill>
            <a:blip r:embed="rId2"/>
            <a:stretch/>
          </p:blipFill>
          <p:spPr>
            <a:xfrm>
              <a:off x="7219800" y="1739880"/>
              <a:ext cx="1599480" cy="159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12 Imagen" descr="8862895_orig.jpg"/>
            <p:cNvPicPr/>
            <p:nvPr/>
          </p:nvPicPr>
          <p:blipFill>
            <a:blip r:embed="rId3"/>
            <a:stretch/>
          </p:blipFill>
          <p:spPr>
            <a:xfrm>
              <a:off x="7219800" y="4997880"/>
              <a:ext cx="1599480" cy="159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13 Imagen" descr="quintay-constru-08.jpg"/>
            <p:cNvPicPr/>
            <p:nvPr/>
          </p:nvPicPr>
          <p:blipFill>
            <a:blip r:embed="rId4"/>
            <a:stretch/>
          </p:blipFill>
          <p:spPr>
            <a:xfrm>
              <a:off x="7219800" y="3368880"/>
              <a:ext cx="1600200" cy="159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Picture 6" descr=""/>
          <p:cNvPicPr/>
          <p:nvPr/>
        </p:nvPicPr>
        <p:blipFill>
          <a:blip r:embed="rId5"/>
          <a:srcRect l="16715" t="32928" r="13493" b="4095"/>
          <a:stretch/>
        </p:blipFill>
        <p:spPr>
          <a:xfrm>
            <a:off x="1123920" y="2492280"/>
            <a:ext cx="560880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DIAFRAGM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rcRect l="8527" t="19786" r="0" b="66900"/>
          <a:stretch/>
        </p:blipFill>
        <p:spPr>
          <a:xfrm>
            <a:off x="704880" y="1773360"/>
            <a:ext cx="7323120" cy="798480"/>
          </a:xfrm>
          <a:prstGeom prst="rect">
            <a:avLst/>
          </a:prstGeom>
          <a:ln w="0">
            <a:noFill/>
          </a:ln>
        </p:spPr>
      </p:pic>
      <p:pic>
        <p:nvPicPr>
          <p:cNvPr id="96" name="7 Imagen" descr="ee2g.jpg"/>
          <p:cNvPicPr/>
          <p:nvPr/>
        </p:nvPicPr>
        <p:blipFill>
          <a:blip r:embed="rId2"/>
          <a:stretch/>
        </p:blipFill>
        <p:spPr>
          <a:xfrm>
            <a:off x="6764400" y="458136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6 Imagen" descr="P09.jpg"/>
          <p:cNvPicPr/>
          <p:nvPr/>
        </p:nvPicPr>
        <p:blipFill>
          <a:blip r:embed="rId3"/>
          <a:stretch/>
        </p:blipFill>
        <p:spPr>
          <a:xfrm>
            <a:off x="6764400" y="2631960"/>
            <a:ext cx="1950840" cy="1949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4"/>
          <a:srcRect l="14822" t="35507" r="15922" b="15307"/>
          <a:stretch/>
        </p:blipFill>
        <p:spPr>
          <a:xfrm>
            <a:off x="900000" y="3141720"/>
            <a:ext cx="55436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EN BASE A MURO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rcRect l="9303" t="18704" r="0" b="51435"/>
          <a:stretch/>
        </p:blipFill>
        <p:spPr>
          <a:xfrm>
            <a:off x="826920" y="1781280"/>
            <a:ext cx="7255080" cy="1792080"/>
          </a:xfrm>
          <a:prstGeom prst="rect">
            <a:avLst/>
          </a:prstGeom>
          <a:ln w="0">
            <a:noFill/>
          </a:ln>
        </p:spPr>
      </p:pic>
      <p:grpSp>
        <p:nvGrpSpPr>
          <p:cNvPr id="103" name="10 Grupo"/>
          <p:cNvGrpSpPr/>
          <p:nvPr/>
        </p:nvGrpSpPr>
        <p:grpSpPr>
          <a:xfrm>
            <a:off x="324000" y="3714840"/>
            <a:ext cx="8510400" cy="2786040"/>
            <a:chOff x="324000" y="3714840"/>
            <a:chExt cx="8510400" cy="2786040"/>
          </a:xfrm>
        </p:grpSpPr>
        <p:pic>
          <p:nvPicPr>
            <p:cNvPr id="104" name="6 Imagen" descr="24516892.jpg"/>
            <p:cNvPicPr/>
            <p:nvPr/>
          </p:nvPicPr>
          <p:blipFill>
            <a:blip r:embed="rId2"/>
            <a:stretch/>
          </p:blipFill>
          <p:spPr>
            <a:xfrm>
              <a:off x="324000" y="3714840"/>
              <a:ext cx="2786760" cy="27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6 Imagen" descr="Arkinetia_bak_Arquitectos_-_Argentina_Casa_de_hormigon_en_el_bosque_de_Mar_Azul_qqqBREID0000000459-IMG001_r713.jpg"/>
            <p:cNvPicPr/>
            <p:nvPr/>
          </p:nvPicPr>
          <p:blipFill>
            <a:blip r:embed="rId3"/>
            <a:stretch/>
          </p:blipFill>
          <p:spPr>
            <a:xfrm>
              <a:off x="6048360" y="3714840"/>
              <a:ext cx="2786040" cy="27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9 Imagen" descr="anda01.jpg"/>
            <p:cNvPicPr/>
            <p:nvPr/>
          </p:nvPicPr>
          <p:blipFill>
            <a:blip r:embed="rId4"/>
            <a:stretch/>
          </p:blipFill>
          <p:spPr>
            <a:xfrm>
              <a:off x="3186720" y="3714840"/>
              <a:ext cx="2786040" cy="27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TextBox 7"/>
          <p:cNvSpPr/>
          <p:nvPr/>
        </p:nvSpPr>
        <p:spPr>
          <a:xfrm>
            <a:off x="900000" y="2205000"/>
            <a:ext cx="2880000" cy="1372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ALBAÑILERIA SIMPLE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ALBAÑILERIA CONFINADA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ALBAÑILERIA ARMADA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HORMIGON ARMADO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EN BASE A MURO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1"/>
          <a:srcRect l="11370" t="21854" r="5390" b="18457"/>
          <a:stretch/>
        </p:blipFill>
        <p:spPr>
          <a:xfrm>
            <a:off x="971640" y="2133720"/>
            <a:ext cx="698508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EN BASE A MURO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rcRect l="12588" t="22001" r="20710" b="3691"/>
          <a:stretch/>
        </p:blipFill>
        <p:spPr>
          <a:xfrm>
            <a:off x="1042920" y="1773360"/>
            <a:ext cx="559908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EN BASE A MURO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rcRect l="7346" t="23035" r="6276" b="5759"/>
          <a:stretch/>
        </p:blipFill>
        <p:spPr>
          <a:xfrm>
            <a:off x="779400" y="1827360"/>
            <a:ext cx="724860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ARRIOSTRAD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3" name="19 Grupo"/>
          <p:cNvGrpSpPr/>
          <p:nvPr/>
        </p:nvGrpSpPr>
        <p:grpSpPr>
          <a:xfrm>
            <a:off x="371520" y="3716280"/>
            <a:ext cx="8486640" cy="2786040"/>
            <a:chOff x="371520" y="3716280"/>
            <a:chExt cx="8486640" cy="2786040"/>
          </a:xfrm>
        </p:grpSpPr>
        <p:pic>
          <p:nvPicPr>
            <p:cNvPr id="124" name="10 Imagen" descr="IMG_0711.jpg"/>
            <p:cNvPicPr/>
            <p:nvPr/>
          </p:nvPicPr>
          <p:blipFill>
            <a:blip r:embed="rId1"/>
            <a:stretch/>
          </p:blipFill>
          <p:spPr>
            <a:xfrm>
              <a:off x="6086520" y="3716280"/>
              <a:ext cx="2771640" cy="27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2" descr=""/>
            <p:cNvPicPr/>
            <p:nvPr/>
          </p:nvPicPr>
          <p:blipFill>
            <a:blip r:embed="rId2"/>
            <a:stretch/>
          </p:blipFill>
          <p:spPr>
            <a:xfrm>
              <a:off x="3242880" y="3730320"/>
              <a:ext cx="2771640" cy="27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18 Imagen" descr="quintay-constru-04.jpg"/>
            <p:cNvPicPr/>
            <p:nvPr/>
          </p:nvPicPr>
          <p:blipFill>
            <a:blip r:embed="rId3"/>
            <a:stretch/>
          </p:blipFill>
          <p:spPr>
            <a:xfrm>
              <a:off x="371520" y="3716280"/>
              <a:ext cx="2771640" cy="277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TextBox 7"/>
          <p:cNvSpPr/>
          <p:nvPr/>
        </p:nvSpPr>
        <p:spPr>
          <a:xfrm>
            <a:off x="1187280" y="2276640"/>
            <a:ext cx="25210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MADERA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ACERO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HORMIGON ARMADO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4"/>
          <a:srcRect l="70490" t="20820" r="3396" b="62371"/>
          <a:stretch/>
        </p:blipFill>
        <p:spPr>
          <a:xfrm>
            <a:off x="5292720" y="2133720"/>
            <a:ext cx="2087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ARRIOSTRAD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rcRect l="16501" t="30221" r="10595" b="17424"/>
          <a:stretch/>
        </p:blipFill>
        <p:spPr>
          <a:xfrm>
            <a:off x="1336680" y="2421000"/>
            <a:ext cx="61149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611280" y="33336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ARRIOSTRAD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unione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1639800" y="2205000"/>
            <a:ext cx="56689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971640" y="1855800"/>
            <a:ext cx="7129440" cy="40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Lucida Sans"/>
              </a:rPr>
              <a:t>Conjunto de elementos que mantienen la estabilidad de una obra frente a las solicitaciones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Lucida Sans"/>
              </a:rPr>
              <a:t>(NCh 433 Of.96)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Lucida Sans"/>
              </a:rPr>
              <a:t>Solicitaciones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00000"/>
              </a:lnSpc>
              <a:buClr>
                <a:srgbClr val="40404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Lucida Sans"/>
                <a:ea typeface="Arial"/>
              </a:rPr>
              <a:t> </a:t>
            </a:r>
            <a:r>
              <a:rPr b="0" lang="es-ES" sz="2000" spc="-1" strike="noStrike">
                <a:solidFill>
                  <a:srgbClr val="404040"/>
                </a:solidFill>
                <a:latin typeface="Lucida Sans"/>
                <a:ea typeface="Arial"/>
              </a:rPr>
              <a:t>acciones que tienden a desplazar los objetos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buClr>
                <a:srgbClr val="40404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Lucida Sans"/>
              </a:rPr>
              <a:t>Acciones mecánicas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Lucida Sans"/>
              </a:rPr>
              <a:t>      </a:t>
            </a:r>
            <a:r>
              <a:rPr b="0" lang="es-ES" sz="2000" spc="-1" strike="noStrike">
                <a:solidFill>
                  <a:srgbClr val="404040"/>
                </a:solidFill>
                <a:latin typeface="Lucida Sans"/>
              </a:rPr>
              <a:t>- fuerzas (vectores)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Line 9"/>
          <p:cNvSpPr/>
          <p:nvPr/>
        </p:nvSpPr>
        <p:spPr>
          <a:xfrm flipH="1">
            <a:off x="611280" y="141300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611280" y="692280"/>
            <a:ext cx="7705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 RESISTENTE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611280" y="33336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ARRIOSTRAD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longitud de pandeo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rcRect l="15578" t="31304" r="3544" b="5906"/>
          <a:stretch/>
        </p:blipFill>
        <p:spPr>
          <a:xfrm>
            <a:off x="1042920" y="2205000"/>
            <a:ext cx="678348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11280" y="74916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APORTICAD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2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rcRect l="70364" t="19885" r="2621" b="60531"/>
          <a:stretch/>
        </p:blipFill>
        <p:spPr>
          <a:xfrm>
            <a:off x="5435640" y="2060640"/>
            <a:ext cx="2160720" cy="1174680"/>
          </a:xfrm>
          <a:prstGeom prst="rect">
            <a:avLst/>
          </a:prstGeom>
          <a:ln w="0">
            <a:noFill/>
          </a:ln>
        </p:spPr>
      </p:pic>
      <p:grpSp>
        <p:nvGrpSpPr>
          <p:cNvPr id="145" name="17 Grupo"/>
          <p:cNvGrpSpPr/>
          <p:nvPr/>
        </p:nvGrpSpPr>
        <p:grpSpPr>
          <a:xfrm>
            <a:off x="395280" y="3789360"/>
            <a:ext cx="8299440" cy="2735280"/>
            <a:chOff x="395280" y="3789360"/>
            <a:chExt cx="8299440" cy="2735280"/>
          </a:xfrm>
        </p:grpSpPr>
        <p:pic>
          <p:nvPicPr>
            <p:cNvPr id="146" name="9 Imagen" descr="183752116_img_9396.jpg"/>
            <p:cNvPicPr/>
            <p:nvPr/>
          </p:nvPicPr>
          <p:blipFill>
            <a:blip r:embed="rId2"/>
            <a:stretch/>
          </p:blipFill>
          <p:spPr>
            <a:xfrm>
              <a:off x="5967360" y="3789360"/>
              <a:ext cx="2727360" cy="273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12 Imagen" descr="8862895_orig.jpg"/>
            <p:cNvPicPr/>
            <p:nvPr/>
          </p:nvPicPr>
          <p:blipFill>
            <a:blip r:embed="rId3">
              <a:lum contrast="22000"/>
            </a:blip>
            <a:stretch/>
          </p:blipFill>
          <p:spPr>
            <a:xfrm>
              <a:off x="3181320" y="3789360"/>
              <a:ext cx="2736000" cy="273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16 Imagen" descr="1TRTR.jpg"/>
            <p:cNvPicPr/>
            <p:nvPr/>
          </p:nvPicPr>
          <p:blipFill>
            <a:blip r:embed="rId4"/>
            <a:stretch/>
          </p:blipFill>
          <p:spPr>
            <a:xfrm>
              <a:off x="395280" y="3789360"/>
              <a:ext cx="2738160" cy="273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TextBox 7"/>
          <p:cNvSpPr/>
          <p:nvPr/>
        </p:nvSpPr>
        <p:spPr>
          <a:xfrm>
            <a:off x="1187280" y="2276640"/>
            <a:ext cx="25210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MADERA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ACERO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HORMIGON ARMADO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611280" y="74916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APORTICAD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rcRect l="8638" t="26515" r="28739" b="8909"/>
          <a:stretch/>
        </p:blipFill>
        <p:spPr>
          <a:xfrm>
            <a:off x="1692360" y="1844640"/>
            <a:ext cx="565632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826920" y="1990800"/>
            <a:ext cx="7201080" cy="40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404040"/>
                </a:solidFill>
                <a:uFillTx/>
                <a:latin typeface="Lucida Sans"/>
              </a:rPr>
              <a:t>PRINCIPIOS E HIPÓTESIS BÁSICO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040"/>
                </a:solidFill>
                <a:latin typeface="Lucida Sans"/>
              </a:rPr>
              <a:t>Resistir sin daños movimientos sísmicos de intensidad moderada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040"/>
                </a:solidFill>
                <a:latin typeface="Lucida Sans"/>
              </a:rPr>
              <a:t>Limitar los daños en elementos no estructurales durante  sísmicos de mediana intensidad.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040"/>
                </a:solidFill>
                <a:latin typeface="Lucida Sans"/>
              </a:rPr>
              <a:t>Aunque presente daños evitar el colapso durante sismos de intensidad excepcionalmente severa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611280" y="74916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9900"/>
                </a:solidFill>
                <a:latin typeface="Lucida Sans"/>
              </a:rPr>
              <a:t>NCh 433 Of.96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Oval 4"/>
          <p:cNvSpPr/>
          <p:nvPr/>
        </p:nvSpPr>
        <p:spPr>
          <a:xfrm>
            <a:off x="8244000" y="5805360"/>
            <a:ext cx="647640" cy="649440"/>
          </a:xfrm>
          <a:prstGeom prst="ellipse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Text Box 8"/>
          <p:cNvSpPr/>
          <p:nvPr/>
        </p:nvSpPr>
        <p:spPr>
          <a:xfrm rot="16200000">
            <a:off x="6474960" y="3275280"/>
            <a:ext cx="435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Lucida Sans"/>
              </a:rPr>
              <a:t>gms 2010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11280" y="6890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SOLICITACIONES SOBRE LAS ESTRUCTUR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Line 3"/>
          <p:cNvSpPr/>
          <p:nvPr/>
        </p:nvSpPr>
        <p:spPr>
          <a:xfrm flipH="1">
            <a:off x="611280" y="170028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763272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11280" y="6890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NORMATIVA DE CÁLCULO ESTRUCTURAL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611280" y="1773360"/>
            <a:ext cx="7632720" cy="4606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431 Of. 1977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Construcción – Sobrecargas de nieve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432 Of. 1971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Cálculo de la acción del viento sobre las construcciones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433 Of. 1996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Diseño sísmico de edificios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1537 Of. 1986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Diseño estructural de edificios - Cargas permanentes y sobrecargas de uso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9"/>
          <p:cNvSpPr/>
          <p:nvPr/>
        </p:nvSpPr>
        <p:spPr>
          <a:xfrm>
            <a:off x="611280" y="1700280"/>
            <a:ext cx="7632720" cy="4608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611280" y="6890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MATERIALE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5761080" cy="36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611280" y="4046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NORMATIVA DE MATERIALE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Line 3"/>
          <p:cNvSpPr/>
          <p:nvPr/>
        </p:nvSpPr>
        <p:spPr>
          <a:xfrm flipH="1">
            <a:off x="611280" y="105264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611280" y="1341360"/>
            <a:ext cx="7632720" cy="5327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1198 Of. 2006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Madera - Construcciones en madera – Cálculo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428 Of. 1957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Ejecución de construcciones de acero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AISC 2005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Manual of Steel Construction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2123 Of. 1997 Mod. 2003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Albañilería Confinada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1928 Of. 1993 Mod. 2003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Albañilería Armada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170 Of. 1985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Hormigón – Requisitos generales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ACI 318-2005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Building Code Requirements for Structural Concrete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611280" y="33336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SISMORRESISTENCIA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placas tectónic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Line 4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rcRect l="13349" t="27681" r="17538" b="6280"/>
          <a:stretch/>
        </p:blipFill>
        <p:spPr>
          <a:xfrm>
            <a:off x="971640" y="1673280"/>
            <a:ext cx="676908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611280" y="33336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SISMORRESISTENCIA 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zonificación sísmica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Line 4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rcRect l="14925" t="23040" r="18336" b="3672"/>
          <a:stretch/>
        </p:blipFill>
        <p:spPr>
          <a:xfrm>
            <a:off x="1547640" y="1700280"/>
            <a:ext cx="590400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ANÁLISIS SÍSMICO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Line 4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- ANÁLISIS MODAL ESPECTRAL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4d4d4d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- ANÁLISIS ESTÁTICO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Qo = Corte total acumulado a nivel basal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Qo = C * I * P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C =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coeficiente sísmic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I  = importancia del edifici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P = peso total del edifici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4:23:01Z</dcterms:created>
  <dc:creator>BELI Y RAUL</dc:creator>
  <dc:description/>
  <dc:language>en-US</dc:language>
  <cp:lastModifiedBy>estructuras</cp:lastModifiedBy>
  <dcterms:modified xsi:type="dcterms:W3CDTF">2010-08-16T14:15:40Z</dcterms:modified>
  <cp:revision>168</cp:revision>
  <dc:subject/>
  <dc:title>Diapositiva 1</dc:title>
</cp:coreProperties>
</file>