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7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81EA-F0CA-4FCD-967B-CF82727C285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E05B-FF54-4778-BDA1-C58BC436FD3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5964-9559-4473-940D-B9FCE7023001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FB1C-3210-42DF-B161-C38B0E625C7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9C33-2233-4028-BB4B-4B4CE4B0E4E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1126-9D82-4DAB-9EFB-082DC471D7F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8A9B-4D9C-4B3F-8A40-7D9B29A103C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7BB5-EC7A-481D-A84B-2A83F29D8D9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3C5A-2FF8-4A7C-AA7A-DD45B3EC952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21DF-72BC-4B34-BB8B-10C31D5B858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7A00-5FFF-4261-AB56-35D8F777946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3174-6D71-4F8D-A34B-BDD63B5FADCC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C194-C9D1-4438-9A3E-E7B7CD0E6871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00D0-49A5-4020-B959-9279EC4AE01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AB9D-8D47-4F26-AC0D-78F2C963173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2531-CFB0-466D-921F-CB4F00A9915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247C-B20C-48F5-857B-8F3D987FF851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993E-9190-48A4-9F7F-F64A4D6C516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C9BF-F362-4EAC-90A9-7511BD1D870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C921-EEFF-40F6-B64A-9180640DDE2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F2ED-1026-4E0F-984D-4FEB2B61A14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7329-BA3B-431C-9C4E-2BA3E5A67E8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382E-EA6E-4BF5-A0E4-5E470167480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F806-7F71-4E18-935D-7860D2481F9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9078-9A27-44D8-8FE6-3757EE735E7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CFD-58A1-438F-836E-D8D4768C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8BC-F9CD-4F03-9595-BA834B6C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094-A318-4322-81C1-681382C4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F68-87FB-4EB0-9DD7-3F567BF3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0B3-A48F-415E-BA70-95807AA6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925-DC0D-4230-801F-35693DD2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B2A-228B-47D4-95FC-BE0D9827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09C5-61CA-4C8E-8D34-E4882F41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54B-3B41-4F92-8CBC-4942F63F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494-B632-44F2-AE94-B88A4E56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269-E2E5-4622-9AA7-C239C2C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740-F3C9-4DAF-8795-E79300F2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036B-3319-44C4-A3ED-C3E575283C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898560" y="2637000"/>
            <a:ext cx="324180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Lucida Sans"/>
              </a:rPr>
              <a:t>Estructura resistente    </a:t>
            </a:r>
            <a:r>
              <a:rPr b="1" lang="es-ES" sz="2400" spc="-1" strike="noStrike">
                <a:solidFill>
                  <a:srgbClr val="ff9900"/>
                </a:solidFill>
                <a:latin typeface="Lucida Sans"/>
              </a:rPr>
              <a:t>SISTEMAS ESTRUCTURALE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REPRESENTACIÓN TEÓRICA DEL SISM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rcRect l="10872" t="22922" r="7461" b="12167"/>
          <a:stretch/>
        </p:blipFill>
        <p:spPr>
          <a:xfrm>
            <a:off x="1332000" y="2276640"/>
            <a:ext cx="6264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TEMAS ESTRUCTUR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rcRect l="22094" t="17798" r="838" b="70252"/>
          <a:stretch/>
        </p:blipFill>
        <p:spPr>
          <a:xfrm>
            <a:off x="755640" y="1700280"/>
            <a:ext cx="6192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87" name="14 Grupo"/>
          <p:cNvGrpSpPr/>
          <p:nvPr/>
        </p:nvGrpSpPr>
        <p:grpSpPr>
          <a:xfrm>
            <a:off x="7219800" y="1739880"/>
            <a:ext cx="1600200" cy="4857840"/>
            <a:chOff x="7219800" y="1739880"/>
            <a:chExt cx="1600200" cy="4857840"/>
          </a:xfrm>
        </p:grpSpPr>
        <p:pic>
          <p:nvPicPr>
            <p:cNvPr id="88" name="6 Imagen" descr="Arkinetia_bak_Arquitectos_-_Argentina_Casa_de_hormigon_en_el_bosque_de_Mar_Azul_qqqBREID0000000459-IMG001_r713.jpg"/>
            <p:cNvPicPr/>
            <p:nvPr/>
          </p:nvPicPr>
          <p:blipFill>
            <a:blip r:embed="rId2"/>
            <a:stretch/>
          </p:blipFill>
          <p:spPr>
            <a:xfrm>
              <a:off x="7219800" y="1739880"/>
              <a:ext cx="1599480" cy="15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12 Imagen" descr="8862895_orig.jpg"/>
            <p:cNvPicPr/>
            <p:nvPr/>
          </p:nvPicPr>
          <p:blipFill>
            <a:blip r:embed="rId3"/>
            <a:stretch/>
          </p:blipFill>
          <p:spPr>
            <a:xfrm>
              <a:off x="7219800" y="4997880"/>
              <a:ext cx="1599480" cy="15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13 Imagen" descr="quintay-constru-08.jpg"/>
            <p:cNvPicPr/>
            <p:nvPr/>
          </p:nvPicPr>
          <p:blipFill>
            <a:blip r:embed="rId4"/>
            <a:stretch/>
          </p:blipFill>
          <p:spPr>
            <a:xfrm>
              <a:off x="7219800" y="3368880"/>
              <a:ext cx="1600200" cy="159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6" descr=""/>
          <p:cNvPicPr/>
          <p:nvPr/>
        </p:nvPicPr>
        <p:blipFill>
          <a:blip r:embed="rId5"/>
          <a:srcRect l="16715" t="32928" r="13493" b="4095"/>
          <a:stretch/>
        </p:blipFill>
        <p:spPr>
          <a:xfrm>
            <a:off x="1123920" y="2492280"/>
            <a:ext cx="56088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DIAFRAGM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rcRect l="8527" t="19786" r="0" b="66900"/>
          <a:stretch/>
        </p:blipFill>
        <p:spPr>
          <a:xfrm>
            <a:off x="704880" y="1773360"/>
            <a:ext cx="7323120" cy="798480"/>
          </a:xfrm>
          <a:prstGeom prst="rect">
            <a:avLst/>
          </a:prstGeom>
          <a:ln w="0">
            <a:noFill/>
          </a:ln>
        </p:spPr>
      </p:pic>
      <p:pic>
        <p:nvPicPr>
          <p:cNvPr id="96" name="7 Imagen" descr="ee2g.jpg"/>
          <p:cNvPicPr/>
          <p:nvPr/>
        </p:nvPicPr>
        <p:blipFill>
          <a:blip r:embed="rId2"/>
          <a:stretch/>
        </p:blipFill>
        <p:spPr>
          <a:xfrm>
            <a:off x="6764400" y="458136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6 Imagen" descr="P09.jpg"/>
          <p:cNvPicPr/>
          <p:nvPr/>
        </p:nvPicPr>
        <p:blipFill>
          <a:blip r:embed="rId3"/>
          <a:stretch/>
        </p:blipFill>
        <p:spPr>
          <a:xfrm>
            <a:off x="6764400" y="2631960"/>
            <a:ext cx="1950840" cy="194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4"/>
          <a:srcRect l="14822" t="35507" r="15922" b="15307"/>
          <a:stretch/>
        </p:blipFill>
        <p:spPr>
          <a:xfrm>
            <a:off x="900000" y="3141720"/>
            <a:ext cx="5543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rcRect l="9303" t="18704" r="0" b="51435"/>
          <a:stretch/>
        </p:blipFill>
        <p:spPr>
          <a:xfrm>
            <a:off x="826920" y="1781280"/>
            <a:ext cx="7255080" cy="1792080"/>
          </a:xfrm>
          <a:prstGeom prst="rect">
            <a:avLst/>
          </a:prstGeom>
          <a:ln w="0">
            <a:noFill/>
          </a:ln>
        </p:spPr>
      </p:pic>
      <p:grpSp>
        <p:nvGrpSpPr>
          <p:cNvPr id="103" name="10 Grupo"/>
          <p:cNvGrpSpPr/>
          <p:nvPr/>
        </p:nvGrpSpPr>
        <p:grpSpPr>
          <a:xfrm>
            <a:off x="324000" y="3714840"/>
            <a:ext cx="8510400" cy="2786040"/>
            <a:chOff x="324000" y="3714840"/>
            <a:chExt cx="8510400" cy="2786040"/>
          </a:xfrm>
        </p:grpSpPr>
        <p:pic>
          <p:nvPicPr>
            <p:cNvPr id="104" name="6 Imagen" descr="24516892.jpg"/>
            <p:cNvPicPr/>
            <p:nvPr/>
          </p:nvPicPr>
          <p:blipFill>
            <a:blip r:embed="rId2"/>
            <a:stretch/>
          </p:blipFill>
          <p:spPr>
            <a:xfrm>
              <a:off x="324000" y="3714840"/>
              <a:ext cx="278676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6 Imagen" descr="Arkinetia_bak_Arquitectos_-_Argentina_Casa_de_hormigon_en_el_bosque_de_Mar_Azul_qqqBREID0000000459-IMG001_r713.jpg"/>
            <p:cNvPicPr/>
            <p:nvPr/>
          </p:nvPicPr>
          <p:blipFill>
            <a:blip r:embed="rId3"/>
            <a:stretch/>
          </p:blipFill>
          <p:spPr>
            <a:xfrm>
              <a:off x="6048360" y="3714840"/>
              <a:ext cx="278604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9 Imagen" descr="anda01.jpg"/>
            <p:cNvPicPr/>
            <p:nvPr/>
          </p:nvPicPr>
          <p:blipFill>
            <a:blip r:embed="rId4"/>
            <a:stretch/>
          </p:blipFill>
          <p:spPr>
            <a:xfrm>
              <a:off x="3186720" y="3714840"/>
              <a:ext cx="2786040" cy="27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Box 7"/>
          <p:cNvSpPr/>
          <p:nvPr/>
        </p:nvSpPr>
        <p:spPr>
          <a:xfrm>
            <a:off x="900000" y="2205000"/>
            <a:ext cx="2880000" cy="137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SIMPLE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CONFINAD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ARMAD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rcRect l="11370" t="21854" r="5390" b="18457"/>
          <a:stretch/>
        </p:blipFill>
        <p:spPr>
          <a:xfrm>
            <a:off x="971640" y="2133720"/>
            <a:ext cx="69850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12588" t="22001" r="20710" b="3691"/>
          <a:stretch/>
        </p:blipFill>
        <p:spPr>
          <a:xfrm>
            <a:off x="1042920" y="1773360"/>
            <a:ext cx="55990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rcRect l="7346" t="23035" r="6276" b="5759"/>
          <a:stretch/>
        </p:blipFill>
        <p:spPr>
          <a:xfrm>
            <a:off x="779400" y="1827360"/>
            <a:ext cx="72486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3" name="19 Grupo"/>
          <p:cNvGrpSpPr/>
          <p:nvPr/>
        </p:nvGrpSpPr>
        <p:grpSpPr>
          <a:xfrm>
            <a:off x="371520" y="3716280"/>
            <a:ext cx="8486640" cy="2786040"/>
            <a:chOff x="371520" y="3716280"/>
            <a:chExt cx="8486640" cy="2786040"/>
          </a:xfrm>
        </p:grpSpPr>
        <p:pic>
          <p:nvPicPr>
            <p:cNvPr id="124" name="10 Imagen" descr="IMG_0711.jpg"/>
            <p:cNvPicPr/>
            <p:nvPr/>
          </p:nvPicPr>
          <p:blipFill>
            <a:blip r:embed="rId1"/>
            <a:stretch/>
          </p:blipFill>
          <p:spPr>
            <a:xfrm>
              <a:off x="6086520" y="3716280"/>
              <a:ext cx="27716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"/>
            <p:cNvPicPr/>
            <p:nvPr/>
          </p:nvPicPr>
          <p:blipFill>
            <a:blip r:embed="rId2"/>
            <a:stretch/>
          </p:blipFill>
          <p:spPr>
            <a:xfrm>
              <a:off x="3242880" y="3730320"/>
              <a:ext cx="27716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18 Imagen" descr="quintay-constru-04.jpg"/>
            <p:cNvPicPr/>
            <p:nvPr/>
          </p:nvPicPr>
          <p:blipFill>
            <a:blip r:embed="rId3"/>
            <a:stretch/>
          </p:blipFill>
          <p:spPr>
            <a:xfrm>
              <a:off x="371520" y="3716280"/>
              <a:ext cx="2771640" cy="27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7"/>
          <p:cNvSpPr/>
          <p:nvPr/>
        </p:nvSpPr>
        <p:spPr>
          <a:xfrm>
            <a:off x="1187280" y="2276640"/>
            <a:ext cx="252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MADER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CER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4"/>
          <a:srcRect l="70490" t="20820" r="3396" b="62371"/>
          <a:stretch/>
        </p:blipFill>
        <p:spPr>
          <a:xfrm>
            <a:off x="5292720" y="2133720"/>
            <a:ext cx="2087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rcRect l="16501" t="30221" r="10595" b="17424"/>
          <a:stretch/>
        </p:blipFill>
        <p:spPr>
          <a:xfrm>
            <a:off x="1336680" y="2421000"/>
            <a:ext cx="61149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union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639800" y="2205000"/>
            <a:ext cx="56689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971640" y="1855800"/>
            <a:ext cx="712944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Lucida Sans"/>
              </a:rPr>
              <a:t>Conjunto de elementos que mantienen la estabilidad de una obra frente a las solicitacione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(NCh 433 Of.96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Solicitacione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  <a:ea typeface="Arial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Lucida Sans"/>
                <a:ea typeface="Arial"/>
              </a:rPr>
              <a:t>acciones que tienden a desplazar los objeto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40404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Acciones mecánica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      </a:t>
            </a: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- fuerzas (vectores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Line 9"/>
          <p:cNvSpPr/>
          <p:nvPr/>
        </p:nvSpPr>
        <p:spPr>
          <a:xfrm flipH="1">
            <a:off x="611280" y="141300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1280" y="692280"/>
            <a:ext cx="770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 RESISTENTE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longitud de pande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rcRect l="15578" t="31304" r="3544" b="5906"/>
          <a:stretch/>
        </p:blipFill>
        <p:spPr>
          <a:xfrm>
            <a:off x="1042920" y="2205000"/>
            <a:ext cx="67834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PORTIC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rcRect l="70364" t="19885" r="2621" b="60531"/>
          <a:stretch/>
        </p:blipFill>
        <p:spPr>
          <a:xfrm>
            <a:off x="5435640" y="2060640"/>
            <a:ext cx="2160720" cy="1174680"/>
          </a:xfrm>
          <a:prstGeom prst="rect">
            <a:avLst/>
          </a:prstGeom>
          <a:ln w="0">
            <a:noFill/>
          </a:ln>
        </p:spPr>
      </p:pic>
      <p:grpSp>
        <p:nvGrpSpPr>
          <p:cNvPr id="145" name="17 Grupo"/>
          <p:cNvGrpSpPr/>
          <p:nvPr/>
        </p:nvGrpSpPr>
        <p:grpSpPr>
          <a:xfrm>
            <a:off x="395280" y="3789360"/>
            <a:ext cx="8299440" cy="2735280"/>
            <a:chOff x="395280" y="3789360"/>
            <a:chExt cx="8299440" cy="2735280"/>
          </a:xfrm>
        </p:grpSpPr>
        <p:pic>
          <p:nvPicPr>
            <p:cNvPr id="146" name="9 Imagen" descr="183752116_img_9396.jpg"/>
            <p:cNvPicPr/>
            <p:nvPr/>
          </p:nvPicPr>
          <p:blipFill>
            <a:blip r:embed="rId2"/>
            <a:stretch/>
          </p:blipFill>
          <p:spPr>
            <a:xfrm>
              <a:off x="5967360" y="3789360"/>
              <a:ext cx="272736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12 Imagen" descr="8862895_orig.jpg"/>
            <p:cNvPicPr/>
            <p:nvPr/>
          </p:nvPicPr>
          <p:blipFill>
            <a:blip r:embed="rId3">
              <a:lum contrast="22000"/>
            </a:blip>
            <a:stretch/>
          </p:blipFill>
          <p:spPr>
            <a:xfrm>
              <a:off x="3181320" y="3789360"/>
              <a:ext cx="273600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16 Imagen" descr="1TRTR.jpg"/>
            <p:cNvPicPr/>
            <p:nvPr/>
          </p:nvPicPr>
          <p:blipFill>
            <a:blip r:embed="rId4"/>
            <a:stretch/>
          </p:blipFill>
          <p:spPr>
            <a:xfrm>
              <a:off x="395280" y="3789360"/>
              <a:ext cx="2738160" cy="27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7"/>
          <p:cNvSpPr/>
          <p:nvPr/>
        </p:nvSpPr>
        <p:spPr>
          <a:xfrm>
            <a:off x="1187280" y="2276640"/>
            <a:ext cx="252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MADER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CER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PORTIC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rcRect l="8638" t="26515" r="28739" b="8909"/>
          <a:stretch/>
        </p:blipFill>
        <p:spPr>
          <a:xfrm>
            <a:off x="1692360" y="1844640"/>
            <a:ext cx="56563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826920" y="1990800"/>
            <a:ext cx="72010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04040"/>
                </a:solidFill>
                <a:uFillTx/>
                <a:latin typeface="Lucida Sans"/>
              </a:rPr>
              <a:t>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Resistir sin daños movimientos sísmic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Limitar los daños en elementos no estructurales durante  sísmicos de mediana intensidad.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Aunque presente daños evitar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9900"/>
                </a:solidFill>
                <a:latin typeface="Lucida Sans"/>
              </a:rPr>
              <a:t>NCh 433 Of.96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OLICITACIONES SOBRE LAS ESTRUCTUR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Line 3"/>
          <p:cNvSpPr/>
          <p:nvPr/>
        </p:nvSpPr>
        <p:spPr>
          <a:xfrm flipH="1">
            <a:off x="611280" y="170028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6327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NORMATIVA DE CÁLCULO ESTRUCTURA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11280" y="1773360"/>
            <a:ext cx="7632720" cy="460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1 Of. 1977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Construcción – Sobrecargas de nieve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2 Of. 1971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Cálculo de la acción del viento sobre las construccione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3 Of. 199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Diseño sísmico de edificio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537 Of. 1986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Diseño estructural de edificios - Cargas permanentes y sobrecargas de us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1700280"/>
            <a:ext cx="7632720" cy="460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MATERI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761080" cy="36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11280" y="404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NORMATIVA DE MATERI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Line 3"/>
          <p:cNvSpPr/>
          <p:nvPr/>
        </p:nvSpPr>
        <p:spPr>
          <a:xfrm flipH="1">
            <a:off x="611280" y="105264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11280" y="1341360"/>
            <a:ext cx="7632720" cy="532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198 Of. 2006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Madera - Construcciones en madera – Cálcul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28 Of. 1957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Ejecución de construcciones de acer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AISC 200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Manual of Steel Construction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2123 Of. 1997 Mod. 2003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Albañilería Confinada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928 Of. 1993 Mod. 2003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Albañilería Armada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70 Of. 198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Hormigón – Requisitos generale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ACI 318-200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Building Code Requirements for Structural Concrete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MORRESISTENCIA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placas tectónic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rcRect l="13349" t="27681" r="17538" b="6280"/>
          <a:stretch/>
        </p:blipFill>
        <p:spPr>
          <a:xfrm>
            <a:off x="971640" y="1673280"/>
            <a:ext cx="67690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MORRESISTENCIA 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zonificación sísmica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14925" t="23040" r="18336" b="3672"/>
          <a:stretch/>
        </p:blipFill>
        <p:spPr>
          <a:xfrm>
            <a:off x="1547640" y="1700280"/>
            <a:ext cx="5904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ANÁLISIS SÍSMIC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- ANÁLISIS MODAL ESPECTRA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4d4d4d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- ANÁLISIS ESTÁTICO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Qo = Corte total acumulado a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Qo = C * I * P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 =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I  = importanci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P = peso total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estructuras</cp:lastModifiedBy>
  <dcterms:modified xsi:type="dcterms:W3CDTF">2010-08-16T14:15:40Z</dcterms:modified>
  <cp:revision>168</cp:revision>
  <dc:subject/>
  <dc:title>Diapositiva 1</dc:title>
</cp:coreProperties>
</file>