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7.png" ContentType="image/png"/>
  <Override PartName="/ppt/media/image8.jpeg" ContentType="image/jpeg"/>
  <Override PartName="/ppt/media/image5.png" ContentType="image/png"/>
  <Override PartName="/ppt/media/image29.jpeg" ContentType="image/jpeg"/>
  <Override PartName="/ppt/media/image10.png" ContentType="image/png"/>
  <Override PartName="/ppt/media/image28.jpeg" ContentType="image/jpeg"/>
  <Override PartName="/ppt/media/image18.png" ContentType="image/png"/>
  <Override PartName="/ppt/media/image7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9.jpeg" ContentType="image/jpeg"/>
  <Override PartName="/ppt/media/image30.jpeg" ContentType="image/jpe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3A6C-8A21-46E0-9FC3-4DBF8C5189A7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AE1B-5CD6-425D-956A-C6ED882AE491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82FA-730C-4BF8-97FA-3596CCEC0760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07C9-A417-4B2E-AEFF-F7F62E020516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56DC-0BC0-48D2-A04C-CBEE6D899A07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BB75-6111-4D4A-80A2-46406EA36203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F586-5717-46E9-A2CA-B180E5A49A1C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2EE7-766A-4033-9EEE-C0B88A420AA0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F63E-5E1F-41ED-B5EA-4DD9DEA3DBC7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FB5D-9F78-4208-9DE7-2D8B5D2FF45B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B36C-7F99-446A-92BF-E9453A6532C9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C373-9501-4880-8D25-0BE8494D59B4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1B78-722B-40F3-87D4-4019253CACD5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788D-4CF4-42A5-BB02-CFEBD3AE35FF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3093-E0E4-4A50-B9DB-15EE4C6F1479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F907-2D04-4AC4-A1F9-78D4EF66F8C0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DE6F-F087-456F-AEB4-34B90AA8FB4F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5590-2D8F-410E-8D1C-EBB69FC5AE15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4A84-4CF8-428E-9ECD-32F9DB97E027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8594-17F2-4273-A1EE-8B5CA6F45312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D504-1B8E-4FBA-BDC0-E901B2F4FE9B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B841-203E-4B20-B068-3F39AF9D0118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0998-0476-4181-9AF1-B685728B4301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0CFF-53B1-4D7B-992F-7C753366857D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B967-2380-4C3F-AACC-D645053856EB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8856-A58D-4D82-A180-AE2F8FE6D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AA89-C6D0-49B3-A95C-4A48EFC6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2306-03BC-4238-9BB0-2DE33CF28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C7E8-3A25-4D37-A938-C712A526C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3D98-7440-4807-8535-277C2262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F486-7329-4999-A97F-EFA0FF91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73A6-F558-4C8D-8792-B34B0269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8868-242E-4046-832D-DB86B29F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9622-C286-40CE-AA95-B4C07460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317D-3E67-4E1F-ACC8-9F3C0520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4D6F-6155-49F0-956B-F743F716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2302-C232-407B-8E72-431AF26D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97D6-FDE4-4135-B576-C1752E7DD25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18"/>
          <p:cNvSpPr/>
          <p:nvPr/>
        </p:nvSpPr>
        <p:spPr>
          <a:xfrm>
            <a:off x="898560" y="2637000"/>
            <a:ext cx="3241800" cy="3238200"/>
          </a:xfrm>
          <a:prstGeom prst="ellipse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411280" y="4222800"/>
            <a:ext cx="630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Lucida Sans"/>
              </a:rPr>
              <a:t>Estructura resistente    </a:t>
            </a:r>
            <a:r>
              <a:rPr b="1" lang="es-ES" sz="2400" spc="-1" strike="noStrike">
                <a:solidFill>
                  <a:srgbClr val="ff9900"/>
                </a:solidFill>
                <a:latin typeface="Lucida Sans"/>
              </a:rPr>
              <a:t>SISTEMAS ESTRUCTURALES</a:t>
            </a: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611280" y="52941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370ff"/>
                </a:solidFill>
                <a:latin typeface="Verdana"/>
              </a:rPr>
              <a:t>gabriela muñoz s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611280" y="6778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REPRESENTACIÓN TEÓRICA DEL SISMO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rcRect l="10872" t="22922" r="7461" b="12167"/>
          <a:stretch/>
        </p:blipFill>
        <p:spPr>
          <a:xfrm>
            <a:off x="1332000" y="2276640"/>
            <a:ext cx="626436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611280" y="6778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SISTEMAS ESTRUCTURALE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rcRect l="22094" t="17798" r="838" b="70252"/>
          <a:stretch/>
        </p:blipFill>
        <p:spPr>
          <a:xfrm>
            <a:off x="755640" y="1700280"/>
            <a:ext cx="6192720" cy="720720"/>
          </a:xfrm>
          <a:prstGeom prst="rect">
            <a:avLst/>
          </a:prstGeom>
          <a:ln w="0">
            <a:noFill/>
          </a:ln>
        </p:spPr>
      </p:pic>
      <p:grpSp>
        <p:nvGrpSpPr>
          <p:cNvPr id="87" name="14 Grupo"/>
          <p:cNvGrpSpPr/>
          <p:nvPr/>
        </p:nvGrpSpPr>
        <p:grpSpPr>
          <a:xfrm>
            <a:off x="7219800" y="1739880"/>
            <a:ext cx="1600200" cy="4857840"/>
            <a:chOff x="7219800" y="1739880"/>
            <a:chExt cx="1600200" cy="4857840"/>
          </a:xfrm>
        </p:grpSpPr>
        <p:pic>
          <p:nvPicPr>
            <p:cNvPr id="88" name="6 Imagen" descr="Arkinetia_bak_Arquitectos_-_Argentina_Casa_de_hormigon_en_el_bosque_de_Mar_Azul_qqqBREID0000000459-IMG001_r713.jpg"/>
            <p:cNvPicPr/>
            <p:nvPr/>
          </p:nvPicPr>
          <p:blipFill>
            <a:blip r:embed="rId2"/>
            <a:stretch/>
          </p:blipFill>
          <p:spPr>
            <a:xfrm>
              <a:off x="7219800" y="1739880"/>
              <a:ext cx="1599480" cy="159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12 Imagen" descr="8862895_orig.jpg"/>
            <p:cNvPicPr/>
            <p:nvPr/>
          </p:nvPicPr>
          <p:blipFill>
            <a:blip r:embed="rId3"/>
            <a:stretch/>
          </p:blipFill>
          <p:spPr>
            <a:xfrm>
              <a:off x="7219800" y="4997880"/>
              <a:ext cx="1599480" cy="159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13 Imagen" descr="quintay-constru-08.jpg"/>
            <p:cNvPicPr/>
            <p:nvPr/>
          </p:nvPicPr>
          <p:blipFill>
            <a:blip r:embed="rId4"/>
            <a:stretch/>
          </p:blipFill>
          <p:spPr>
            <a:xfrm>
              <a:off x="7219800" y="3368880"/>
              <a:ext cx="1600200" cy="159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1" name="Picture 6" descr=""/>
          <p:cNvPicPr/>
          <p:nvPr/>
        </p:nvPicPr>
        <p:blipFill>
          <a:blip r:embed="rId5"/>
          <a:srcRect l="16715" t="32928" r="13493" b="4095"/>
          <a:stretch/>
        </p:blipFill>
        <p:spPr>
          <a:xfrm>
            <a:off x="1123920" y="2492280"/>
            <a:ext cx="560880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611280" y="6778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DIAFRAGMA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1"/>
          <a:srcRect l="8527" t="19786" r="0" b="66900"/>
          <a:stretch/>
        </p:blipFill>
        <p:spPr>
          <a:xfrm>
            <a:off x="704880" y="1773360"/>
            <a:ext cx="7323120" cy="798480"/>
          </a:xfrm>
          <a:prstGeom prst="rect">
            <a:avLst/>
          </a:prstGeom>
          <a:ln w="0">
            <a:noFill/>
          </a:ln>
        </p:spPr>
      </p:pic>
      <p:pic>
        <p:nvPicPr>
          <p:cNvPr id="96" name="7 Imagen" descr="ee2g.jpg"/>
          <p:cNvPicPr/>
          <p:nvPr/>
        </p:nvPicPr>
        <p:blipFill>
          <a:blip r:embed="rId2"/>
          <a:stretch/>
        </p:blipFill>
        <p:spPr>
          <a:xfrm>
            <a:off x="6764400" y="4581360"/>
            <a:ext cx="194292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6 Imagen" descr="P09.jpg"/>
          <p:cNvPicPr/>
          <p:nvPr/>
        </p:nvPicPr>
        <p:blipFill>
          <a:blip r:embed="rId3"/>
          <a:stretch/>
        </p:blipFill>
        <p:spPr>
          <a:xfrm>
            <a:off x="6764400" y="2631960"/>
            <a:ext cx="1950840" cy="1949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4"/>
          <a:srcRect l="14822" t="35507" r="15922" b="15307"/>
          <a:stretch/>
        </p:blipFill>
        <p:spPr>
          <a:xfrm>
            <a:off x="900000" y="3141720"/>
            <a:ext cx="55436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611280" y="6778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ESTRUCTURAS EN BASE A MURO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rcRect l="9303" t="18704" r="0" b="51435"/>
          <a:stretch/>
        </p:blipFill>
        <p:spPr>
          <a:xfrm>
            <a:off x="826920" y="1781280"/>
            <a:ext cx="7255080" cy="1792080"/>
          </a:xfrm>
          <a:prstGeom prst="rect">
            <a:avLst/>
          </a:prstGeom>
          <a:ln w="0">
            <a:noFill/>
          </a:ln>
        </p:spPr>
      </p:pic>
      <p:grpSp>
        <p:nvGrpSpPr>
          <p:cNvPr id="103" name="10 Grupo"/>
          <p:cNvGrpSpPr/>
          <p:nvPr/>
        </p:nvGrpSpPr>
        <p:grpSpPr>
          <a:xfrm>
            <a:off x="324000" y="3714840"/>
            <a:ext cx="8510400" cy="2786040"/>
            <a:chOff x="324000" y="3714840"/>
            <a:chExt cx="8510400" cy="2786040"/>
          </a:xfrm>
        </p:grpSpPr>
        <p:pic>
          <p:nvPicPr>
            <p:cNvPr id="104" name="6 Imagen" descr="24516892.jpg"/>
            <p:cNvPicPr/>
            <p:nvPr/>
          </p:nvPicPr>
          <p:blipFill>
            <a:blip r:embed="rId2"/>
            <a:stretch/>
          </p:blipFill>
          <p:spPr>
            <a:xfrm>
              <a:off x="324000" y="3714840"/>
              <a:ext cx="2786760" cy="27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6 Imagen" descr="Arkinetia_bak_Arquitectos_-_Argentina_Casa_de_hormigon_en_el_bosque_de_Mar_Azul_qqqBREID0000000459-IMG001_r713.jpg"/>
            <p:cNvPicPr/>
            <p:nvPr/>
          </p:nvPicPr>
          <p:blipFill>
            <a:blip r:embed="rId3"/>
            <a:stretch/>
          </p:blipFill>
          <p:spPr>
            <a:xfrm>
              <a:off x="6048360" y="3714840"/>
              <a:ext cx="2786040" cy="27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9 Imagen" descr="anda01.jpg"/>
            <p:cNvPicPr/>
            <p:nvPr/>
          </p:nvPicPr>
          <p:blipFill>
            <a:blip r:embed="rId4"/>
            <a:stretch/>
          </p:blipFill>
          <p:spPr>
            <a:xfrm>
              <a:off x="3186720" y="3714840"/>
              <a:ext cx="2786040" cy="27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TextBox 7"/>
          <p:cNvSpPr/>
          <p:nvPr/>
        </p:nvSpPr>
        <p:spPr>
          <a:xfrm>
            <a:off x="900000" y="2205000"/>
            <a:ext cx="2880000" cy="1372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 </a:t>
            </a: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ALBAÑILERIA SIMPLE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 </a:t>
            </a: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ALBAÑILERIA CONFINADA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 </a:t>
            </a: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ALBAÑILERIA ARMADA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 </a:t>
            </a: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HORMIGON ARMADO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611280" y="6778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ESTRUCTURAS EN BASE A MURO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11" name="Picture 9" descr=""/>
          <p:cNvPicPr/>
          <p:nvPr/>
        </p:nvPicPr>
        <p:blipFill>
          <a:blip r:embed="rId1"/>
          <a:srcRect l="11370" t="21854" r="5390" b="18457"/>
          <a:stretch/>
        </p:blipFill>
        <p:spPr>
          <a:xfrm>
            <a:off x="971640" y="2133720"/>
            <a:ext cx="698508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611280" y="6778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ESTRUCTURAS EN BASE A MURO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rcRect l="12588" t="22001" r="20710" b="3691"/>
          <a:stretch/>
        </p:blipFill>
        <p:spPr>
          <a:xfrm>
            <a:off x="1042920" y="1773360"/>
            <a:ext cx="559908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611280" y="6778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ESTRUCTURAS EN BASE A MURO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1"/>
          <a:srcRect l="7346" t="23035" r="6276" b="5759"/>
          <a:stretch/>
        </p:blipFill>
        <p:spPr>
          <a:xfrm>
            <a:off x="779400" y="1827360"/>
            <a:ext cx="7248600" cy="44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611280" y="6778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ESTRUCTURAS ARRIOSTRADA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23" name="19 Grupo"/>
          <p:cNvGrpSpPr/>
          <p:nvPr/>
        </p:nvGrpSpPr>
        <p:grpSpPr>
          <a:xfrm>
            <a:off x="371520" y="3716280"/>
            <a:ext cx="8486640" cy="2786040"/>
            <a:chOff x="371520" y="3716280"/>
            <a:chExt cx="8486640" cy="2786040"/>
          </a:xfrm>
        </p:grpSpPr>
        <p:pic>
          <p:nvPicPr>
            <p:cNvPr id="124" name="10 Imagen" descr="IMG_0711.jpg"/>
            <p:cNvPicPr/>
            <p:nvPr/>
          </p:nvPicPr>
          <p:blipFill>
            <a:blip r:embed="rId1"/>
            <a:stretch/>
          </p:blipFill>
          <p:spPr>
            <a:xfrm>
              <a:off x="6086520" y="3716280"/>
              <a:ext cx="2771640" cy="27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2" descr=""/>
            <p:cNvPicPr/>
            <p:nvPr/>
          </p:nvPicPr>
          <p:blipFill>
            <a:blip r:embed="rId2"/>
            <a:stretch/>
          </p:blipFill>
          <p:spPr>
            <a:xfrm>
              <a:off x="3242880" y="3730320"/>
              <a:ext cx="2771640" cy="27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18 Imagen" descr="quintay-constru-04.jpg"/>
            <p:cNvPicPr/>
            <p:nvPr/>
          </p:nvPicPr>
          <p:blipFill>
            <a:blip r:embed="rId3"/>
            <a:stretch/>
          </p:blipFill>
          <p:spPr>
            <a:xfrm>
              <a:off x="371520" y="3716280"/>
              <a:ext cx="2771640" cy="277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TextBox 7"/>
          <p:cNvSpPr/>
          <p:nvPr/>
        </p:nvSpPr>
        <p:spPr>
          <a:xfrm>
            <a:off x="1187280" y="2276640"/>
            <a:ext cx="25210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 </a:t>
            </a: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MADERA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 </a:t>
            </a: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ACERO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 </a:t>
            </a: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HORMIGON ARMADO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4"/>
          <a:srcRect l="70490" t="20820" r="3396" b="62371"/>
          <a:stretch/>
        </p:blipFill>
        <p:spPr>
          <a:xfrm>
            <a:off x="5292720" y="2133720"/>
            <a:ext cx="20876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611280" y="6778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ESTRUCTURAS ARRIOSTRADA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rcRect l="16501" t="30221" r="10595" b="17424"/>
          <a:stretch/>
        </p:blipFill>
        <p:spPr>
          <a:xfrm>
            <a:off x="1336680" y="2421000"/>
            <a:ext cx="611496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611280" y="33336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ESTRUCTURAS ARRIOSTRADA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unione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1639800" y="2205000"/>
            <a:ext cx="566892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971640" y="1855800"/>
            <a:ext cx="7129440" cy="40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040"/>
                </a:solidFill>
                <a:latin typeface="Lucida Sans"/>
              </a:rPr>
              <a:t>Conjunto de elementos que mantienen la estabilidad de una obra frente a las solicitaciones</a:t>
            </a: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Lucida Sans"/>
              </a:rPr>
              <a:t>(NCh 433 Of.96)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Lucida Sans"/>
              </a:rPr>
              <a:t>Solicitaciones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>
              <a:lnSpc>
                <a:spcPct val="100000"/>
              </a:lnSpc>
              <a:buClr>
                <a:srgbClr val="40404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Lucida Sans"/>
                <a:ea typeface="Arial"/>
              </a:rPr>
              <a:t> </a:t>
            </a:r>
            <a:r>
              <a:rPr b="0" lang="es-ES" sz="2000" spc="-1" strike="noStrike">
                <a:solidFill>
                  <a:srgbClr val="404040"/>
                </a:solidFill>
                <a:latin typeface="Lucida Sans"/>
                <a:ea typeface="Arial"/>
              </a:rPr>
              <a:t>acciones que tienden a desplazar los objetos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buClr>
                <a:srgbClr val="40404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Lucida Sans"/>
              </a:rPr>
              <a:t>Acciones mecánicas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Lucida Sans"/>
              </a:rPr>
              <a:t>      </a:t>
            </a:r>
            <a:r>
              <a:rPr b="0" lang="es-ES" sz="2000" spc="-1" strike="noStrike">
                <a:solidFill>
                  <a:srgbClr val="404040"/>
                </a:solidFill>
                <a:latin typeface="Lucida Sans"/>
              </a:rPr>
              <a:t>- fuerzas (vectores)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Line 9"/>
          <p:cNvSpPr/>
          <p:nvPr/>
        </p:nvSpPr>
        <p:spPr>
          <a:xfrm flipH="1">
            <a:off x="611280" y="141300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611280" y="692280"/>
            <a:ext cx="7705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ESTRUCTURA RESISTENTE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611280" y="33336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ESTRUCTURAS ARRIOSTRADA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longitud de pandeo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rcRect l="15578" t="31304" r="3544" b="5906"/>
          <a:stretch/>
        </p:blipFill>
        <p:spPr>
          <a:xfrm>
            <a:off x="1042920" y="2205000"/>
            <a:ext cx="678348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11280" y="74916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ESTRUCTURAS APORTICADA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2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rcRect l="70364" t="19885" r="2621" b="60531"/>
          <a:stretch/>
        </p:blipFill>
        <p:spPr>
          <a:xfrm>
            <a:off x="5435640" y="2060640"/>
            <a:ext cx="2160720" cy="1174680"/>
          </a:xfrm>
          <a:prstGeom prst="rect">
            <a:avLst/>
          </a:prstGeom>
          <a:ln w="0">
            <a:noFill/>
          </a:ln>
        </p:spPr>
      </p:pic>
      <p:grpSp>
        <p:nvGrpSpPr>
          <p:cNvPr id="145" name="17 Grupo"/>
          <p:cNvGrpSpPr/>
          <p:nvPr/>
        </p:nvGrpSpPr>
        <p:grpSpPr>
          <a:xfrm>
            <a:off x="395280" y="3789360"/>
            <a:ext cx="8299440" cy="2735280"/>
            <a:chOff x="395280" y="3789360"/>
            <a:chExt cx="8299440" cy="2735280"/>
          </a:xfrm>
        </p:grpSpPr>
        <p:pic>
          <p:nvPicPr>
            <p:cNvPr id="146" name="9 Imagen" descr="183752116_img_9396.jpg"/>
            <p:cNvPicPr/>
            <p:nvPr/>
          </p:nvPicPr>
          <p:blipFill>
            <a:blip r:embed="rId2"/>
            <a:stretch/>
          </p:blipFill>
          <p:spPr>
            <a:xfrm>
              <a:off x="5967360" y="3789360"/>
              <a:ext cx="2727360" cy="273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12 Imagen" descr="8862895_orig.jpg"/>
            <p:cNvPicPr/>
            <p:nvPr/>
          </p:nvPicPr>
          <p:blipFill>
            <a:blip r:embed="rId3">
              <a:lum contrast="22000"/>
            </a:blip>
            <a:stretch/>
          </p:blipFill>
          <p:spPr>
            <a:xfrm>
              <a:off x="3181320" y="3789360"/>
              <a:ext cx="2736000" cy="273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16 Imagen" descr="1TRTR.jpg"/>
            <p:cNvPicPr/>
            <p:nvPr/>
          </p:nvPicPr>
          <p:blipFill>
            <a:blip r:embed="rId4"/>
            <a:stretch/>
          </p:blipFill>
          <p:spPr>
            <a:xfrm>
              <a:off x="395280" y="3789360"/>
              <a:ext cx="2738160" cy="273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" name="TextBox 7"/>
          <p:cNvSpPr/>
          <p:nvPr/>
        </p:nvSpPr>
        <p:spPr>
          <a:xfrm>
            <a:off x="1187280" y="2276640"/>
            <a:ext cx="25210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 </a:t>
            </a: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MADERA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 </a:t>
            </a: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ACERO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 </a:t>
            </a: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HORMIGON ARMADO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611280" y="74916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ESTRUCTURAS APORTICADA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1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rcRect l="8638" t="26515" r="28739" b="8909"/>
          <a:stretch/>
        </p:blipFill>
        <p:spPr>
          <a:xfrm>
            <a:off x="1692360" y="1844640"/>
            <a:ext cx="565632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5" name="TextBox 7"/>
          <p:cNvSpPr/>
          <p:nvPr/>
        </p:nvSpPr>
        <p:spPr>
          <a:xfrm>
            <a:off x="826920" y="1990800"/>
            <a:ext cx="7201080" cy="40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404040"/>
                </a:solidFill>
                <a:uFillTx/>
                <a:latin typeface="Lucida Sans"/>
              </a:rPr>
              <a:t>PRINCIPIOS E HIPÓTESIS BÁSICOS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040"/>
                </a:solidFill>
                <a:latin typeface="Lucida Sans"/>
              </a:rPr>
              <a:t>Resistir sin daños movimientos sísmicos de intensidad moderada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040"/>
                </a:solidFill>
                <a:latin typeface="Lucida Sans"/>
              </a:rPr>
              <a:t>Limitar los daños en elementos no estructurales durante  sísmicos de mediana intensidad. 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040"/>
                </a:solidFill>
                <a:latin typeface="Lucida Sans"/>
              </a:rPr>
              <a:t>Aunque presente daños evitar el colapso durante sismos de intensidad excepcionalmente severa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611280" y="74916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9900"/>
                </a:solidFill>
                <a:latin typeface="Lucida Sans"/>
              </a:rPr>
              <a:t>NCh 433 Of.96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Oval 4"/>
          <p:cNvSpPr/>
          <p:nvPr/>
        </p:nvSpPr>
        <p:spPr>
          <a:xfrm>
            <a:off x="8244000" y="5805360"/>
            <a:ext cx="647640" cy="649440"/>
          </a:xfrm>
          <a:prstGeom prst="ellipse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9" name="Text Box 8"/>
          <p:cNvSpPr/>
          <p:nvPr/>
        </p:nvSpPr>
        <p:spPr>
          <a:xfrm rot="16200000">
            <a:off x="6474960" y="3275280"/>
            <a:ext cx="435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Lucida Sans"/>
              </a:rPr>
              <a:t>gms 2010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611280" y="68904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SOLICITACIONES SOBRE LAS ESTRUCTURA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" name="Line 3"/>
          <p:cNvSpPr/>
          <p:nvPr/>
        </p:nvSpPr>
        <p:spPr>
          <a:xfrm flipH="1">
            <a:off x="611280" y="170028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763272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11280" y="68904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NORMATIVA DE CÁLCULO ESTRUCTURAL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611280" y="1773360"/>
            <a:ext cx="7632720" cy="4606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- </a:t>
            </a:r>
            <a:r>
              <a:rPr b="1" lang="es-ES" sz="1600" spc="-1" strike="noStrike">
                <a:solidFill>
                  <a:srgbClr val="4d4d4d"/>
                </a:solidFill>
                <a:latin typeface="Century Gothic"/>
              </a:rPr>
              <a:t>Norma Chilena Oficial NCH 431 Of. 1977 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Construcción – Sobrecargas de nieve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- </a:t>
            </a:r>
            <a:r>
              <a:rPr b="1" lang="es-ES" sz="1600" spc="-1" strike="noStrike">
                <a:solidFill>
                  <a:srgbClr val="4d4d4d"/>
                </a:solidFill>
                <a:latin typeface="Century Gothic"/>
              </a:rPr>
              <a:t>Norma Chilena Oficial NCH 432 Of. 1971 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Cálculo de la acción del viento sobre las construcciones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- </a:t>
            </a:r>
            <a:r>
              <a:rPr b="1" lang="es-ES" sz="1600" spc="-1" strike="noStrike">
                <a:solidFill>
                  <a:srgbClr val="4d4d4d"/>
                </a:solidFill>
                <a:latin typeface="Century Gothic"/>
              </a:rPr>
              <a:t>Norma Chilena Oficial NCH 433 Of. 1996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Diseño sísmico de edificios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- </a:t>
            </a:r>
            <a:r>
              <a:rPr b="1" lang="es-ES" sz="1600" spc="-1" strike="noStrike">
                <a:solidFill>
                  <a:srgbClr val="4d4d4d"/>
                </a:solidFill>
                <a:latin typeface="Century Gothic"/>
              </a:rPr>
              <a:t>Norma Chilena Oficial NCH 1537 Of. 1986 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Diseño estructural de edificios - Cargas permanentes y sobrecargas de uso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9"/>
          <p:cNvSpPr/>
          <p:nvPr/>
        </p:nvSpPr>
        <p:spPr>
          <a:xfrm>
            <a:off x="611280" y="1700280"/>
            <a:ext cx="7632720" cy="4608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611280" y="68904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MATERIALE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64" name="Picture 8" descr=""/>
          <p:cNvPicPr/>
          <p:nvPr/>
        </p:nvPicPr>
        <p:blipFill>
          <a:blip r:embed="rId1"/>
          <a:stretch/>
        </p:blipFill>
        <p:spPr>
          <a:xfrm>
            <a:off x="1403280" y="2276640"/>
            <a:ext cx="5761080" cy="36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611280" y="40464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NORMATIVA DE MATERIALE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Line 3"/>
          <p:cNvSpPr/>
          <p:nvPr/>
        </p:nvSpPr>
        <p:spPr>
          <a:xfrm flipH="1">
            <a:off x="611280" y="105264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611280" y="1341360"/>
            <a:ext cx="7632720" cy="5327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- </a:t>
            </a:r>
            <a:r>
              <a:rPr b="1" lang="es-ES" sz="1600" spc="-1" strike="noStrike">
                <a:solidFill>
                  <a:srgbClr val="4d4d4d"/>
                </a:solidFill>
                <a:latin typeface="Century Gothic"/>
              </a:rPr>
              <a:t>Norma Chilena Oficial NCH 1198 Of. 2006 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Madera - Construcciones en madera – Cálculo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- </a:t>
            </a:r>
            <a:r>
              <a:rPr b="1" lang="es-ES" sz="1600" spc="-1" strike="noStrike">
                <a:solidFill>
                  <a:srgbClr val="4d4d4d"/>
                </a:solidFill>
                <a:latin typeface="Century Gothic"/>
              </a:rPr>
              <a:t>Norma Chilena Oficial NCH 428 Of. 1957 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Ejecución de construcciones de acero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- </a:t>
            </a:r>
            <a:r>
              <a:rPr b="1" lang="es-ES" sz="1600" spc="-1" strike="noStrike">
                <a:solidFill>
                  <a:srgbClr val="4d4d4d"/>
                </a:solidFill>
                <a:latin typeface="Century Gothic"/>
              </a:rPr>
              <a:t>AISC 2005 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Manual of Steel Construction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- </a:t>
            </a:r>
            <a:r>
              <a:rPr b="1" lang="es-ES" sz="1600" spc="-1" strike="noStrike">
                <a:solidFill>
                  <a:srgbClr val="4d4d4d"/>
                </a:solidFill>
                <a:latin typeface="Century Gothic"/>
              </a:rPr>
              <a:t>Norma Chilena Oficial NCH 2123 Of. 1997 Mod. 2003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Albañilería Confinada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- </a:t>
            </a:r>
            <a:r>
              <a:rPr b="1" lang="es-ES" sz="1600" spc="-1" strike="noStrike">
                <a:solidFill>
                  <a:srgbClr val="4d4d4d"/>
                </a:solidFill>
                <a:latin typeface="Century Gothic"/>
              </a:rPr>
              <a:t>Norma Chilena Oficial NCH 1928 Of. 1993 Mod. 2003 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Albañilería Armada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- </a:t>
            </a:r>
            <a:r>
              <a:rPr b="1" lang="es-ES" sz="1600" spc="-1" strike="noStrike">
                <a:solidFill>
                  <a:srgbClr val="4d4d4d"/>
                </a:solidFill>
                <a:latin typeface="Century Gothic"/>
              </a:rPr>
              <a:t>Norma Chilena Oficial NCH 170 Of. 1985 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Hormigón – Requisitos generales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- </a:t>
            </a:r>
            <a:r>
              <a:rPr b="1" lang="es-ES" sz="1600" spc="-1" strike="noStrike">
                <a:solidFill>
                  <a:srgbClr val="4d4d4d"/>
                </a:solidFill>
                <a:latin typeface="Century Gothic"/>
              </a:rPr>
              <a:t>ACI 318-2005 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Building Code Requirements for Structural Concrete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611280" y="33336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SISMORRESISTENCIA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placas tectónica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Line 4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rcRect l="13349" t="27681" r="17538" b="6280"/>
          <a:stretch/>
        </p:blipFill>
        <p:spPr>
          <a:xfrm>
            <a:off x="971640" y="1673280"/>
            <a:ext cx="676908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611280" y="33336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SISMORRESISTENCIA 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zonificación sísmica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Line 4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rcRect l="14925" t="23040" r="18336" b="3672"/>
          <a:stretch/>
        </p:blipFill>
        <p:spPr>
          <a:xfrm>
            <a:off x="1547640" y="1700280"/>
            <a:ext cx="590400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611280" y="6778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ANÁLISIS SÍSMICO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Line 4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- ANÁLISIS MODAL ESPECTRAL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4d4d4d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- ANÁLISIS ESTÁTICO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Qo = Corte total acumulado a nivel basal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1" lang="es-ES" sz="2400" spc="-1" strike="noStrike">
                <a:solidFill>
                  <a:srgbClr val="4d4d4d"/>
                </a:solidFill>
                <a:latin typeface="Century Gothic"/>
              </a:rPr>
              <a:t>Qo = C * I * P</a:t>
            </a: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C =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coeficiente sísmico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I  = importancia del edificio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P = peso total del edificio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4:23:01Z</dcterms:created>
  <dc:creator>BELI Y RAUL</dc:creator>
  <dc:description/>
  <dc:language>en-US</dc:language>
  <cp:lastModifiedBy>estructuras</cp:lastModifiedBy>
  <dcterms:modified xsi:type="dcterms:W3CDTF">2010-08-16T14:15:40Z</dcterms:modified>
  <cp:revision>168</cp:revision>
  <dc:subject/>
  <dc:title>Diapositiva 1</dc:title>
</cp:coreProperties>
</file>