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FECD-2FF3-412A-B179-A60770061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C8E6-37B6-4560-B9CC-3C675138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A336-63FD-4ADB-9E69-8EC5AFBFA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CD6C-B05C-4852-919B-A7DED4B94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A83E-14DB-4E1B-AEF6-DEE0A817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6056-A12A-45B4-864F-704B89FC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C74A-190C-4561-B3E1-3C8F9F97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A5B7-AE26-44E3-85FE-C4367FAC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4793-49CC-4B9D-9608-0D9FF493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981A-873F-4C17-9F3B-07BFA148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7A01-04DA-4CF1-95BC-AF254E28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A631-2550-454B-86C5-6AA285C4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AA99-4F89-411B-AC31-ED3CF30B9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098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EVALUACIÓN y PREPARACIÓN DE PROYECTOS INMOBILIA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89080" y="476280"/>
            <a:ext cx="8459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Equipamiento y servici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Comer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Ofici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Indust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Sal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Educ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Bode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Conse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907920"/>
            <a:ext cx="8459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Estructura económic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Estructura financi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Caracterización de los act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Ciclo de la p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Modo de transfer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Precio del produ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Ocasión de adquisi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Resultado después del ejercic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89000"/>
            <a:ext cx="727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La particularidad del negocio inmobiliari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4360" y="189000"/>
            <a:ext cx="882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Variables que inciden en la preparación de proyectos inmobilia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55736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Estructura del merc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La demanda inmobili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El consumidor inmobil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Tipología de costos asociados a la producción inmobili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Tipología de costos asociados a la financiación inmobili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Tipo y ocurrencia de ingresos en la comercialización de productos inmobili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Velocidad de ve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15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Marco Jurídico y fiscal que regula la producción inmobili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82412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Caracterización empresarial de la producción inmobilia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Marco legal de las Empresas Constructo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Marco legal de las Empresas Inmobilia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Tipo de impuestos y 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Efecto de los impue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Planificación tribu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15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Comercialización de Productos Inmobiliari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55736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Modelo de ven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Modelo de r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Alternativas de financiamiento a la dema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Caracterización de las tipologías de productos inmobili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Identificación de los modelos de ingresos de venta y de r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Identificación de las estrategias de marketing asociadas al tipo de produ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15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Financiación y riesgo asociado a la producción inmobiliari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76832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Caracterización de las fuentes de financiamiento públicas y privad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Identificación de otras fuentes de financi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Sensibilización de las oportunidades de financi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Márgenes de certidum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Relación riesgo - renta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Construcción de flujos de caja y criterios de evalu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76832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Estructura del flujo de c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Flujo de caja d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Flujo de caja del inversion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Estimación del período d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Periodificación de los egresos e ingresos d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Determinación del costo del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Definición de la tasa de descu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Criterio de indicadores, VAN, TIR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Escenar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95280" y="2182680"/>
            <a:ext cx="8748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cc"/>
                </a:solidFill>
                <a:latin typeface="Comic Sans MS"/>
              </a:rPr>
              <a:t>Técnica</a:t>
            </a: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 que tiene por objeto apoyar a la toma de decisiones mediante la determinación de la conveniencia o inconveniencia de asignar recursos a una activ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4842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¿qué es la evaluación de proyecto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5280" y="1125360"/>
            <a:ext cx="842472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cc"/>
                </a:solidFill>
                <a:latin typeface="Comic Sans MS"/>
              </a:rPr>
              <a:t>Herramienta</a:t>
            </a: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 de apoyo a la toma de decisiones que recopila, ordena y analiza un conjunto de antecedentes económicos que permiten juzgar cualitativa y cuantitativamente las ventajas o desventajas de asignar recursos a una inicia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2638440"/>
            <a:ext cx="8748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cc"/>
                </a:solidFill>
                <a:latin typeface="Comic Sans MS"/>
              </a:rPr>
              <a:t>Estudio y Análisis</a:t>
            </a: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 de todos y cada uno los antecedentes necesarios que permitan formular un proyecto a fin de ser evalua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48420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¿qué es la preparación de proyecto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4360" y="1947960"/>
            <a:ext cx="8820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Idea de proyecto </a:t>
            </a:r>
            <a:r>
              <a:rPr b="0" lang="es-CL" sz="3600" spc="-1" strike="noStrike">
                <a:solidFill>
                  <a:srgbClr val="ffffcc"/>
                </a:solidFill>
                <a:latin typeface="Comic Sans MS"/>
              </a:rPr>
              <a:t>o la respuesta mas o menos pensada a una necesidad humana buscando solucionar un probl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Genesis de la Idea</a:t>
            </a:r>
            <a:r>
              <a:rPr b="0" lang="es-CL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Comic Sans MS"/>
              </a:rPr>
              <a:t>Aprovechar una oportunidad de negoc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Comic Sans MS"/>
              </a:rPr>
              <a:t>Descubrir un espacio de a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360" y="627120"/>
            <a:ext cx="88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¿ qué es un proyecto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4360" y="1947960"/>
            <a:ext cx="882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Propuesta de desarrollo de una idea </a:t>
            </a:r>
            <a:r>
              <a:rPr b="0" lang="es-CL" sz="3600" spc="-1" strike="noStrike">
                <a:solidFill>
                  <a:srgbClr val="ffffcc"/>
                </a:solidFill>
                <a:latin typeface="Comic Sans MS"/>
              </a:rPr>
              <a:t>en que el bien ofertado corresponde a un espacio habitable para el desarrollo de diferentes funcio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4360" y="627120"/>
            <a:ext cx="88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¿ qué es un proyecto inmobiliario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280" y="1947960"/>
            <a:ext cx="842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Identificación del proyecto </a:t>
            </a:r>
            <a:r>
              <a:rPr b="0" lang="es-CL" sz="3600" spc="-1" strike="noStrike">
                <a:solidFill>
                  <a:srgbClr val="ffffcc"/>
                </a:solidFill>
                <a:latin typeface="Comic Sans MS"/>
              </a:rPr>
              <a:t>de manera que se pueda caracterizar en forma única en sus variables más relev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4360" y="627120"/>
            <a:ext cx="88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Detección de particularid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19280" y="2852640"/>
            <a:ext cx="8424720" cy="34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Análisis cualita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Análisis cuanti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4360" y="627120"/>
            <a:ext cx="882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¿Como enfrentar la idea de un proyect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0920" y="1724040"/>
            <a:ext cx="8459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Residenci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Primera vivi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Segunda vivi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Lote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Arrendami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48420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Definición de productos inmobiliari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19:51:41Z</dcterms:created>
  <dc:creator>Unidad de Computacion</dc:creator>
  <dc:description/>
  <dc:language>en-US</dc:language>
  <cp:lastModifiedBy>mepallares</cp:lastModifiedBy>
  <dcterms:modified xsi:type="dcterms:W3CDTF">2010-04-01T12:41:43Z</dcterms:modified>
  <cp:revision>12</cp:revision>
  <dc:subject/>
  <dc:title>Diapositiva 1</dc:title>
</cp:coreProperties>
</file>