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7982-402D-40BE-83E8-1DA385E5F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8E98-E10F-4C67-A810-A7CCE5321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1E3F-3FFE-4AB1-AFD0-4D3882F3C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A6AE-EAB2-4422-899F-F359F12D2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6865-1B0E-4B7C-84E8-9B29B4DB2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6C75-6670-4F36-985D-EF2591221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8FD3-3936-46FE-BCD9-29C993D35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8D73-8085-40E6-9438-ACE326131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89A9-9CC0-4876-BCA0-7E747244C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D4F8-466F-463B-9E97-61958BD7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F6C9-4626-42FA-BD16-94C2F2F6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1207-78FD-43A6-99FD-5E63C4D5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52922-FC71-4933-B024-5F2202A29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4098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EVALUACIÓN y PREPARACIÓN DE PROYECTOS INMOBILIAR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89080" y="476280"/>
            <a:ext cx="84596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064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Equipamiento y servici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Comerc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Oficin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Indust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Sal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Educac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Bode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Conse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620640"/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064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50920" y="907920"/>
            <a:ext cx="8459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Estructura económic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Estructura financie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Caracterización de los act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Ciclo de la produ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Modo de transfer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Precio del produc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Ocasión de adquisi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Resultado después del ejercic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189000"/>
            <a:ext cx="727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La particularidad del negocio inmobiliari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44360" y="189000"/>
            <a:ext cx="882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Variables que inciden en la preparación de proyectos inmobiliar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557360"/>
            <a:ext cx="91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Estructura del mercad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La demanda inmobili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El consumidor inmobil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Tipología de costos asociados a la producción inmobili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Tipología de costos asociados a la financiación inmobili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Tipo y ocurrencia de ingresos en la comercialización de productos inmobili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Velocidad de ven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15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Marco Jurídico y fiscal que regula la producción inmobilia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82412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Caracterización empresarial de la producción inmobiliar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Marco legal de las Empresas Constructo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Marco legal de las Empresas Inmobiliar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Tipo de impuestos y tribu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Efecto de los impue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Planificación tribut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15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Comercialización de Productos Inmobiliari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557360"/>
            <a:ext cx="91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Modelo de ven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Modelo de re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Alternativas de financiamiento a la dema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Caracterización de las tipologías de productos inmobili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Identificación de los modelos de ingresos de venta y de re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Identificación de las estrategias de marketing asociadas al tipo de produc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15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Financiación y riesgo asociado a la producción inmobiliari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76832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Caracterización de las fuentes de financiamiento públicas y privad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Identificación de otras fuentes de financi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Sensibilización de las oportunidades de financi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Márgenes de certidumb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Relación riesgo - rentabi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89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Construcción de flujos de caja y criterios de evalu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768320"/>
            <a:ext cx="91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Estructura del flujo de c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Flujo de caja del proye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Flujo de caja del inversioni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Estimación del período del proye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Periodificación de los egresos e ingresos del proye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Determinación del costo del ca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Definición de la tasa de descu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Criterio de indicadores, VAN, TIR,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Escenari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95280" y="2182680"/>
            <a:ext cx="874872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cc"/>
                </a:solidFill>
                <a:latin typeface="Comic Sans MS"/>
              </a:rPr>
              <a:t>Técnica</a:t>
            </a: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 que tiene por objeto apoyar a la toma de decisiones mediante la determinación de la conveniencia o inconveniencia de asignar recursos a una activ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48420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¿qué es la evaluación de proyecto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95280" y="1125360"/>
            <a:ext cx="8424720" cy="62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cc"/>
                </a:solidFill>
                <a:latin typeface="Comic Sans MS"/>
              </a:rPr>
              <a:t>Herramienta</a:t>
            </a: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 de apoyo a la toma de decisiones que recopila, ordena y analiza un conjunto de antecedentes económicos que permiten juzgar cualitativa y cuantitativamente las ventajas o desventajas de asignar recursos a una inicia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2638440"/>
            <a:ext cx="874872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cc"/>
                </a:solidFill>
                <a:latin typeface="Comic Sans MS"/>
              </a:rPr>
              <a:t>Estudio y Análisis</a:t>
            </a: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 de todos y cada uno los antecedentes necesarios que permitan formular un proyecto a fin de ser evaluad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48420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¿qué es la preparación de proyecto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44360" y="1947960"/>
            <a:ext cx="8820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Idea de proyecto </a:t>
            </a:r>
            <a:r>
              <a:rPr b="0" lang="es-CL" sz="3600" spc="-1" strike="noStrike">
                <a:solidFill>
                  <a:srgbClr val="ffffcc"/>
                </a:solidFill>
                <a:latin typeface="Comic Sans MS"/>
              </a:rPr>
              <a:t>o la respuesta mas o menos pensada a una necesidad humana buscando solucionar un probl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Genesis de la Idea</a:t>
            </a:r>
            <a:r>
              <a:rPr b="0" lang="es-CL" sz="36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cc"/>
                </a:solidFill>
                <a:latin typeface="Comic Sans MS"/>
              </a:rPr>
              <a:t>Aprovechar una oportunidad de negoc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cc"/>
                </a:solidFill>
                <a:latin typeface="Comic Sans MS"/>
              </a:rPr>
              <a:t>Descubrir un espacio de a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4360" y="627120"/>
            <a:ext cx="882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¿ qué es un proyecto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4360" y="1947960"/>
            <a:ext cx="8820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Propuesta de desarrollo de una idea </a:t>
            </a:r>
            <a:r>
              <a:rPr b="0" lang="es-CL" sz="3600" spc="-1" strike="noStrike">
                <a:solidFill>
                  <a:srgbClr val="ffffcc"/>
                </a:solidFill>
                <a:latin typeface="Comic Sans MS"/>
              </a:rPr>
              <a:t>en que el bien ofertado corresponde a un espacio habitable para el desarrollo de diferentes funcion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4360" y="627120"/>
            <a:ext cx="882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¿ qué es un proyecto inmobiliario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95280" y="1947960"/>
            <a:ext cx="842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Identificación del proyecto </a:t>
            </a:r>
            <a:r>
              <a:rPr b="0" lang="es-CL" sz="3600" spc="-1" strike="noStrike">
                <a:solidFill>
                  <a:srgbClr val="ffffcc"/>
                </a:solidFill>
                <a:latin typeface="Comic Sans MS"/>
              </a:rPr>
              <a:t>de manera que se pueda caracterizar en forma única en sus variables más releva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4360" y="627120"/>
            <a:ext cx="882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Detección de particularida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19280" y="2852640"/>
            <a:ext cx="8424720" cy="34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Análisis cualitati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Análisis cuantiti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4360" y="627120"/>
            <a:ext cx="882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¿Como enfrentar la idea de un proyect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50920" y="1724040"/>
            <a:ext cx="8459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064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Residencia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Primera vivi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Segunda vivi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Lote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Arrendamien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064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484200"/>
            <a:ext cx="87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Definición de productos inmobiliario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5T19:51:41Z</dcterms:created>
  <dc:creator>Unidad de Computacion</dc:creator>
  <dc:description/>
  <dc:language>en-US</dc:language>
  <cp:lastModifiedBy>mepallares</cp:lastModifiedBy>
  <dcterms:modified xsi:type="dcterms:W3CDTF">2010-04-01T12:41:43Z</dcterms:modified>
  <cp:revision>12</cp:revision>
  <dc:subject/>
  <dc:title>Diapositiva 1</dc:title>
</cp:coreProperties>
</file>