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B8D-5F88-4D88-B4FE-292290A5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1A9-D4AF-43BC-866B-6EDD81FC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04B-9F43-42C0-A2A1-C4AF29B3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8F3-FA0F-4E52-9D58-B3E8B509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D5F-3439-4D9D-8A13-3D7F5C22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E85-93AB-40FE-98D5-8334EA34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C3F-8839-4A46-A26F-436C363E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EF9-C0BB-47DA-B380-5241CF9D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D6C-436D-4A05-88EF-624EC10D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F73-7E83-499C-91B5-5F95C79E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528-9FD1-4F22-B3EB-8A141B3A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2E1-2A07-4E28-AA43-AB4526C2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E791-7DED-48F2-A9FB-E99537A49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09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VALUACIÓN y PREPARACIÓN DE PROYECTOS INMOBIL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080" y="476280"/>
            <a:ext cx="8459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quipamiento y servic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me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Ofic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duc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Bod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nse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907920"/>
            <a:ext cx="845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structura económ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structura financ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aracterización de los a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iclo de la p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Modo de trans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ecio del 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Ocasión de adquis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Resultado después del ejerc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89000"/>
            <a:ext cx="72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La particularidad del negocio inmobiliar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360" y="189000"/>
            <a:ext cx="88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Variables que inciden en la preparación de proyectos inmobil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ructura del mer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La demanda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l consumidor inmobil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logía de costos asociados a la producción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logía de costos asociados a la financiación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 y ocurrencia de ingresos en la comercialización de productos inmob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Velocidad de 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Marco Jurídico y fiscal que regula la producción inmobili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24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empresarial de la producción inmobil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arco legal de las Empresas Construct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arco legal de las Empresas Inmobil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 de impuestos y 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fecto de los i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Planificación tribu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mercialización de Productos Inmobiliar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odelo de v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odelo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Alternativas de financiamiento a la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de las tipologías de productos inmob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los modelos de ingresos de venta y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las estrategias de marketing asociadas al tipo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Financiación y riesgo asociado a la producción inmobilia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683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de las fuentes de financiamiento públicas y priva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otras fuentes de financi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Sensibilización de las oportunidades de fina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árgenes de certidu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Relación riesgo - r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nstrucción de flujos de caja y criterios de 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6832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ructura del flujo de c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Flujo de caja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Flujo de caja del inversion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imación del períod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Periodificación de los egresos e ingresos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Determinación del costo de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Definición de la tasa de descu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riterio de indicadores, VAN, TIR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cena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218268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Técnica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que tiene por objeto apoyar a la toma de decisiones mediante la determinación de la conveniencia o inconveniencia de asignar recursos a una ac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84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qué es la evaluación de proyec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1125360"/>
            <a:ext cx="84247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Herramienta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de apoyo a la toma de decisiones que recopila, ordena y analiza un conjunto de antecedentes económicos que permiten juzgar cualitativa y cuantitativamente las ventajas o desventajas de asignar recursos a una inici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263844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Estudio y Análisis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de todos y cada uno los antecedentes necesarios que permitan formular un proyecto a fin de ser evalu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842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qué es la preparación de proyec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360" y="1947960"/>
            <a:ext cx="882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dea de proyecto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o la respuesta mas o menos pensada a una necesidad humana buscando solucionar un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Genesis de la Idea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Aprovechar una oportunidad de negoc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Descubrir un espacio de a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 qué es un proyect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360" y="1947960"/>
            <a:ext cx="882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opuesta de desarrollo de una idea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en que el bien ofertado corresponde a un espacio habitable para el desarrollo de diferentes fun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 qué es un proyecto inmobiliari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194796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dentificación del proyecto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de manera que se pueda caracterizar en forma única en sus variables más relev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Detección de particular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9280" y="2852640"/>
            <a:ext cx="84247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nálisis cualit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nálisis cuanti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360" y="62712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Como enfrentar la idea de un proyec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724040"/>
            <a:ext cx="845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Residenc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imera viv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Segunda viv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Lot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rrenda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842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Definición de productos inmobiliari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9:51:41Z</dcterms:created>
  <dc:creator>Unidad de Computacion</dc:creator>
  <dc:description/>
  <dc:language>en-US</dc:language>
  <cp:lastModifiedBy>mepallares</cp:lastModifiedBy>
  <dcterms:modified xsi:type="dcterms:W3CDTF">2010-04-01T12:41:43Z</dcterms:modified>
  <cp:revision>12</cp:revision>
  <dc:subject/>
  <dc:title>Diapositiva 1</dc:title>
</cp:coreProperties>
</file>