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2B05-0521-413E-864F-0F5A1776B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617C-3D01-449A-9C58-9B281AAC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264F-A606-4CEA-B3A8-79E060235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455A-7F84-4F2F-8A9F-13628B092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A984-3E0D-4F8D-AF53-39EE44B3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12EC-5862-4B10-85EA-E833726D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281A-B0E8-4B37-BCB5-081ADAEF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FF0E-4139-4D0F-8D4C-A40BCDC6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D858-320A-41F8-82D4-E7B3E46A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4D97-BD03-409A-B215-B3DF3812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EECE-0986-47A4-986B-8CCB86D7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169E-42BA-43C0-A339-9DF7534C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A37C-67DB-49B5-B1BE-5E278852E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bdonline.co.uk/Pictures/468xAny/b/q/w/bedzed3_ready.jpg&amp;imgrefurl=http://www.bdonline.co.uk/story.asp%3Fstorycode%3D3079981&amp;usg=__YtpNKPwAg7I9yPUDVTjYCI1z1Io=&amp;h=370&amp;w=450&amp;sz=139&amp;hl=es&amp;start=7&amp;um=1&amp;tbnid=ByBrSp4sCr_5-M:&amp;tbnh=104&amp;tbnw=127&amp;prev=/images%3Fq%3Dbedzed%26hl%3Des%26sa%3DX%26um%3D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l/imgres?imgurl=http://4.bp.blogspot.com/_QTQFItWsBmY/R5H9-hY60TI/AAAAAAAAAIQ/qnPaQiBJTI8/s400/BedZed5.bmp&amp;imgrefurl=http://eficienciaenergtica.blogspot.com/2008_01_01_archive.html&amp;usg=__WkOkmJXkVFkp6HzRzcBrckATi6A=&amp;h=318&amp;w=400&amp;sz=27&amp;hl=es&amp;start=20&amp;um=1&amp;tbnid=w1lCgju3tE4PIM:&amp;tbnh=99&amp;tbnw=124&amp;prev=/images%3Fq%3Dbedzed%26hl%3Des%26sa%3DX%26um%3D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plataformaarquitectura.cl/cpgarq/albums/userpics/10004/normal_Flyer_Concurso_EE2.jpg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stentabilidad urbana / habit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920" y="5516280"/>
            <a:ext cx="7058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iviana Fernández Prajo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cultad de Arquitectura y Urbanismo, 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268280"/>
            <a:ext cx="1900080" cy="1555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68360" y="1268280"/>
            <a:ext cx="1943280" cy="1551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Ver imagen en tamaño completo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84720" y="1268280"/>
            <a:ext cx="2016000" cy="1581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6443640" y="1341360"/>
            <a:ext cx="25210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304920" y="-104760"/>
            <a:ext cx="9753840" cy="70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9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ideraciones ambientales para la sustentabilidad Urb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foque preventiv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olíticas y programas de mediano y larg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foque intersector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oherencia y sinergia de las políticas púb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cipación ciudada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dición básica de la democr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entr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stión sectorial lo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la comuna como el espacio de gestión y artic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-gestión público-priva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ntegrar iniciativas, recursos, experiencias de todos los ac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-responsabilidad de la pobl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ra prevenir, planificar y disposición a modificar hábitos y conduc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a Chile Susten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udad Parque Bicente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8360" y="1347840"/>
            <a:ext cx="79912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304920" y="-104760"/>
            <a:ext cx="9753840" cy="706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39640" y="5661000"/>
            <a:ext cx="813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cial Echeñique, Seminario un futuro sustentable para Santiago, 24 de Septiembre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co- ciu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icro generación de energía (solar, eólica, geo-termal, procesamiento de basur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tamiento del agua (reutiliz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tamiento de la basura (procesamiento en terreno, energía, recicla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nsporte ( ciclovías, peatonalización, transporte públ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teriales de construcción (renovables, made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rcial Echeñique, arquit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minario un futuro sustentable para Santiago, 24 de Septiembr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terios de selección de proye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8930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muestren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soluciones prácticas, innovadoras y sostenibl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a las actuales necesidades y problemas de la vivi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conómicamente sean sostenibles, autosuficientes o que atraigan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financiación privada o públic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 Se va a dar preferencia a los proyectos que no se apoyen enteramente en la financiación públ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engan capacidad de ser transferidos a otras partes del mu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sideren el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término del hábitat desde una amplia perspectiv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y que incorporen otras ventajas tales como, el ahorro de energía o agua, la generación de ingresos, la inclusión social, la participación plena individual y de la comunidad, la capacitación y la edu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terios de selección de proye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lación con el entorno y el bar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spuesta a las restricciones y oportunidades del sitio/predio/terr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yout, organización, zonificación y pais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lanificación de calles (circulaciones vehiculares) y circulaciones peat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sponibilidad de estaciona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ocupación por los temas de seguridad y accesi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pariencia externa y la planificación int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stentabilidad en la constr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erminaciones y deta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entaciones para un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novación urbana ec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tica y respeto por el ser hu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ción y democrat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ción de un sistema de re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orno a la naturaleza y las experiencias senso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idad funcional y densidad urbana control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ecto por la identidad del lu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logía y econom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peración 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566100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khart Hahn, arquitecto y urbanista alemán. Planeamiento urbano ecológico,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ructura de la presentación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ción de conci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ún se requiere mucha información y educ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íticas y programas actu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lgunos avances en general y en particul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gunas acciones de referentes interna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 es necesario partir de ce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5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s del desarrollo urbano sosten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quilibrio entre desarrollo urbano y conservación del suelo dedicado a la actividad agrícola y forestal, así como las zonas verdes destinadas al o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ervación del suelo, de los ecosistemas y de los entornos natu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zcla de funciones urbanas y equilibrio entre hábitat y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versidad social en los barrios y en los propios edif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rol de los desplazamientos y del uso del vehíc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tección de la calidad del aire y del a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ducción de las molestias causadas por el rí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estión de residu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vención de los riesgos naturales y tecnoló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rvación de los conjuntos urbanos de interés y del patrimonio inmobili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quitectura ecológica, 29 ejemplos europeos, Dominique Gauzin-Mu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rbanismo y desarrollo sosten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estión del suelo y del patrimo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lítica terri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iudad compa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nsificación de la vivi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ivienda de poca a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arrollo sostenible de las zonas residen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trol del impacto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aminación del agua, del aire y acú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estión de los desplaza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fico vehi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nsporte cole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icicl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atonaliz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rbanismo y desarrollo sosten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stión de la ener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horro energé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es urb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os sosten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stión del 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ción del riesgo de inun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clo del 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tilización de las aguas lluv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ermeabilización del su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biertas ajardin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rbanismo y desarrollo sosten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onas ver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ión reguladora de la vege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ción de los eco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ardinamiento de los pat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de los residu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uos domés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icl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stión social de la ciu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idad urbana y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ción de los usu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 educacional del municip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sínt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iciencia energ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stión del 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stión del sue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stión de los residu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ción soc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ucación y particip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l del gobierno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cipación ciudad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stentabilidad urb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ueremos ciudades bellas, amables, equitativas. Esto supone una política urbana moderna, con sentido de territorio. Supone fortalecer la legislación e incorporar variables ambientales y de integración social en los instrumentos de planificación territoria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denta Michelle Bache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saje presidencial 21 de Mayo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stentabilidad urbana h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a no podemos seguir indifer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rque no podemos pensar que es responsabilidad de otr@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Los arquitect@s hablamos de sustentabilidad a escala del territorio, de la ciudad, de los edificios y de los objetos y debemos prepararnos para los grandes cambios que esto va a implicar en un futuro próximo. Cambios que hay que enfrentar con conocimientos, con tecnología y con creatividad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rq. Juan Ignacio Baixa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idente XVI Bienal de Arquitectura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eptualización y desarro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forme Brundtland, Nuestro Futuro Común, 19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atisfacer las necesidades de las generaciones presentes sin comprometer las posibilidades de las del futuro, para atender sus propias necesidades” declaración de Río,  (Agenda 21), 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construcción sostenible constituye una manera de satisfacer las actuales necesidades de vivienda e infraestructura sin comprometer la capacidad de las futuras generaciones para satisfacer sus propias necesidades en el futuro”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undación Suiza HOLCIM para una construcción susten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eptu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stentabilid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proceso de mejoramiento sostenido y equitativo de la calidad de vida, fundado en medidas apropiadas de conservación y protección del medio ambiente, de manera de no comprometer las expectativas de las generaciones futura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y de Bases del Medio Ambiente, Chile 19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nda de Ciudades 2006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Ejes de desarrollo de la polít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mayor participación y cohesión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stentabilid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rotección del medio ambiente y uso racional de los recursos natu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etitivid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generación de empleo y mayores oportunidades de invers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líneas de ac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orma del marco regulato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tión urbana integrada de las ciu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mento de la inversión en mejoramiento urb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uperación de barrios y de la vida en comun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2492280"/>
            <a:ext cx="842472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2492280"/>
            <a:ext cx="8424720" cy="7923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s de la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viendas y barrios de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or integración social en comunas y bar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s y mejores espacios públicos y equipa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talecimiento de la democracia urbana y de la particip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s desarrollo econó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s empleo e inver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jor accesibilidad urb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ción del medio ambiente y de la identidad del patrimonio constru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ítica Urbana Sustentable (MINV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ejes de sustentabilidad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ción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o Amb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arrollo Econó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 políticas urbanas sustentab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ificación urbana integ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estructura de alta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e urbano de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vienda social y barrios integ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eño urb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acio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02:56:55Z</dcterms:created>
  <dc:creator>Viviana Fernandez</dc:creator>
  <dc:description/>
  <dc:language>en-US</dc:language>
  <cp:lastModifiedBy>vfernand</cp:lastModifiedBy>
  <dcterms:modified xsi:type="dcterms:W3CDTF">2009-10-09T16:19:12Z</dcterms:modified>
  <cp:revision>13</cp:revision>
  <dc:subject/>
  <dc:title>Diapositiva 1</dc:title>
</cp:coreProperties>
</file>