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084-E943-48CD-A525-7E47AD86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E7E-F11D-49C0-BCC2-B48DC33D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F48-B499-4B55-A42A-1C2851D5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F2F-97B5-4125-B60B-F1AD2F11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B3F-9F37-4EA4-ADE2-EB728BFB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C5FD-995E-45F5-B6BB-6CDC1079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70D-840F-44F9-A0D5-6E3CF4C6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B58-C29E-4BC6-A995-8FE4E33B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0ED-B1F8-4D5A-85AB-CA0B32E6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4D0-8687-4757-81F9-F7178E01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D52B-1458-4A6E-A102-A247BEC5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240-EFA7-4283-A4D9-6263786F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B713-AB2A-40CC-849D-32B993B12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bdonline.co.uk/Pictures/468xAny/b/q/w/bedzed3_ready.jpg&amp;imgrefurl=http://www.bdonline.co.uk/story.asp%3Fstorycode%3D3079981&amp;usg=__YtpNKPwAg7I9yPUDVTjYCI1z1Io=&amp;h=370&amp;w=450&amp;sz=139&amp;hl=es&amp;start=7&amp;um=1&amp;tbnid=ByBrSp4sCr_5-M:&amp;tbnh=104&amp;tbnw=127&amp;prev=/images%3Fq%3Dbedzed%26hl%3Des%26sa%3DX%26um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4.bp.blogspot.com/_QTQFItWsBmY/R5H9-hY60TI/AAAAAAAAAIQ/qnPaQiBJTI8/s400/BedZed5.bmp&amp;imgrefurl=http://eficienciaenergtica.blogspot.com/2008_01_01_archive.html&amp;usg=__WkOkmJXkVFkp6HzRzcBrckATi6A=&amp;h=318&amp;w=400&amp;sz=27&amp;hl=es&amp;start=20&amp;um=1&amp;tbnid=w1lCgju3tE4PIM:&amp;tbnh=99&amp;tbnw=124&amp;prev=/images%3Fq%3Dbedzed%26hl%3Des%26sa%3DX%26um%3D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plataformaarquitectura.cl/cpgarq/albums/userpics/10004/normal_Flyer_Concurso_EE2.jpg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entabilidad urbana / habit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5516280"/>
            <a:ext cx="7058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iviana Fernández Prajo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cultad de Arquitectura y Urbanismo, 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268280"/>
            <a:ext cx="1900080" cy="155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1268280"/>
            <a:ext cx="1943280" cy="1551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Ver imagen en tamaño complet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4720" y="1268280"/>
            <a:ext cx="2016000" cy="1581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6443640" y="1341360"/>
            <a:ext cx="2521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04920" y="-104760"/>
            <a:ext cx="975384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aciones ambientales para la sustentabilidad Urb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foque preven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líticas y programas de mediano y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foque intersector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herencia y sinergia de las polític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ción ciudad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ción básica de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entr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sectorial lo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 comuna como el espacio de gestión y artic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gestión público-priv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tegrar iniciativas, recursos, experiencias de todos l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-responsabilidad de la pobl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a prevenir, planificar y disposición a modificar hábitos y conduc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a Chile Susten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udad Parque Bicent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8360" y="1347840"/>
            <a:ext cx="79912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304920" y="-104760"/>
            <a:ext cx="9753840" cy="706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5661000"/>
            <a:ext cx="813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cial Echeñique, Seminario un futuro sustentable para Santiago, 24 de Septiembre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- ciu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cro generación de energía (solar, eólica, geo-termal, procesamiento de basu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tamiento del agua (reutiliz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tamiento de la basura (procesamiento en terreno, energía, recicla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porte ( ciclovías, peatonalización, transporte públ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teriales de construcción (renovables, made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ial Echeñique, arquit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minario un futuro sustentable para Santiago, 24 de Septi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erios de selección de proye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93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muestren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oluciones prácticas, innovadoras y sostenibl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 las actuales necesidades y problemas de la vivi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conómicamente sean sostenibles, autosuficientes o que atraigan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inanciación privada o públic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Se va a dar preferencia a los proyectos que no se apoyen enteramente en la financiación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ngan capacidad de ser transferidos a otras partes del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ideren el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término del hábitat desde una amplia perspectiv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y que incorporen otras ventajas tales como, el ahorro de energía o agua, la generación de ingresos, la inclusión social, la participación plena individual y de la comunidad, la capacitación y la edu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erios de selección de proye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con el entorno y el bar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puesta a las restricciones y oportunidades del sitio/predio/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yout, organización, zonificación y pai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anificación de calles (circulaciones vehiculares) y circulaciones peat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ponibilidad de estacion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ocupación por los temas de seguridad y acces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pariencia externa y la planificación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stentabilidad en la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rminaciones y deta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entaciones para un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ovación urbana ec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tica y respeto por el ser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ción y democrat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ción de un sistema de re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orno a la naturaleza y las experiencias sens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dad funcional y densidad urbana contro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ecto por la identidad del l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logía y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peración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5661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khart Hahn, arquitecto y urbanista alemán. Planeamiento urbano ecológico,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ructura de la presentación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ción de con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ún se requiere mucha información y educ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íticas y programas ac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lgunos avances en general y en partic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gunas acciones de referentes inter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 es necesario partir de c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del desarrollo urbano soste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librio entre desarrollo urbano y conservación del suelo dedicado a la actividad agrícola y forestal, así como las zonas verdes destinadas al 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ervación del suelo, de los ecosistemas y de los entornos na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zcla de funciones urbanas y equilibrio entre hábitat y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versidad social en los barrios y en los propios edif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 de los desplazamientos y del uso del vehíc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tección de la calidad del aire y del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ducción de las molestias causadas por el rí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de residu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vención de los riesgos naturales y tecn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rvación de los conjuntos urbanos de interés y del patrimonio inmobil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quitectura ecológica, 29 ejemplos europeos, Dominique Gauzin-Mu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nismo y desarrollo soste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estión del suelo y del patrimo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lítica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udad compa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nsificación de la vivi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ivienda de poca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arrollo sostenible de las zonas residen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trol del impact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minación del agua, del aire y acú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estión de los desplaz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fico veh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porte cole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icic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aton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nismo y desarrollo soste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de la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orro energ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es urb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os sosten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ción del riesgo de in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clo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tilización de las aguas lluv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meabilización del su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biertas ajardi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nismo y desarrollo soste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nas ver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ión reguladora de la vege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ción de los eco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ardinamiento de los p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de los resi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os domé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cl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social de la ciu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dad urbana y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ción de los usu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 educacional del munici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sí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iciencia energ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del sue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de los resi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ción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ción y 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 del gobiern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ción ciudad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entabilidad urb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ueremos ciudades bellas, amables, equitativas. Esto supone una política urbana moderna, con sentido de territorio. Supone fortalecer la legislación e incorporar variables ambientales y de integración social en los instrumentos de planificación territori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a Michelle Bach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saje presidencial 21 de Mayo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entabilidad urbana h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a no podemos seguir indife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que no podemos pensar que es responsabilidad de otr@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os arquitect@s hablamos de sustentabilidad a escala del territorio, de la ciudad, de los edificios y de los objetos y debemos prepararnos para los grandes cambios que esto va a implicar en un futuro próximo. Cambios que hay que enfrentar con conocimientos, con tecnología y con creativida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rq. Juan Ignacio Baix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idente XVI Bienal de Arquitectura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ualización y desarr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forme Brundtland, Nuestro Futuro Común, 19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tisfacer las necesidades de las generaciones presentes sin comprometer las posibilidades de las del futuro, para atender sus propias necesidades” declaración de Río,  (Agenda 21),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onstrucción sostenible constituye una manera de satisfacer las actuales necesidades de vivienda e infraestructura sin comprometer la capacidad de las futuras generaciones para satisfacer sus propias necesidades en el futuro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dación Suiza HOLCIM para una construcción susten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u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entabi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proceso de mejoramiento sostenido y equitativo de la calidad de vida, fundado en medidas apropiadas de conservación y protección del medio ambiente, de manera de no comprometer las expectativas de las generaciones futura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y de Bases del Medio Ambiente, Chile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 de Ciudades 2006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Ejes de desarrollo de la polí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ayor participación y cohes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tentabilid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tección del medio ambiente y uso racional de los recursos na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itivid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generación de empleo y mayores oportunidades de invers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líneas de ac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ma del marco regul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urbana integrada de las ciu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o de la inversión en mejoramiento urb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peración de barrios y de la vida en com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492280"/>
            <a:ext cx="84247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492280"/>
            <a:ext cx="8424720" cy="7923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de la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viendas y barrios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integración social en comunas y bar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y mejores espacios públicos y equip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talecimiento de la democracia urbana y de la 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desarroll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empleo e inver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 accesibilidad urb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ción del medio ambiente y de la identidad del patrimonio constr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ítica Urbana Sustentable (MINV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ejes de sustentabilidad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o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arrollo 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políticas urbanas sustentab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ificación urbana integ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estructura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e urbano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vienda social y barrios integ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eño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ac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2:56:55Z</dcterms:created>
  <dc:creator>Viviana Fernandez</dc:creator>
  <dc:description/>
  <dc:language>en-US</dc:language>
  <cp:lastModifiedBy>vfernand</cp:lastModifiedBy>
  <dcterms:modified xsi:type="dcterms:W3CDTF">2009-10-09T16:19:12Z</dcterms:modified>
  <cp:revision>13</cp:revision>
  <dc:subject/>
  <dc:title>Diapositiva 1</dc:title>
</cp:coreProperties>
</file>