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C4B7-8414-4385-87E7-424239A56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F0AC-6527-450C-B788-B4B0E3F9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3F82-D38D-4267-AD57-BB9F224F0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16F7-64B7-4946-8692-43E6428C5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8C39-6C77-419B-94E2-84F11B65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2624-6311-41D3-AD91-66B8ACA0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F8C0-6CCA-4523-B935-8035C335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4C63-75CF-4E3B-ABDA-9DD6E85E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ACC0-2C56-4C24-83C0-1172186F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EFAB-B8C4-45B2-8796-B3851262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DAE3-5D8F-4032-8025-383E4F29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E4AC-B742-45E8-8A53-355FD96D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AE39-1FD0-4AF4-8139-62CB662CF86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9680" y="785520"/>
            <a:ext cx="8358120" cy="31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Las imperfecciones de Organización Industrial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4 Rectángulo"/>
          <p:cNvSpPr/>
          <p:nvPr/>
        </p:nvSpPr>
        <p:spPr>
          <a:xfrm>
            <a:off x="1143000" y="171468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gráficamente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500120" y="2286000"/>
            <a:ext cx="571500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Tipos de Monopolio y Causa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) Monopolio Natur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azones tecnológ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Bienes que están sujetos a fuertes economía  de escala en relación al tamaño de 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Tipos de Monopolio y Causa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643040" y="2000160"/>
            <a:ext cx="628668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Tipos de Monopolio y Causa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b) Monopolio Factu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 bien en un cierto sentido pueden ser inevitables por razones tecnológicas y de mercado, existen en buena medida como resultado de una acción consciente de una determinada empresa para alcanzar y sostener una posición monopólica, como pueden s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Tipos de Monopolio y Causa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b) Monopolio Factu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Barreras de ent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ontrol monopólico de la información y tecn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Diferenciación de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Competencia Monopolís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 bien se cumplen la mayoría de los supuestos del modelo de competencia perfecta, el que lo caracteriza, es que el producto ya no es homogéneo, es decir, DIFERENCI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ada empresa tiene un nicho de mercado con sus seguid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El Oligopolio y la ineficiencia Soci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oligopolio se caracteriza porque hay más de una empresa y menos que much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xisten varios modelos que estudian los oligopo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uando se tiene un duopolio, el optimo de las empresas miradas en conjunto es actuar como si fueran una sola. COLUS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El Oligopolio y la ineficiencia Soci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4 Triángulo isósceles"/>
          <p:cNvSpPr/>
          <p:nvPr/>
        </p:nvSpPr>
        <p:spPr>
          <a:xfrm>
            <a:off x="2643120" y="2071800"/>
            <a:ext cx="3714840" cy="3786120"/>
          </a:xfrm>
          <a:prstGeom prst="triangle">
            <a:avLst>
              <a:gd name="adj" fmla="val 49032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5 CuadroTexto"/>
          <p:cNvSpPr/>
          <p:nvPr/>
        </p:nvSpPr>
        <p:spPr>
          <a:xfrm>
            <a:off x="7358040" y="2000160"/>
            <a:ext cx="571680" cy="411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6 CuadroTexto"/>
          <p:cNvSpPr/>
          <p:nvPr/>
        </p:nvSpPr>
        <p:spPr>
          <a:xfrm>
            <a:off x="1357200" y="2071800"/>
            <a:ext cx="571680" cy="411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7 CuadroTexto"/>
          <p:cNvSpPr/>
          <p:nvPr/>
        </p:nvSpPr>
        <p:spPr>
          <a:xfrm>
            <a:off x="2928960" y="1785960"/>
            <a:ext cx="314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ERF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8 CuadroTexto"/>
          <p:cNvSpPr/>
          <p:nvPr/>
        </p:nvSpPr>
        <p:spPr>
          <a:xfrm>
            <a:off x="1857240" y="5286240"/>
            <a:ext cx="271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ONOPOL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9 CuadroTexto"/>
          <p:cNvSpPr/>
          <p:nvPr/>
        </p:nvSpPr>
        <p:spPr>
          <a:xfrm>
            <a:off x="5286240" y="564372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ONOPO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10 CuadroTexto"/>
          <p:cNvSpPr/>
          <p:nvPr/>
        </p:nvSpPr>
        <p:spPr>
          <a:xfrm>
            <a:off x="3429000" y="435780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LIGOPO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Los monopolios en el contexto intern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a variable costo de transporte toma mayor relevancia. Relación peso – volumen – valor monetari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Bienes transables y no trans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Los monopolios en el contexto intern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n el sector agrícola, la oferta depende del precio del periodo anterior y de una variable no controlable como es el caso del cli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32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= f (p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f 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CL" sz="32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= Q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CL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Times New Roman"/>
              </a:rPr>
              <a:t>t   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= variable exógena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MODELO DE COMPETENCIA PERFECT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UPUE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BIENES HOMOGÉNE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ERFECTA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Información sobre bi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Información sobre tecnolog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Información sobre mercados intern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Información sobre Recursos Natu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MODELO DE COMPETENCIA PERFECT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TOMICIDAD DE LOS MERCADOS (EL PRECIO SE VE COMO DA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AS UNIDADES SE COMPORTAN RACIONAL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RODUCTORES (MAXIMIZAN UTILIDADES MONET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ONSUMIDORES (MAXIMIZAN UTILIDADES SUBJETI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MODELO DE COMPETENCIA PERFECT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OS PRECIOS EN LOS MERCADOS LOS DETERMINA SOLO LA LEY DE OFERTA Y DEMANDA (NO EXISTEN EXTERNALIDAD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NO EXISTEN COSTOS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NO EXISTEN BARRERAS  A LA ENT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IMPLICANCIAS</a:t>
            </a:r>
            <a:br>
              <a:rPr sz="4400"/>
            </a:b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DE LOS SUPUEST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UPUESTOS 1 Y 2: UN SOLO PRE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UPUESTOS 5 Y 3: LOS PRODUCTORES ESTÁN DISPUESTOS A VENDER LO QUE LOS CONSUMIDORES ESTÁN DISPUESTOS A COMPR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EL OPTIM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Optimo en sentido de Pareto: ES = VS –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Valor Social (VS) es el área bajo la curva de demanda y corresponde a lo que la sociedad está dispuesta a pagar por obtener el nivel de consumo en el punto de equilib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EL OPTIM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Costo Social (CS), se define como el área bajo la curva de oferta (Costo Marginal) de la industria, y corresponde al costo total que la sociedad está dispuesta a cancelar por estar en el equilib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Excedente Social (ES), en términos gráficos, corresponde al área entre la curva de demanda y la curva de oferta hasta el nivel de producción de equilib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EL OPTIM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285920" y="1785960"/>
            <a:ext cx="628632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Las imperfecciones de Organización Industrial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a condición de equilibrio del Monopolio 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ostos Marginales (CMg) = Ingresos Marginales (IM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(CMg) = (IM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04:09:53Z</dcterms:created>
  <dc:creator>GUILLERMINA MUÑOZ VILCHES</dc:creator>
  <dc:description/>
  <dc:language>en-US</dc:language>
  <cp:lastModifiedBy>PEDRO VALDES VELOSO</cp:lastModifiedBy>
  <dcterms:modified xsi:type="dcterms:W3CDTF">2010-05-26T02:06:40Z</dcterms:modified>
  <cp:revision>26</cp:revision>
  <dc:subject/>
  <dc:title>Programa Especial de   Prosecución de Estudios a Ingeniería Civil Industrial.</dc:title>
</cp:coreProperties>
</file>