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7FA-8685-4414-A4F2-360D004E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C64-42A3-4A46-9DB6-5892C62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26B-25DF-4CDE-B883-8A8C6383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D6E-7B3A-414F-ACFB-81759C2F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6B9-B938-4315-A891-CC0E8E7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D68-A5B4-406E-A626-F881451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5BC-1907-44C6-8C59-081EEAE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A85-4091-4077-B385-95060C6C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24E-8508-47F6-95F6-3AA0670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AEA-ED7B-4CF0-8DBE-6F72117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D6F-C7AA-4140-9434-B7C6D0F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E7E-364A-4191-8DE5-846667D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3B32-C6F5-45AB-81C8-B9D67DFD73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14300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5715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) Monopolio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zones tecn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que están sujetos a fuertes economía  de escala en relación al tamañ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6286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n un cierto sentido pueden ser inevitables por razones tecnológicas y de mercado, existen en buena medida como resultado de una acción consciente de una determinada empresa para alcanzar y sostener una posición monopólica, como pueden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rreras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monopólico de la información y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ferenci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etencia Monopol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se cumplen la mayoría de los supuestos del modelo de competencia perfecta, el que lo caracteriza, es que el producto ya no es homogéneo, es decir, DIFERENC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empresa tiene un nicho de mercado con sus segui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ligopolio se caracteriza porque hay más de una empresa y menos que muc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isten varios modelos que estudian los oligop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ando se tiene un duopolio, el optimo de las empresas miradas en conjunto es actuar como si fueran una sola. COLU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Triángulo isósceles"/>
          <p:cNvSpPr/>
          <p:nvPr/>
        </p:nvSpPr>
        <p:spPr>
          <a:xfrm>
            <a:off x="2643120" y="2071800"/>
            <a:ext cx="3714840" cy="3786120"/>
          </a:xfrm>
          <a:prstGeom prst="triangle">
            <a:avLst>
              <a:gd name="adj" fmla="val 49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7358040" y="200016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1357200" y="207180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2928960" y="17859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8 CuadroTexto"/>
          <p:cNvSpPr/>
          <p:nvPr/>
        </p:nvSpPr>
        <p:spPr>
          <a:xfrm>
            <a:off x="1857240" y="52862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9 CuadroTexto"/>
          <p:cNvSpPr/>
          <p:nvPr/>
        </p:nvSpPr>
        <p:spPr>
          <a:xfrm>
            <a:off x="528624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0 CuadroTexto"/>
          <p:cNvSpPr/>
          <p:nvPr/>
        </p:nvSpPr>
        <p:spPr>
          <a:xfrm>
            <a:off x="3429000" y="43578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IG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variable costo de transporte toma mayor relevancia. Relación peso – volumen – valor monet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transables y no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sector agrícola, la oferta depende del precio del periodo anterior y de una variable no controlable como es el caso del cl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 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= variable exógen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HOMOGÉN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RFECT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b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mercad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Recurs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TOMICIDAD DE LOS MERCADOS (EL PRECIO SE VE COMO D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S UNIDADES SE COMPORTAN RACION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DUCTORES (MAXIMIZAN UTILIDADES MONE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UMIDORES (MAXIMIZAN UTILIDADES SUBJETI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PRECIOS EN LOS MERCADOS LOS DETERMINA SOLO LA LEY DE OFERTA Y DEMANDA (NO EXISTEN EXTERNALIDA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COSTOS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BARRERAS  A LA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IMPLICANCIAS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 LOS SUPUE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1 Y 2: UN SOLO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5 Y 3: LOS PRODUCTORES ESTÁN DISPUESTOS A VENDER LO QUE LOS CONSUMIDORES ESTÁN DISPUESTOS A COMP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ptimo en sentido de Pareto: ES = VS –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Valor Social (VS) es el área bajo la curva de demanda y corresponde a lo que la sociedad está dispuesta a pagar por obtener el nivel de consumo en el punto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sto Social (CS), se define como el área bajo la curva de oferta (Costo Marginal) de la industria, y corresponde al costo total que la sociedad está dispuesta a cancelar por estar en el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xcedente Social (ES), en términos gráficos, corresponde al área entre la curva de demanda y la curva de oferta hasta el nivel de producción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286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dición de equilibrio del Monopolio 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stos Marginales (CMg) = Ingresos Marginales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CMg) =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4:09:53Z</dcterms:created>
  <dc:creator>GUILLERMINA MUÑOZ VILCHES</dc:creator>
  <dc:description/>
  <dc:language>en-US</dc:language>
  <cp:lastModifiedBy>PEDRO VALDES VELOSO</cp:lastModifiedBy>
  <dcterms:modified xsi:type="dcterms:W3CDTF">2010-05-26T02:06:40Z</dcterms:modified>
  <cp:revision>26</cp:revision>
  <dc:subject/>
  <dc:title>Programa Especial de   Prosecución de Estudios a Ingeniería Civil Industrial.</dc:title>
</cp:coreProperties>
</file>