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8ABA-0799-4E8A-ABF8-FFB823CD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AB86-FF4B-45D5-9552-74C7979C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4CB-EEAF-4EB9-8C21-D22976C3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5D-2E98-4CB2-8987-59020447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9931-AC1D-42D0-872A-A973C211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8C3-709C-43B1-88B4-D710A97E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126C-DCD7-44DA-9E5B-F54D0184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509-ADF7-4435-91F7-3E1E42E6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F40-0C13-4930-B43D-15386C45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CCE-F431-45E4-A999-69F5E703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0A01-6C4F-4B70-921E-F954E40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FDE-82F1-47E1-85FE-FC91426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7ED6-0D20-4D67-9A34-752E32922C0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835812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4 Rectángulo"/>
          <p:cNvSpPr/>
          <p:nvPr/>
        </p:nvSpPr>
        <p:spPr>
          <a:xfrm>
            <a:off x="1143000" y="171468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00120" y="2286000"/>
            <a:ext cx="57150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) Monopolio Natu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zones tecnológ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que están sujetos a fuertes economía  de escala en relación al tamaño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643040" y="2000160"/>
            <a:ext cx="628668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n un cierto sentido pueden ser inevitables por razones tecnológicas y de mercado, existen en buena medida como resultado de una acción consciente de una determinada empresa para alcanzar y sostener una posición monopólica, como pueden s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Tipos de Monopolio y Causa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) Monopolio Fact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arreras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trol monopólico de la información y 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iferenciación de produ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Competencia Monopolí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se cumplen la mayoría de los supuestos del modelo de competencia perfecta, el que lo caracteriza, es que el producto ya no es homogéneo, es decir, DIFERENC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ada empresa tiene un nicho de mercado con sus segui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ligopolio se caracteriza porque hay más de una empresa y menos que much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xisten varios modelos que estudian los oligopol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uando se tiene un duopolio, el optimo de las empresas miradas en conjunto es actuar como si fueran una sola. COLUS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ligopolio y la ineficiencia Soc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4 Triángulo isósceles"/>
          <p:cNvSpPr/>
          <p:nvPr/>
        </p:nvSpPr>
        <p:spPr>
          <a:xfrm>
            <a:off x="2643120" y="2071800"/>
            <a:ext cx="3714840" cy="3786120"/>
          </a:xfrm>
          <a:prstGeom prst="triangle">
            <a:avLst>
              <a:gd name="adj" fmla="val 49032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5 CuadroTexto"/>
          <p:cNvSpPr/>
          <p:nvPr/>
        </p:nvSpPr>
        <p:spPr>
          <a:xfrm>
            <a:off x="7358040" y="200016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6 CuadroTexto"/>
          <p:cNvSpPr/>
          <p:nvPr/>
        </p:nvSpPr>
        <p:spPr>
          <a:xfrm>
            <a:off x="1357200" y="2071800"/>
            <a:ext cx="571680" cy="41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7 CuadroTexto"/>
          <p:cNvSpPr/>
          <p:nvPr/>
        </p:nvSpPr>
        <p:spPr>
          <a:xfrm>
            <a:off x="2928960" y="178596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8 CuadroTexto"/>
          <p:cNvSpPr/>
          <p:nvPr/>
        </p:nvSpPr>
        <p:spPr>
          <a:xfrm>
            <a:off x="1857240" y="528624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9 CuadroTexto"/>
          <p:cNvSpPr/>
          <p:nvPr/>
        </p:nvSpPr>
        <p:spPr>
          <a:xfrm>
            <a:off x="5286240" y="564372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10 CuadroTexto"/>
          <p:cNvSpPr/>
          <p:nvPr/>
        </p:nvSpPr>
        <p:spPr>
          <a:xfrm>
            <a:off x="3429000" y="435780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LIGOP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variable costo de transporte toma mayor relevancia. Relación peso – volumen – valor monetari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transables y no trans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os monopolios en el contexto interna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sector agrícola, la oferta depende del precio del periodo anterior y de una variable no controlable como es el caso del cl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f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= Q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3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CL" sz="3200" spc="-1" strike="noStrike" baseline="-25000">
                <a:solidFill>
                  <a:srgbClr val="000000"/>
                </a:solidFill>
                <a:latin typeface="Times New Roman"/>
              </a:rPr>
              <a:t>t 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= variable exógena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BIENES HOMOGÉNE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PERFECT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bi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tecnolog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mercados intern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nformación sobre Recursos Natu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TOMICIDAD DE LOS MERCADOS (EL PRECIO SE VE COMO DA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S UNIDADES SE COMPORTAN RACIONAL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RODUCTORES (MAXIMIZAN UTILIDADES MONET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ONSUMIDORES (MAXIMIZAN UTILIDADES SUBJETIV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MODELO DE COMPETENCIA PERFEC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OS PRECIOS EN LOS MERCADOS LOS DETERMINA SOLO LA LEY DE OFERTA Y DEMANDA (NO EXISTEN EXTERNALIDAD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COSTOS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-50400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O EXISTEN BARRERAS  A LA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4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IMPLICANCIAS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DE LOS SUPUE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1 Y 2: UN SOLO PRE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UESTOS 5 Y 3: LOS PRODUCTORES ESTÁN DISPUESTOS A VENDER LO QUE LOS CONSUMIDORES ESTÁN DISPUESTOS A COMPR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Optimo en sentido de Pareto: ES = VS –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Valor Social (VS) es el área bajo la curva de demanda y corresponde a lo que la sociedad está dispuesta a pagar por obtener el nivel de consumo en el punto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Costo Social (CS), se define como el área bajo la curva de oferta (Costo Marginal) de la industria, y corresponde al costo total que la sociedad está dispuesta a cancelar por estar en el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Excedente Social (ES), en términos gráficos, corresponde al área entre la curva de demanda y la curva de oferta hasta el nivel de producción de equilibr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EL OPTIM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285920" y="1785960"/>
            <a:ext cx="62863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642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4400" spc="-1" strike="noStrike">
                <a:solidFill>
                  <a:srgbClr val="000000"/>
                </a:solidFill>
                <a:latin typeface="Times New Roman"/>
              </a:rPr>
              <a:t>Las imperfecciones de Organización Industrial</a:t>
            </a: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a condición de equilibrio del Monopolio e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stos Marginales (CMg) = Ingresos Marginales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(CMg) = (IM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0T04:09:53Z</dcterms:created>
  <dc:creator>GUILLERMINA MUÑOZ VILCHES</dc:creator>
  <dc:description/>
  <dc:language>en-US</dc:language>
  <cp:lastModifiedBy>PEDRO VALDES VELOSO</cp:lastModifiedBy>
  <dcterms:modified xsi:type="dcterms:W3CDTF">2010-05-26T02:06:40Z</dcterms:modified>
  <cp:revision>26</cp:revision>
  <dc:subject/>
  <dc:title>Programa Especial de   Prosecución de Estudios a Ingeniería Civil Industrial.</dc:title>
</cp:coreProperties>
</file>