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5DA-9AE7-4C91-9E3B-E29D45D0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F40-6C59-4D99-80A4-51D87CF0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B08-7733-48C4-874F-60C292AD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BB3C-F264-49B4-A848-2824CF49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531-3DC2-4944-88AF-8049A91E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6C1-E9E3-4556-9CC4-F94C3258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4CA-00E7-4F2B-8681-D652AA86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800-E7A8-48C8-8F69-427B666E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6A3-32C8-4CEB-9394-640C38F5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D54-7400-41E6-B600-EC3258CB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18C-EEF6-4E23-B9B6-9458393C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7EB-4C69-4ECE-BA44-3A925177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41A3-2F9D-419D-A994-4877B95B41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835812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as imperfecciones de Organización Industrial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4 Rectángulo"/>
          <p:cNvSpPr/>
          <p:nvPr/>
        </p:nvSpPr>
        <p:spPr>
          <a:xfrm>
            <a:off x="1143000" y="1714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57150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) Monopolio Na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azones tecnoló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ienes que están sujetos a fuertes economía  de escala en relación al tamañ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643040" y="2000160"/>
            <a:ext cx="62866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) Monopolio Fac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en un cierto sentido pueden ser inevitables por razones tecnológicas y de mercado, existen en buena medida como resultado de una acción consciente de una determinada empresa para alcanzar y sostener una posición monopólica, como pueden s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) Monopolio Fac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arreras de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trol monopólico de la información y 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ferenciación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Competencia Monopolís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se cumplen la mayoría de los supuestos del modelo de competencia perfecta, el que lo caracteriza, es que el producto ya no es homogéneo, es decir, DIFERENCI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da empresa tiene un nicho de mercado con sus segui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ligopolio y la ineficiencia Soc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oligopolio se caracteriza porque hay más de una empresa y menos que muc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xisten varios modelos que estudian los oligop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ando se tiene un duopolio, el optimo de las empresas miradas en conjunto es actuar como si fueran una sola. COLU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ligopolio y la ineficiencia Soc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Triángulo isósceles"/>
          <p:cNvSpPr/>
          <p:nvPr/>
        </p:nvSpPr>
        <p:spPr>
          <a:xfrm>
            <a:off x="2643120" y="2071800"/>
            <a:ext cx="3714840" cy="3786120"/>
          </a:xfrm>
          <a:prstGeom prst="triangle">
            <a:avLst>
              <a:gd name="adj" fmla="val 4903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5 CuadroTexto"/>
          <p:cNvSpPr/>
          <p:nvPr/>
        </p:nvSpPr>
        <p:spPr>
          <a:xfrm>
            <a:off x="7358040" y="2000160"/>
            <a:ext cx="57168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6 CuadroTexto"/>
          <p:cNvSpPr/>
          <p:nvPr/>
        </p:nvSpPr>
        <p:spPr>
          <a:xfrm>
            <a:off x="1357200" y="2071800"/>
            <a:ext cx="57168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7 CuadroTexto"/>
          <p:cNvSpPr/>
          <p:nvPr/>
        </p:nvSpPr>
        <p:spPr>
          <a:xfrm>
            <a:off x="2928960" y="178596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8 CuadroTexto"/>
          <p:cNvSpPr/>
          <p:nvPr/>
        </p:nvSpPr>
        <p:spPr>
          <a:xfrm>
            <a:off x="1857240" y="528624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NOPOL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9 CuadroTexto"/>
          <p:cNvSpPr/>
          <p:nvPr/>
        </p:nvSpPr>
        <p:spPr>
          <a:xfrm>
            <a:off x="5286240" y="56437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NOP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10 CuadroTexto"/>
          <p:cNvSpPr/>
          <p:nvPr/>
        </p:nvSpPr>
        <p:spPr>
          <a:xfrm>
            <a:off x="3429000" y="43578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LIGOP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os monopolios en el context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variable costo de transporte toma mayor relevancia. Relación peso – volumen – valor monet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ienes transables y no trans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os monopolios en el context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l sector agrícola, la oferta depende del precio del periodo anterior y de una variable no controlable como es el caso del cl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= f (p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f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t 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= variable exógen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MODELO DE 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IENES HOMOGÉN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RFECT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bi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tecn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mercados 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Recursos Na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MODELO DE 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TOMICIDAD DE LOS MERCADOS (EL PRECIO SE VE COMO DA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S UNIDADES SE COMPORTAN RACION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DUCTORES (MAXIMIZAN UTILIDADES MONE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SUMIDORES (MAXIMIZAN UTILIDADES SUBJETI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MODELO DE 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OS PRECIOS EN LOS MERCADOS LOS DETERMINA SOLO LA LEY DE OFERTA Y DEMANDA (NO EXISTEN EXTERNALIDA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 EXISTEN COSTOS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 EXISTEN BARRERAS  A LA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IMPLICANCIAS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DE LOS SUPUEST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UESTOS 1 Y 2: UN SOLO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UESTOS 5 Y 3: LOS PRODUCTORES ESTÁN DISPUESTOS A VENDER LO QUE LOS CONSUMIDORES ESTÁN DISPUESTOS A COMP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PTI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Optimo en sentido de Pareto: ES = VS –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Valor Social (VS) es el área bajo la curva de demanda y corresponde a lo que la sociedad está dispuesta a pagar por obtener el nivel de consumo en el punto de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PTI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sto Social (CS), se define como el área bajo la curva de oferta (Costo Marginal) de la industria, y corresponde al costo total que la sociedad está dispuesta a cancelar por estar en el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Excedente Social (ES), en términos gráficos, corresponde al área entre la curva de demanda y la curva de oferta hasta el nivel de producción de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PTI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2863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as imperfecciones de Organización Industrial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condición de equilibrio del Monopolio 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stos Marginales (CMg) = Ingresos Marginales (IM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CMg) = (IM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4:09:53Z</dcterms:created>
  <dc:creator>GUILLERMINA MUÑOZ VILCHES</dc:creator>
  <dc:description/>
  <dc:language>en-US</dc:language>
  <cp:lastModifiedBy>PEDRO VALDES VELOSO</cp:lastModifiedBy>
  <dcterms:modified xsi:type="dcterms:W3CDTF">2010-05-26T02:06:40Z</dcterms:modified>
  <cp:revision>26</cp:revision>
  <dc:subject/>
  <dc:title>Programa Especial de   Prosecución de Estudios a Ingeniería Civil Industrial.</dc:title>
</cp:coreProperties>
</file>