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9840" y="79200"/>
            <a:ext cx="8955000" cy="6640560"/>
            <a:chOff x="69840" y="79200"/>
            <a:chExt cx="8955000" cy="6640560"/>
          </a:xfrm>
        </p:grpSpPr>
        <p:grpSp>
          <p:nvGrpSpPr>
            <p:cNvPr id="1" name=""/>
            <p:cNvGrpSpPr/>
            <p:nvPr/>
          </p:nvGrpSpPr>
          <p:grpSpPr>
            <a:xfrm>
              <a:off x="69840" y="79200"/>
              <a:ext cx="8955000" cy="6640560"/>
              <a:chOff x="69840" y="79200"/>
              <a:chExt cx="8955000" cy="664056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69840" y="79200"/>
                <a:ext cx="1098720" cy="1621080"/>
                <a:chOff x="69840" y="79200"/>
                <a:chExt cx="1098720" cy="162108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69840" y="79200"/>
                  <a:ext cx="1098720" cy="108000"/>
                  <a:chOff x="69840" y="79200"/>
                  <a:chExt cx="1098720" cy="10800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6984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270000" y="7920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471600" y="7920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67140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" name=""/>
                  <p:cNvSpPr/>
                  <p:nvPr/>
                </p:nvSpPr>
                <p:spPr>
                  <a:xfrm>
                    <a:off x="87156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107316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" name=""/>
                <p:cNvGrpSpPr/>
                <p:nvPr/>
              </p:nvGrpSpPr>
              <p:grpSpPr>
                <a:xfrm>
                  <a:off x="76320" y="298440"/>
                  <a:ext cx="1085760" cy="95400"/>
                  <a:chOff x="76320" y="298440"/>
                  <a:chExt cx="1085760" cy="9540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>
                    <a:off x="7632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276120" y="298440"/>
                    <a:ext cx="8100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477720" y="298440"/>
                    <a:ext cx="8100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67788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87804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107964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" name=""/>
                <p:cNvGrpSpPr/>
                <p:nvPr/>
              </p:nvGrpSpPr>
              <p:grpSpPr>
                <a:xfrm>
                  <a:off x="69840" y="509760"/>
                  <a:ext cx="1098720" cy="107640"/>
                  <a:chOff x="69840" y="509760"/>
                  <a:chExt cx="1098720" cy="107640"/>
                </a:xfrm>
              </p:grpSpPr>
              <p:sp>
                <p:nvSpPr>
                  <p:cNvPr id="18" name=""/>
                  <p:cNvSpPr/>
                  <p:nvPr/>
                </p:nvSpPr>
                <p:spPr>
                  <a:xfrm>
                    <a:off x="6984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270000" y="509760"/>
                    <a:ext cx="936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471600" y="509760"/>
                    <a:ext cx="936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67140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87156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107316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69840" y="727200"/>
                  <a:ext cx="1098720" cy="108000"/>
                  <a:chOff x="69840" y="727200"/>
                  <a:chExt cx="1098720" cy="10800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>
                    <a:off x="6984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270000" y="72720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471600" y="72720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67140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87156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107316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" name=""/>
                <p:cNvGrpSpPr/>
                <p:nvPr/>
              </p:nvGrpSpPr>
              <p:grpSpPr>
                <a:xfrm>
                  <a:off x="69840" y="941400"/>
                  <a:ext cx="1098720" cy="108000"/>
                  <a:chOff x="69840" y="941400"/>
                  <a:chExt cx="1098720" cy="108000"/>
                </a:xfrm>
              </p:grpSpPr>
              <p:sp>
                <p:nvSpPr>
                  <p:cNvPr id="32" name=""/>
                  <p:cNvSpPr/>
                  <p:nvPr/>
                </p:nvSpPr>
                <p:spPr>
                  <a:xfrm>
                    <a:off x="6984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270000" y="94140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71600" y="94140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67140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87156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107316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" name=""/>
                <p:cNvGrpSpPr/>
                <p:nvPr/>
              </p:nvGrpSpPr>
              <p:grpSpPr>
                <a:xfrm>
                  <a:off x="69840" y="1158840"/>
                  <a:ext cx="1098720" cy="108000"/>
                  <a:chOff x="69840" y="1158840"/>
                  <a:chExt cx="1098720" cy="108000"/>
                </a:xfrm>
              </p:grpSpPr>
              <p:sp>
                <p:nvSpPr>
                  <p:cNvPr id="39" name=""/>
                  <p:cNvSpPr/>
                  <p:nvPr/>
                </p:nvSpPr>
                <p:spPr>
                  <a:xfrm>
                    <a:off x="6984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270000" y="11588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71600" y="11588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67140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87156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107316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9840" y="1374840"/>
                  <a:ext cx="1098720" cy="108000"/>
                  <a:chOff x="69840" y="1374840"/>
                  <a:chExt cx="1098720" cy="1080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>
                    <a:off x="6984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270000" y="137484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471600" y="137484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67140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87156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107316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" name=""/>
                <p:cNvGrpSpPr/>
                <p:nvPr/>
              </p:nvGrpSpPr>
              <p:grpSpPr>
                <a:xfrm>
                  <a:off x="69840" y="1592280"/>
                  <a:ext cx="1098720" cy="108000"/>
                  <a:chOff x="69840" y="1592280"/>
                  <a:chExt cx="1098720" cy="10800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>
                    <a:off x="6984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70000" y="159228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471600" y="159228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67140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87156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07316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" name=""/>
              <p:cNvGrpSpPr/>
              <p:nvPr/>
            </p:nvGrpSpPr>
            <p:grpSpPr>
              <a:xfrm>
                <a:off x="7927920" y="5099040"/>
                <a:ext cx="1096920" cy="1620720"/>
                <a:chOff x="7927920" y="5099040"/>
                <a:chExt cx="1096920" cy="1620720"/>
              </a:xfrm>
            </p:grpSpPr>
            <p:grpSp>
              <p:nvGrpSpPr>
                <p:cNvPr id="60" name=""/>
                <p:cNvGrpSpPr/>
                <p:nvPr/>
              </p:nvGrpSpPr>
              <p:grpSpPr>
                <a:xfrm>
                  <a:off x="7927920" y="5099040"/>
                  <a:ext cx="1096920" cy="108000"/>
                  <a:chOff x="7927920" y="5099040"/>
                  <a:chExt cx="1096920" cy="10800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>
                    <a:off x="792792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812628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832788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852804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872964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893124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" name=""/>
                <p:cNvGrpSpPr/>
                <p:nvPr/>
              </p:nvGrpSpPr>
              <p:grpSpPr>
                <a:xfrm>
                  <a:off x="7927920" y="5311800"/>
                  <a:ext cx="1096920" cy="108000"/>
                  <a:chOff x="7927920" y="5311800"/>
                  <a:chExt cx="1096920" cy="10800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792792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12628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832788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852804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72964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893124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927920" y="5529240"/>
                  <a:ext cx="1096920" cy="108000"/>
                  <a:chOff x="7927920" y="5529240"/>
                  <a:chExt cx="1096920" cy="10800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792792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812628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832788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852804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872964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893124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" name=""/>
                <p:cNvGrpSpPr/>
                <p:nvPr/>
              </p:nvGrpSpPr>
              <p:grpSpPr>
                <a:xfrm>
                  <a:off x="7927920" y="5746680"/>
                  <a:ext cx="1096920" cy="108000"/>
                  <a:chOff x="7927920" y="5746680"/>
                  <a:chExt cx="1096920" cy="108000"/>
                </a:xfrm>
              </p:grpSpPr>
              <p:sp>
                <p:nvSpPr>
                  <p:cNvPr id="82" name=""/>
                  <p:cNvSpPr/>
                  <p:nvPr/>
                </p:nvSpPr>
                <p:spPr>
                  <a:xfrm>
                    <a:off x="792792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812628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832788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52804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72964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93124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7927920" y="5961240"/>
                  <a:ext cx="1096920" cy="107640"/>
                  <a:chOff x="7927920" y="5961240"/>
                  <a:chExt cx="1096920" cy="10764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792792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812628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832788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852804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872964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893124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927920" y="6178680"/>
                  <a:ext cx="1096920" cy="108000"/>
                  <a:chOff x="7927920" y="6178680"/>
                  <a:chExt cx="1096920" cy="1080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792792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812628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832788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852804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872964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893124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7927920" y="6394320"/>
                  <a:ext cx="1096920" cy="108000"/>
                  <a:chOff x="7927920" y="6394320"/>
                  <a:chExt cx="1096920" cy="10800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792792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812628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832788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852804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872964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893124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7927920" y="6611760"/>
                  <a:ext cx="1096920" cy="108000"/>
                  <a:chOff x="7927920" y="6611760"/>
                  <a:chExt cx="1096920" cy="10800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792792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812628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832788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852804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872964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893124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6" name=""/>
            <p:cNvSpPr/>
            <p:nvPr/>
          </p:nvSpPr>
          <p:spPr>
            <a:xfrm>
              <a:off x="463680" y="482760"/>
              <a:ext cx="8216640" cy="5892480"/>
            </a:xfrm>
            <a:prstGeom prst="rect">
              <a:avLst/>
            </a:prstGeom>
            <a:solidFill>
              <a:srgbClr val="3e67bd"/>
            </a:solidFill>
            <a:ln w="12600">
              <a:solidFill>
                <a:srgbClr val="86a0d7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49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066680" y="1295280"/>
            <a:ext cx="807732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ookman Old Style"/>
              </a:rPr>
              <a:t>IMPUESTO 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Bookman Old Style"/>
              </a:rPr>
              <a:t>SUBSIDI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029040" y="2952720"/>
            <a:ext cx="3220920" cy="2935440"/>
          </a:xfrm>
          <a:custGeom>
            <a:avLst/>
            <a:gdLst/>
            <a:ahLst/>
            <a:rect l="l" t="t" r="r" b="b"/>
            <a:pathLst>
              <a:path w="2029" h="1849">
                <a:moveTo>
                  <a:pt x="0" y="0"/>
                </a:moveTo>
                <a:lnTo>
                  <a:pt x="0" y="1848"/>
                </a:lnTo>
                <a:lnTo>
                  <a:pt x="2028" y="184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3054240" y="3613320"/>
            <a:ext cx="2482920" cy="178416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73320" y="3701880"/>
            <a:ext cx="2349720" cy="21592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28600" y="3384720"/>
            <a:ext cx="46188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52680" y="5270400"/>
            <a:ext cx="44820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80480" y="2946240"/>
            <a:ext cx="4251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42320" y="5842080"/>
            <a:ext cx="397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09960" y="4629240"/>
            <a:ext cx="1049400" cy="1258920"/>
          </a:xfrm>
          <a:custGeom>
            <a:avLst/>
            <a:gdLst/>
            <a:ahLst/>
            <a:rect l="l" t="t" r="r" b="b"/>
            <a:pathLst>
              <a:path w="661" h="793">
                <a:moveTo>
                  <a:pt x="0" y="0"/>
                </a:moveTo>
                <a:lnTo>
                  <a:pt x="660" y="0"/>
                </a:lnTo>
                <a:lnTo>
                  <a:pt x="660" y="79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19600" y="5880240"/>
            <a:ext cx="4222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62200" y="4203720"/>
            <a:ext cx="0" cy="793800"/>
          </a:xfrm>
          <a:prstGeom prst="line">
            <a:avLst/>
          </a:prstGeom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035160" y="4172040"/>
            <a:ext cx="540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054240" y="5010120"/>
            <a:ext cx="520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3498840" y="6114960"/>
            <a:ext cx="317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47800" y="382284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66880" y="496584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95800" y="447048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514080" y="1790280"/>
            <a:ext cx="803916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a recaudación de impuesto por parte del Estado es el rectángulo P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 C </a:t>
            </a: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Impuesto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41640" y="4178160"/>
            <a:ext cx="507960" cy="43524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581200" y="3860640"/>
            <a:ext cx="439560" cy="502560"/>
            <a:chOff x="2581200" y="3860640"/>
            <a:chExt cx="439560" cy="502560"/>
          </a:xfrm>
        </p:grpSpPr>
        <p:sp>
          <p:nvSpPr>
            <p:cNvPr id="323" name=""/>
            <p:cNvSpPr/>
            <p:nvPr/>
          </p:nvSpPr>
          <p:spPr>
            <a:xfrm>
              <a:off x="2581200" y="3936960"/>
              <a:ext cx="41760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47880" y="3860640"/>
              <a:ext cx="2728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2491560" y="4356000"/>
            <a:ext cx="5486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562120" y="4756320"/>
            <a:ext cx="446760" cy="464040"/>
            <a:chOff x="2562120" y="4756320"/>
            <a:chExt cx="446760" cy="464040"/>
          </a:xfrm>
        </p:grpSpPr>
        <p:sp>
          <p:nvSpPr>
            <p:cNvPr id="327" name=""/>
            <p:cNvSpPr/>
            <p:nvPr/>
          </p:nvSpPr>
          <p:spPr>
            <a:xfrm>
              <a:off x="2562120" y="4794120"/>
              <a:ext cx="41760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28440" y="4756320"/>
              <a:ext cx="280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5486040" y="236232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11000" y="2362320"/>
            <a:ext cx="338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1640" y="4626000"/>
            <a:ext cx="511200" cy="368280"/>
          </a:xfrm>
          <a:prstGeom prst="rect">
            <a:avLst/>
          </a:prstGeom>
          <a:solidFill>
            <a:srgbClr val="6e004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029040" y="2933640"/>
            <a:ext cx="3220920" cy="2935440"/>
          </a:xfrm>
          <a:custGeom>
            <a:avLst/>
            <a:gdLst/>
            <a:ahLst/>
            <a:rect l="l" t="t" r="r" b="b"/>
            <a:pathLst>
              <a:path w="2029" h="1849">
                <a:moveTo>
                  <a:pt x="0" y="0"/>
                </a:moveTo>
                <a:lnTo>
                  <a:pt x="0" y="1848"/>
                </a:lnTo>
                <a:lnTo>
                  <a:pt x="2028" y="184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3054240" y="3594240"/>
            <a:ext cx="2482920" cy="178416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73320" y="3683160"/>
            <a:ext cx="2349720" cy="2158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628600" y="3365640"/>
            <a:ext cx="46188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52680" y="5251320"/>
            <a:ext cx="44820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80480" y="2927520"/>
            <a:ext cx="4251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42320" y="5823000"/>
            <a:ext cx="397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09960" y="4610160"/>
            <a:ext cx="1049400" cy="1258920"/>
          </a:xfrm>
          <a:custGeom>
            <a:avLst/>
            <a:gdLst/>
            <a:ahLst/>
            <a:rect l="l" t="t" r="r" b="b"/>
            <a:pathLst>
              <a:path w="661" h="793">
                <a:moveTo>
                  <a:pt x="0" y="0"/>
                </a:moveTo>
                <a:lnTo>
                  <a:pt x="660" y="0"/>
                </a:lnTo>
                <a:lnTo>
                  <a:pt x="660" y="79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491560" y="4356000"/>
            <a:ext cx="5486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19600" y="5861160"/>
            <a:ext cx="4222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62200" y="4184640"/>
            <a:ext cx="0" cy="793800"/>
          </a:xfrm>
          <a:prstGeom prst="line">
            <a:avLst/>
          </a:prstGeom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035160" y="4152960"/>
            <a:ext cx="540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54240" y="4991040"/>
            <a:ext cx="520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580920" y="6095880"/>
            <a:ext cx="235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47800" y="380376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566880" y="494676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95800" y="445140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342720" y="1447560"/>
            <a:ext cx="83437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triángul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E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s conocido com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érdida de Bienest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ya que el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s lo que pierde como excedente el consumidor y el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s lo que pierde como excedente el produc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Impuesto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61960" y="441324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59080" y="1911240"/>
            <a:ext cx="158760" cy="21600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581200" y="3860640"/>
            <a:ext cx="439560" cy="502560"/>
            <a:chOff x="2581200" y="3860640"/>
            <a:chExt cx="439560" cy="502560"/>
          </a:xfrm>
        </p:grpSpPr>
        <p:sp>
          <p:nvSpPr>
            <p:cNvPr id="354" name=""/>
            <p:cNvSpPr/>
            <p:nvPr/>
          </p:nvSpPr>
          <p:spPr>
            <a:xfrm>
              <a:off x="2581200" y="3936960"/>
              <a:ext cx="41760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47880" y="3860640"/>
              <a:ext cx="2728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2600280" y="4775040"/>
            <a:ext cx="446760" cy="464400"/>
            <a:chOff x="2600280" y="4775040"/>
            <a:chExt cx="446760" cy="464400"/>
          </a:xfrm>
        </p:grpSpPr>
        <p:sp>
          <p:nvSpPr>
            <p:cNvPr id="357" name=""/>
            <p:cNvSpPr/>
            <p:nvPr/>
          </p:nvSpPr>
          <p:spPr>
            <a:xfrm>
              <a:off x="2600280" y="4813200"/>
              <a:ext cx="41760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66600" y="4775040"/>
              <a:ext cx="280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07040" y="2273400"/>
            <a:ext cx="158760" cy="21564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3581280" y="4191120"/>
            <a:ext cx="471600" cy="763560"/>
            <a:chOff x="3581280" y="4191120"/>
            <a:chExt cx="471600" cy="763560"/>
          </a:xfrm>
        </p:grpSpPr>
        <p:sp>
          <p:nvSpPr>
            <p:cNvPr id="361" name=""/>
            <p:cNvSpPr/>
            <p:nvPr/>
          </p:nvSpPr>
          <p:spPr>
            <a:xfrm>
              <a:off x="3581280" y="4610160"/>
              <a:ext cx="471600" cy="344520"/>
            </a:xfrm>
            <a:custGeom>
              <a:avLst/>
              <a:gdLst/>
              <a:ahLst/>
              <a:rect l="l" t="t" r="r" b="b"/>
              <a:pathLst>
                <a:path w="297" h="217">
                  <a:moveTo>
                    <a:pt x="296" y="0"/>
                  </a:moveTo>
                  <a:lnTo>
                    <a:pt x="0" y="0"/>
                  </a:lnTo>
                  <a:lnTo>
                    <a:pt x="0" y="216"/>
                  </a:lnTo>
                  <a:lnTo>
                    <a:pt x="296" y="0"/>
                  </a:lnTo>
                </a:path>
              </a:pathLst>
            </a:custGeom>
            <a:solidFill>
              <a:srgbClr val="6e0043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581280" y="4191120"/>
              <a:ext cx="459000" cy="407880"/>
            </a:xfrm>
            <a:custGeom>
              <a:avLst/>
              <a:gdLst/>
              <a:ahLst/>
              <a:rect l="l" t="t" r="r" b="b"/>
              <a:pathLst>
                <a:path w="289" h="257">
                  <a:moveTo>
                    <a:pt x="0" y="0"/>
                  </a:moveTo>
                  <a:lnTo>
                    <a:pt x="0" y="256"/>
                  </a:lnTo>
                  <a:lnTo>
                    <a:pt x="288" y="256"/>
                  </a:lnTo>
                  <a:lnTo>
                    <a:pt x="0" y="0"/>
                  </a:lnTo>
                </a:path>
              </a:pathLst>
            </a:custGeom>
            <a:solidFill>
              <a:srgbClr val="dc0081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87760" y="4610160"/>
              <a:ext cx="444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3543480" y="4286160"/>
            <a:ext cx="380880" cy="642240"/>
            <a:chOff x="3543480" y="4286160"/>
            <a:chExt cx="380880" cy="642240"/>
          </a:xfrm>
        </p:grpSpPr>
        <p:sp>
          <p:nvSpPr>
            <p:cNvPr id="365" name=""/>
            <p:cNvSpPr/>
            <p:nvPr/>
          </p:nvSpPr>
          <p:spPr>
            <a:xfrm>
              <a:off x="3543480" y="428616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581640" y="459108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SUBSIDIO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66360" y="1962000"/>
            <a:ext cx="7829640" cy="293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erencia que realiza el Estado a ciertos agentes económicos o a ciertas actividades productivas, que consiste en donaciones de dinero, bienes o prestaciones gratuitas de servici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029040" y="2876400"/>
            <a:ext cx="3220920" cy="2935440"/>
          </a:xfrm>
          <a:custGeom>
            <a:avLst/>
            <a:gdLst/>
            <a:ahLst/>
            <a:rect l="l" t="t" r="r" b="b"/>
            <a:pathLst>
              <a:path w="2029" h="1849">
                <a:moveTo>
                  <a:pt x="0" y="0"/>
                </a:moveTo>
                <a:lnTo>
                  <a:pt x="0" y="1848"/>
                </a:lnTo>
                <a:lnTo>
                  <a:pt x="2028" y="184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3054240" y="3537000"/>
            <a:ext cx="2482920" cy="178416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73320" y="3625920"/>
            <a:ext cx="2349720" cy="2158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28600" y="3308400"/>
            <a:ext cx="46188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52680" y="5194440"/>
            <a:ext cx="44820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80480" y="2870280"/>
            <a:ext cx="4251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142320" y="5765760"/>
            <a:ext cx="397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09960" y="4552920"/>
            <a:ext cx="1049400" cy="1258920"/>
          </a:xfrm>
          <a:custGeom>
            <a:avLst/>
            <a:gdLst/>
            <a:ahLst/>
            <a:rect l="l" t="t" r="r" b="b"/>
            <a:pathLst>
              <a:path w="661" h="793">
                <a:moveTo>
                  <a:pt x="0" y="0"/>
                </a:moveTo>
                <a:lnTo>
                  <a:pt x="660" y="0"/>
                </a:lnTo>
                <a:lnTo>
                  <a:pt x="660" y="79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24640" y="5803920"/>
            <a:ext cx="5212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647960" y="403848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47960" y="487692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195800" y="439416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781200" y="150480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el Estado fija un subsidio de la magnitud AC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Subsidio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491560" y="4356000"/>
            <a:ext cx="5486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48320" y="4191120"/>
            <a:ext cx="0" cy="9144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029040" y="2876400"/>
            <a:ext cx="3220920" cy="2935440"/>
          </a:xfrm>
          <a:custGeom>
            <a:avLst/>
            <a:gdLst/>
            <a:ahLst/>
            <a:rect l="l" t="t" r="r" b="b"/>
            <a:pathLst>
              <a:path w="2029" h="1849">
                <a:moveTo>
                  <a:pt x="0" y="0"/>
                </a:moveTo>
                <a:lnTo>
                  <a:pt x="0" y="1848"/>
                </a:lnTo>
                <a:lnTo>
                  <a:pt x="2028" y="184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3054240" y="3537000"/>
            <a:ext cx="2482920" cy="178416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73320" y="3625920"/>
            <a:ext cx="2349720" cy="2158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28600" y="3308400"/>
            <a:ext cx="46188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152680" y="5194440"/>
            <a:ext cx="44820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580480" y="2870280"/>
            <a:ext cx="4251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142320" y="5765760"/>
            <a:ext cx="397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009960" y="4552920"/>
            <a:ext cx="1049400" cy="1258920"/>
          </a:xfrm>
          <a:custGeom>
            <a:avLst/>
            <a:gdLst/>
            <a:ahLst/>
            <a:rect l="l" t="t" r="r" b="b"/>
            <a:pathLst>
              <a:path w="661" h="793">
                <a:moveTo>
                  <a:pt x="0" y="0"/>
                </a:moveTo>
                <a:lnTo>
                  <a:pt x="660" y="0"/>
                </a:lnTo>
                <a:lnTo>
                  <a:pt x="660" y="79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24640" y="5803920"/>
            <a:ext cx="5212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95800" y="439416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437760" y="1504800"/>
            <a:ext cx="811548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precio que cancelan los consumidores es P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Subsidio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2562120" y="4794120"/>
            <a:ext cx="439560" cy="502560"/>
            <a:chOff x="2562120" y="4794120"/>
            <a:chExt cx="439560" cy="502560"/>
          </a:xfrm>
        </p:grpSpPr>
        <p:sp>
          <p:nvSpPr>
            <p:cNvPr id="398" name=""/>
            <p:cNvSpPr/>
            <p:nvPr/>
          </p:nvSpPr>
          <p:spPr>
            <a:xfrm>
              <a:off x="2562120" y="4870440"/>
              <a:ext cx="41760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28800" y="4794120"/>
              <a:ext cx="2728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2491560" y="4356000"/>
            <a:ext cx="5486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642680" y="198108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3022200" y="5067360"/>
            <a:ext cx="1631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648320" y="4191120"/>
            <a:ext cx="0" cy="9144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647960" y="403848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47960" y="487692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029040" y="2876400"/>
            <a:ext cx="3220920" cy="2935440"/>
          </a:xfrm>
          <a:custGeom>
            <a:avLst/>
            <a:gdLst/>
            <a:ahLst/>
            <a:rect l="l" t="t" r="r" b="b"/>
            <a:pathLst>
              <a:path w="2029" h="1849">
                <a:moveTo>
                  <a:pt x="0" y="0"/>
                </a:moveTo>
                <a:lnTo>
                  <a:pt x="0" y="1848"/>
                </a:lnTo>
                <a:lnTo>
                  <a:pt x="2028" y="184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3054240" y="3537000"/>
            <a:ext cx="2482920" cy="178416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073320" y="3625920"/>
            <a:ext cx="2349720" cy="2158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628600" y="3308400"/>
            <a:ext cx="46188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152680" y="5194440"/>
            <a:ext cx="44820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580480" y="2870280"/>
            <a:ext cx="4251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42320" y="5765760"/>
            <a:ext cx="397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09960" y="4552920"/>
            <a:ext cx="1049400" cy="1258920"/>
          </a:xfrm>
          <a:custGeom>
            <a:avLst/>
            <a:gdLst/>
            <a:ahLst/>
            <a:rect l="l" t="t" r="r" b="b"/>
            <a:pathLst>
              <a:path w="661" h="793">
                <a:moveTo>
                  <a:pt x="0" y="0"/>
                </a:moveTo>
                <a:lnTo>
                  <a:pt x="660" y="0"/>
                </a:lnTo>
                <a:lnTo>
                  <a:pt x="660" y="79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24640" y="5803920"/>
            <a:ext cx="5212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95800" y="439416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781200" y="150480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precio que reciben los productores es P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Subsidio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491560" y="4356000"/>
            <a:ext cx="5486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2523960" y="3841920"/>
            <a:ext cx="446760" cy="464040"/>
            <a:chOff x="2523960" y="3841920"/>
            <a:chExt cx="446760" cy="464040"/>
          </a:xfrm>
        </p:grpSpPr>
        <p:sp>
          <p:nvSpPr>
            <p:cNvPr id="420" name=""/>
            <p:cNvSpPr/>
            <p:nvPr/>
          </p:nvSpPr>
          <p:spPr>
            <a:xfrm>
              <a:off x="2523960" y="3879720"/>
              <a:ext cx="41760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690280" y="3841920"/>
              <a:ext cx="280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1448280" y="1981080"/>
            <a:ext cx="338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3022200" y="4152960"/>
            <a:ext cx="1631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648320" y="4191120"/>
            <a:ext cx="0" cy="9144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47960" y="403848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647960" y="487692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3022200" y="5067360"/>
            <a:ext cx="1631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2562120" y="4794120"/>
            <a:ext cx="439560" cy="502560"/>
            <a:chOff x="2562120" y="4794120"/>
            <a:chExt cx="439560" cy="502560"/>
          </a:xfrm>
        </p:grpSpPr>
        <p:sp>
          <p:nvSpPr>
            <p:cNvPr id="429" name=""/>
            <p:cNvSpPr/>
            <p:nvPr/>
          </p:nvSpPr>
          <p:spPr>
            <a:xfrm>
              <a:off x="2562120" y="4870440"/>
              <a:ext cx="41760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728800" y="4794120"/>
              <a:ext cx="2728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029040" y="2876400"/>
            <a:ext cx="3220920" cy="2935440"/>
          </a:xfrm>
          <a:custGeom>
            <a:avLst/>
            <a:gdLst/>
            <a:ahLst/>
            <a:rect l="l" t="t" r="r" b="b"/>
            <a:pathLst>
              <a:path w="2029" h="1849">
                <a:moveTo>
                  <a:pt x="0" y="0"/>
                </a:moveTo>
                <a:lnTo>
                  <a:pt x="0" y="1848"/>
                </a:lnTo>
                <a:lnTo>
                  <a:pt x="2028" y="184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3054240" y="3537000"/>
            <a:ext cx="2482920" cy="178416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73320" y="3625920"/>
            <a:ext cx="2349720" cy="2158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628600" y="3308400"/>
            <a:ext cx="46188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152680" y="5194440"/>
            <a:ext cx="44820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580480" y="2870280"/>
            <a:ext cx="4251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142320" y="5765760"/>
            <a:ext cx="397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009960" y="4552920"/>
            <a:ext cx="1049400" cy="1258920"/>
          </a:xfrm>
          <a:custGeom>
            <a:avLst/>
            <a:gdLst/>
            <a:ahLst/>
            <a:rect l="l" t="t" r="r" b="b"/>
            <a:pathLst>
              <a:path w="661" h="793">
                <a:moveTo>
                  <a:pt x="0" y="0"/>
                </a:moveTo>
                <a:lnTo>
                  <a:pt x="660" y="0"/>
                </a:lnTo>
                <a:lnTo>
                  <a:pt x="660" y="79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24640" y="5803920"/>
            <a:ext cx="5212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95800" y="439416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781200" y="150480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a nueva cantidad tranzada es mayo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Subsidio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91560" y="4356000"/>
            <a:ext cx="5486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523960" y="3841920"/>
            <a:ext cx="446760" cy="464040"/>
            <a:chOff x="2523960" y="3841920"/>
            <a:chExt cx="446760" cy="464040"/>
          </a:xfrm>
        </p:grpSpPr>
        <p:sp>
          <p:nvSpPr>
            <p:cNvPr id="445" name=""/>
            <p:cNvSpPr/>
            <p:nvPr/>
          </p:nvSpPr>
          <p:spPr>
            <a:xfrm>
              <a:off x="2523960" y="3879720"/>
              <a:ext cx="41760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90280" y="3841920"/>
              <a:ext cx="280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 flipH="1">
            <a:off x="3022200" y="4152960"/>
            <a:ext cx="1631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343400" y="6039000"/>
            <a:ext cx="311040" cy="6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48320" y="4191120"/>
            <a:ext cx="0" cy="9144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647960" y="403848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647960" y="487692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3022200" y="5067360"/>
            <a:ext cx="1631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562120" y="4794120"/>
            <a:ext cx="439560" cy="502560"/>
            <a:chOff x="2562120" y="4794120"/>
            <a:chExt cx="439560" cy="502560"/>
          </a:xfrm>
        </p:grpSpPr>
        <p:sp>
          <p:nvSpPr>
            <p:cNvPr id="454" name=""/>
            <p:cNvSpPr/>
            <p:nvPr/>
          </p:nvSpPr>
          <p:spPr>
            <a:xfrm>
              <a:off x="2562120" y="4870440"/>
              <a:ext cx="41760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728800" y="4794120"/>
              <a:ext cx="2728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781200" y="150480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a diferencia entre el  P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Arial"/>
              </a:rPr>
              <a:t>XE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es lo que recibe de subsidio el consumidor por unidad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Subsidio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476760" y="144792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29040" y="2876400"/>
            <a:ext cx="3220920" cy="2935440"/>
          </a:xfrm>
          <a:custGeom>
            <a:avLst/>
            <a:gdLst/>
            <a:ahLst/>
            <a:rect l="l" t="t" r="r" b="b"/>
            <a:pathLst>
              <a:path w="2029" h="1849">
                <a:moveTo>
                  <a:pt x="0" y="0"/>
                </a:moveTo>
                <a:lnTo>
                  <a:pt x="0" y="1848"/>
                </a:lnTo>
                <a:lnTo>
                  <a:pt x="2028" y="184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3054240" y="3537000"/>
            <a:ext cx="2482920" cy="178416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73320" y="3625920"/>
            <a:ext cx="2349720" cy="2158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628600" y="3308400"/>
            <a:ext cx="46188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52680" y="5194440"/>
            <a:ext cx="44820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580480" y="2870280"/>
            <a:ext cx="4251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142320" y="5765760"/>
            <a:ext cx="397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009960" y="4552920"/>
            <a:ext cx="1049400" cy="1258920"/>
          </a:xfrm>
          <a:custGeom>
            <a:avLst/>
            <a:gdLst/>
            <a:ahLst/>
            <a:rect l="l" t="t" r="r" b="b"/>
            <a:pathLst>
              <a:path w="661" h="793">
                <a:moveTo>
                  <a:pt x="0" y="0"/>
                </a:moveTo>
                <a:lnTo>
                  <a:pt x="660" y="0"/>
                </a:lnTo>
                <a:lnTo>
                  <a:pt x="660" y="79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824640" y="5803920"/>
            <a:ext cx="5212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491560" y="4356000"/>
            <a:ext cx="5486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2523960" y="3841920"/>
            <a:ext cx="446760" cy="464040"/>
            <a:chOff x="2523960" y="3841920"/>
            <a:chExt cx="446760" cy="464040"/>
          </a:xfrm>
        </p:grpSpPr>
        <p:sp>
          <p:nvSpPr>
            <p:cNvPr id="470" name=""/>
            <p:cNvSpPr/>
            <p:nvPr/>
          </p:nvSpPr>
          <p:spPr>
            <a:xfrm>
              <a:off x="2523960" y="3879720"/>
              <a:ext cx="41760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690280" y="3841920"/>
              <a:ext cx="280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 flipH="1">
            <a:off x="3022200" y="4152960"/>
            <a:ext cx="1631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343400" y="6039000"/>
            <a:ext cx="311040" cy="6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648320" y="4191120"/>
            <a:ext cx="0" cy="9144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647960" y="403848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647960" y="487692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022200" y="5067360"/>
            <a:ext cx="1631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2562120" y="4794120"/>
            <a:ext cx="439560" cy="502560"/>
            <a:chOff x="2562120" y="4794120"/>
            <a:chExt cx="439560" cy="502560"/>
          </a:xfrm>
        </p:grpSpPr>
        <p:sp>
          <p:nvSpPr>
            <p:cNvPr id="479" name=""/>
            <p:cNvSpPr/>
            <p:nvPr/>
          </p:nvSpPr>
          <p:spPr>
            <a:xfrm>
              <a:off x="2562120" y="4870440"/>
              <a:ext cx="41760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728800" y="4794120"/>
              <a:ext cx="2728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3048120" y="4572000"/>
            <a:ext cx="1562040" cy="4953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95800" y="439416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781200" y="150480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a diferencia entre P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y P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es lo que recibe de subsidio el productor por unidad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Subsidio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078880" y="1467000"/>
            <a:ext cx="338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029040" y="2876400"/>
            <a:ext cx="3220920" cy="2935440"/>
          </a:xfrm>
          <a:custGeom>
            <a:avLst/>
            <a:gdLst/>
            <a:ahLst/>
            <a:rect l="l" t="t" r="r" b="b"/>
            <a:pathLst>
              <a:path w="2029" h="1849">
                <a:moveTo>
                  <a:pt x="0" y="0"/>
                </a:moveTo>
                <a:lnTo>
                  <a:pt x="0" y="1848"/>
                </a:lnTo>
                <a:lnTo>
                  <a:pt x="2028" y="184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054240" y="3537000"/>
            <a:ext cx="2482920" cy="178416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073320" y="3625920"/>
            <a:ext cx="2349720" cy="2158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28600" y="3308400"/>
            <a:ext cx="46188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52680" y="5194440"/>
            <a:ext cx="44820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80480" y="2870280"/>
            <a:ext cx="4251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42320" y="5765760"/>
            <a:ext cx="397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009960" y="4552920"/>
            <a:ext cx="1049400" cy="1258920"/>
          </a:xfrm>
          <a:custGeom>
            <a:avLst/>
            <a:gdLst/>
            <a:ahLst/>
            <a:rect l="l" t="t" r="r" b="b"/>
            <a:pathLst>
              <a:path w="661" h="793">
                <a:moveTo>
                  <a:pt x="0" y="0"/>
                </a:moveTo>
                <a:lnTo>
                  <a:pt x="660" y="0"/>
                </a:lnTo>
                <a:lnTo>
                  <a:pt x="660" y="79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824640" y="5803920"/>
            <a:ext cx="5212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2523960" y="3841920"/>
            <a:ext cx="446760" cy="464040"/>
            <a:chOff x="2523960" y="3841920"/>
            <a:chExt cx="446760" cy="464040"/>
          </a:xfrm>
        </p:grpSpPr>
        <p:sp>
          <p:nvSpPr>
            <p:cNvPr id="496" name=""/>
            <p:cNvSpPr/>
            <p:nvPr/>
          </p:nvSpPr>
          <p:spPr>
            <a:xfrm>
              <a:off x="2523960" y="3879720"/>
              <a:ext cx="41760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690280" y="3841920"/>
              <a:ext cx="280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 flipH="1">
            <a:off x="3022200" y="4152960"/>
            <a:ext cx="1631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343400" y="6039000"/>
            <a:ext cx="311040" cy="6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648320" y="4191120"/>
            <a:ext cx="0" cy="9144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647960" y="403848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647960" y="487692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3022200" y="5067360"/>
            <a:ext cx="1631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2562120" y="4794120"/>
            <a:ext cx="439560" cy="502560"/>
            <a:chOff x="2562120" y="4794120"/>
            <a:chExt cx="439560" cy="502560"/>
          </a:xfrm>
        </p:grpSpPr>
        <p:sp>
          <p:nvSpPr>
            <p:cNvPr id="505" name=""/>
            <p:cNvSpPr/>
            <p:nvPr/>
          </p:nvSpPr>
          <p:spPr>
            <a:xfrm>
              <a:off x="2562120" y="4870440"/>
              <a:ext cx="41760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728800" y="4794120"/>
              <a:ext cx="2728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3029040" y="4152960"/>
            <a:ext cx="1600200" cy="457200"/>
          </a:xfrm>
          <a:prstGeom prst="rect">
            <a:avLst/>
          </a:prstGeom>
          <a:solidFill>
            <a:srgbClr val="6e004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95800" y="439416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491560" y="4356000"/>
            <a:ext cx="5486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"/>
          <p:cNvGrpSpPr/>
          <p:nvPr/>
        </p:nvGrpSpPr>
        <p:grpSpPr>
          <a:xfrm>
            <a:off x="3033720" y="4202280"/>
            <a:ext cx="1641600" cy="858240"/>
            <a:chOff x="3033720" y="4202280"/>
            <a:chExt cx="1641600" cy="858240"/>
          </a:xfrm>
        </p:grpSpPr>
        <p:sp>
          <p:nvSpPr>
            <p:cNvPr id="511" name=""/>
            <p:cNvSpPr/>
            <p:nvPr/>
          </p:nvSpPr>
          <p:spPr>
            <a:xfrm>
              <a:off x="3036960" y="4202280"/>
              <a:ext cx="1638360" cy="410760"/>
            </a:xfrm>
            <a:prstGeom prst="rect">
              <a:avLst/>
            </a:prstGeom>
            <a:solidFill>
              <a:srgbClr val="6e004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033720" y="4605840"/>
              <a:ext cx="1638360" cy="4546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3029040" y="2952720"/>
            <a:ext cx="3220920" cy="2935440"/>
          </a:xfrm>
          <a:custGeom>
            <a:avLst/>
            <a:gdLst/>
            <a:ahLst/>
            <a:rect l="l" t="t" r="r" b="b"/>
            <a:pathLst>
              <a:path w="2029" h="1849">
                <a:moveTo>
                  <a:pt x="0" y="0"/>
                </a:moveTo>
                <a:lnTo>
                  <a:pt x="0" y="1848"/>
                </a:lnTo>
                <a:lnTo>
                  <a:pt x="2028" y="184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3054240" y="3613320"/>
            <a:ext cx="2482920" cy="178416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73320" y="3701880"/>
            <a:ext cx="2349720" cy="21592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628600" y="3384720"/>
            <a:ext cx="46188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152680" y="5270400"/>
            <a:ext cx="44820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580480" y="2946240"/>
            <a:ext cx="4251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142320" y="5842080"/>
            <a:ext cx="397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009960" y="4629240"/>
            <a:ext cx="1049400" cy="1258920"/>
          </a:xfrm>
          <a:custGeom>
            <a:avLst/>
            <a:gdLst/>
            <a:ahLst/>
            <a:rect l="l" t="t" r="r" b="b"/>
            <a:pathLst>
              <a:path w="661" h="793">
                <a:moveTo>
                  <a:pt x="0" y="0"/>
                </a:moveTo>
                <a:lnTo>
                  <a:pt x="660" y="0"/>
                </a:lnTo>
                <a:lnTo>
                  <a:pt x="660" y="79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824640" y="5880240"/>
            <a:ext cx="5212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195800" y="447048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61520" y="1380600"/>
            <a:ext cx="8115480" cy="118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desembolso que realiza el Estado para financiar subsidio está dado por el rectángulo P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 C </a:t>
            </a: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804960" y="371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Subsidio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491560" y="4356000"/>
            <a:ext cx="5486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586040" y="237636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81960" y="2344680"/>
            <a:ext cx="338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2523960" y="3841920"/>
            <a:ext cx="446760" cy="464040"/>
            <a:chOff x="2523960" y="3841920"/>
            <a:chExt cx="446760" cy="464040"/>
          </a:xfrm>
        </p:grpSpPr>
        <p:sp>
          <p:nvSpPr>
            <p:cNvPr id="529" name=""/>
            <p:cNvSpPr/>
            <p:nvPr/>
          </p:nvSpPr>
          <p:spPr>
            <a:xfrm>
              <a:off x="2523960" y="3879720"/>
              <a:ext cx="41760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690280" y="3841920"/>
              <a:ext cx="280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2523960" y="4775040"/>
            <a:ext cx="439560" cy="502560"/>
            <a:chOff x="2523960" y="4775040"/>
            <a:chExt cx="439560" cy="502560"/>
          </a:xfrm>
        </p:grpSpPr>
        <p:sp>
          <p:nvSpPr>
            <p:cNvPr id="532" name=""/>
            <p:cNvSpPr/>
            <p:nvPr/>
          </p:nvSpPr>
          <p:spPr>
            <a:xfrm>
              <a:off x="2523960" y="4851360"/>
              <a:ext cx="41760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690640" y="4775040"/>
              <a:ext cx="2728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 flipH="1">
            <a:off x="3001680" y="4191120"/>
            <a:ext cx="1703160" cy="4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647960" y="403848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647960" y="487692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3022200" y="5067360"/>
            <a:ext cx="1631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648320" y="4191120"/>
            <a:ext cx="0" cy="9144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343400" y="6039000"/>
            <a:ext cx="311040" cy="6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IMPUESTOS Y SUBSIDIO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ra forma que tiene la autoridad económica de intervenir los mercados es a través de la fijación 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441972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ID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380988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UES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3029040" y="2933640"/>
            <a:ext cx="3220920" cy="2935440"/>
          </a:xfrm>
          <a:custGeom>
            <a:avLst/>
            <a:gdLst/>
            <a:ahLst/>
            <a:rect l="l" t="t" r="r" b="b"/>
            <a:pathLst>
              <a:path w="2029" h="1849">
                <a:moveTo>
                  <a:pt x="0" y="0"/>
                </a:moveTo>
                <a:lnTo>
                  <a:pt x="0" y="1848"/>
                </a:lnTo>
                <a:lnTo>
                  <a:pt x="2028" y="184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3054240" y="3594240"/>
            <a:ext cx="2482920" cy="178416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73320" y="3683160"/>
            <a:ext cx="2349720" cy="2158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628600" y="3365640"/>
            <a:ext cx="46188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152680" y="5251320"/>
            <a:ext cx="44820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580480" y="2927520"/>
            <a:ext cx="4251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42320" y="5823000"/>
            <a:ext cx="397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009960" y="4610160"/>
            <a:ext cx="1049400" cy="1258920"/>
          </a:xfrm>
          <a:custGeom>
            <a:avLst/>
            <a:gdLst/>
            <a:ahLst/>
            <a:rect l="l" t="t" r="r" b="b"/>
            <a:pathLst>
              <a:path w="661" h="793">
                <a:moveTo>
                  <a:pt x="0" y="0"/>
                </a:moveTo>
                <a:lnTo>
                  <a:pt x="660" y="0"/>
                </a:lnTo>
                <a:lnTo>
                  <a:pt x="660" y="79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491560" y="4356000"/>
            <a:ext cx="5486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824640" y="5861160"/>
            <a:ext cx="5212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342720" y="1447560"/>
            <a:ext cx="83437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triángul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E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s conocido com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érdida de Bienest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ya que el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s lo que pierde como excedente el productor y el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s lo que pierde como excedente el consumid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Subsidio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159080" y="1911240"/>
            <a:ext cx="158760" cy="21600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597560" y="2273400"/>
            <a:ext cx="158760" cy="21564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7760" y="4610160"/>
            <a:ext cx="4446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4114800" y="4267080"/>
            <a:ext cx="533160" cy="909720"/>
            <a:chOff x="4114800" y="4267080"/>
            <a:chExt cx="533160" cy="909720"/>
          </a:xfrm>
        </p:grpSpPr>
        <p:sp>
          <p:nvSpPr>
            <p:cNvPr id="556" name=""/>
            <p:cNvSpPr/>
            <p:nvPr/>
          </p:nvSpPr>
          <p:spPr>
            <a:xfrm>
              <a:off x="4114800" y="4673520"/>
              <a:ext cx="506520" cy="458640"/>
            </a:xfrm>
            <a:custGeom>
              <a:avLst/>
              <a:gdLst/>
              <a:ahLst/>
              <a:rect l="l" t="t" r="r" b="b"/>
              <a:pathLst>
                <a:path w="337" h="289">
                  <a:moveTo>
                    <a:pt x="0" y="0"/>
                  </a:moveTo>
                  <a:lnTo>
                    <a:pt x="336" y="0"/>
                  </a:lnTo>
                  <a:lnTo>
                    <a:pt x="336" y="288"/>
                  </a:lnTo>
                  <a:lnTo>
                    <a:pt x="0" y="0"/>
                  </a:lnTo>
                </a:path>
              </a:pathLst>
            </a:custGeom>
            <a:solidFill>
              <a:srgbClr val="dc0081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114800" y="4292280"/>
              <a:ext cx="506520" cy="382680"/>
            </a:xfrm>
            <a:custGeom>
              <a:avLst/>
              <a:gdLst/>
              <a:ahLst/>
              <a:rect l="l" t="t" r="r" b="b"/>
              <a:pathLst>
                <a:path w="337" h="241">
                  <a:moveTo>
                    <a:pt x="0" y="240"/>
                  </a:moveTo>
                  <a:lnTo>
                    <a:pt x="336" y="240"/>
                  </a:lnTo>
                  <a:lnTo>
                    <a:pt x="336" y="0"/>
                  </a:lnTo>
                  <a:lnTo>
                    <a:pt x="0" y="240"/>
                  </a:lnTo>
                </a:path>
              </a:pathLst>
            </a:custGeom>
            <a:solidFill>
              <a:srgbClr val="6e0043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637880" y="4267080"/>
              <a:ext cx="10080" cy="909720"/>
            </a:xfrm>
            <a:prstGeom prst="line">
              <a:avLst/>
            </a:prstGeom>
            <a:ln w="25560">
              <a:solidFill>
                <a:srgbClr val="ef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4462200" y="378468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627440" y="490212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43400" y="6089760"/>
            <a:ext cx="291960" cy="6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654440" y="5181480"/>
            <a:ext cx="11520" cy="67176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2523960" y="3841920"/>
            <a:ext cx="446760" cy="464040"/>
            <a:chOff x="2523960" y="3841920"/>
            <a:chExt cx="446760" cy="464040"/>
          </a:xfrm>
        </p:grpSpPr>
        <p:sp>
          <p:nvSpPr>
            <p:cNvPr id="564" name=""/>
            <p:cNvSpPr/>
            <p:nvPr/>
          </p:nvSpPr>
          <p:spPr>
            <a:xfrm>
              <a:off x="2523960" y="3879720"/>
              <a:ext cx="41760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690280" y="3841920"/>
              <a:ext cx="280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2523960" y="4775040"/>
            <a:ext cx="439560" cy="502560"/>
            <a:chOff x="2523960" y="4775040"/>
            <a:chExt cx="439560" cy="502560"/>
          </a:xfrm>
        </p:grpSpPr>
        <p:sp>
          <p:nvSpPr>
            <p:cNvPr id="567" name=""/>
            <p:cNvSpPr/>
            <p:nvPr/>
          </p:nvSpPr>
          <p:spPr>
            <a:xfrm>
              <a:off x="2523960" y="4851360"/>
              <a:ext cx="41760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690640" y="4775040"/>
              <a:ext cx="2728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 flipH="1">
            <a:off x="3020760" y="5173560"/>
            <a:ext cx="1631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3000240" y="4195800"/>
            <a:ext cx="1632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647960" y="439416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114800" y="4648320"/>
            <a:ext cx="5205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648320" y="4267080"/>
            <a:ext cx="0" cy="9144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4343400" y="4343400"/>
            <a:ext cx="380880" cy="611640"/>
            <a:chOff x="4343400" y="4343400"/>
            <a:chExt cx="380880" cy="611640"/>
          </a:xfrm>
        </p:grpSpPr>
        <p:sp>
          <p:nvSpPr>
            <p:cNvPr id="575" name=""/>
            <p:cNvSpPr/>
            <p:nvPr/>
          </p:nvSpPr>
          <p:spPr>
            <a:xfrm>
              <a:off x="4343400" y="43434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381560" y="464796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4095720" y="445788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IMPUESTO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o obligatorio de dinero que exige el Estado a los individuos y empresas que están sujetos a una contra presentación directa, con el fin de financiar los gastos propios de la administración del Estado y la provisión de bienes y servicios de carácter públ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029040" y="2876400"/>
            <a:ext cx="3220920" cy="2935440"/>
          </a:xfrm>
          <a:custGeom>
            <a:avLst/>
            <a:gdLst/>
            <a:ahLst/>
            <a:rect l="l" t="t" r="r" b="b"/>
            <a:pathLst>
              <a:path w="2029" h="1849">
                <a:moveTo>
                  <a:pt x="0" y="0"/>
                </a:moveTo>
                <a:lnTo>
                  <a:pt x="0" y="1848"/>
                </a:lnTo>
                <a:lnTo>
                  <a:pt x="2028" y="184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054240" y="3537000"/>
            <a:ext cx="2482920" cy="178416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73320" y="3625920"/>
            <a:ext cx="2349720" cy="2158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28600" y="3308400"/>
            <a:ext cx="46188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52680" y="5194440"/>
            <a:ext cx="44820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80480" y="2870280"/>
            <a:ext cx="4251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42320" y="5765760"/>
            <a:ext cx="397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09960" y="4552920"/>
            <a:ext cx="1049400" cy="1258920"/>
          </a:xfrm>
          <a:custGeom>
            <a:avLst/>
            <a:gdLst/>
            <a:ahLst/>
            <a:rect l="l" t="t" r="r" b="b"/>
            <a:pathLst>
              <a:path w="661" h="793">
                <a:moveTo>
                  <a:pt x="0" y="0"/>
                </a:moveTo>
                <a:lnTo>
                  <a:pt x="660" y="0"/>
                </a:lnTo>
                <a:lnTo>
                  <a:pt x="660" y="79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62200" y="4127400"/>
            <a:ext cx="0" cy="793800"/>
          </a:xfrm>
          <a:prstGeom prst="line">
            <a:avLst/>
          </a:prstGeom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19600" y="5803920"/>
            <a:ext cx="4222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47800" y="374652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66880" y="488952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95800" y="439416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81200" y="150480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el Estado fija un impuesto de la magnitud AC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Impuesto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91560" y="4356000"/>
            <a:ext cx="5486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029040" y="2876400"/>
            <a:ext cx="3220920" cy="2935440"/>
          </a:xfrm>
          <a:custGeom>
            <a:avLst/>
            <a:gdLst/>
            <a:ahLst/>
            <a:rect l="l" t="t" r="r" b="b"/>
            <a:pathLst>
              <a:path w="2029" h="1849">
                <a:moveTo>
                  <a:pt x="0" y="0"/>
                </a:moveTo>
                <a:lnTo>
                  <a:pt x="0" y="1848"/>
                </a:lnTo>
                <a:lnTo>
                  <a:pt x="2028" y="184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054240" y="3537000"/>
            <a:ext cx="2482920" cy="178416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73320" y="3625920"/>
            <a:ext cx="2349720" cy="2158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28600" y="3308400"/>
            <a:ext cx="46188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52680" y="5194440"/>
            <a:ext cx="44820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80480" y="2870280"/>
            <a:ext cx="4251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42320" y="5765760"/>
            <a:ext cx="397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09960" y="4552920"/>
            <a:ext cx="1049400" cy="1258920"/>
          </a:xfrm>
          <a:custGeom>
            <a:avLst/>
            <a:gdLst/>
            <a:ahLst/>
            <a:rect l="l" t="t" r="r" b="b"/>
            <a:pathLst>
              <a:path w="661" h="793">
                <a:moveTo>
                  <a:pt x="0" y="0"/>
                </a:moveTo>
                <a:lnTo>
                  <a:pt x="660" y="0"/>
                </a:lnTo>
                <a:lnTo>
                  <a:pt x="660" y="79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19600" y="5803920"/>
            <a:ext cx="4222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62200" y="4127400"/>
            <a:ext cx="0" cy="793800"/>
          </a:xfrm>
          <a:prstGeom prst="line">
            <a:avLst/>
          </a:prstGeom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35160" y="4095720"/>
            <a:ext cx="540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47800" y="374652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66880" y="488952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95800" y="439416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37760" y="1504800"/>
            <a:ext cx="811548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precio que cancelan los consumidores es P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Impuesto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581200" y="3860640"/>
            <a:ext cx="439560" cy="502560"/>
            <a:chOff x="2581200" y="3860640"/>
            <a:chExt cx="439560" cy="502560"/>
          </a:xfrm>
        </p:grpSpPr>
        <p:sp>
          <p:nvSpPr>
            <p:cNvPr id="195" name=""/>
            <p:cNvSpPr/>
            <p:nvPr/>
          </p:nvSpPr>
          <p:spPr>
            <a:xfrm>
              <a:off x="2581200" y="3936960"/>
              <a:ext cx="41760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47880" y="3860640"/>
              <a:ext cx="2728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2491560" y="4356000"/>
            <a:ext cx="5486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23960" y="198108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029040" y="2876400"/>
            <a:ext cx="3220920" cy="2935440"/>
          </a:xfrm>
          <a:custGeom>
            <a:avLst/>
            <a:gdLst/>
            <a:ahLst/>
            <a:rect l="l" t="t" r="r" b="b"/>
            <a:pathLst>
              <a:path w="2029" h="1849">
                <a:moveTo>
                  <a:pt x="0" y="0"/>
                </a:moveTo>
                <a:lnTo>
                  <a:pt x="0" y="1848"/>
                </a:lnTo>
                <a:lnTo>
                  <a:pt x="2028" y="184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054240" y="3537000"/>
            <a:ext cx="2482920" cy="178416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73320" y="3625920"/>
            <a:ext cx="2349720" cy="2158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28600" y="3308400"/>
            <a:ext cx="46188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52680" y="5194440"/>
            <a:ext cx="44820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80480" y="2870280"/>
            <a:ext cx="4251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42320" y="5765760"/>
            <a:ext cx="397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09960" y="4552920"/>
            <a:ext cx="1049400" cy="1258920"/>
          </a:xfrm>
          <a:custGeom>
            <a:avLst/>
            <a:gdLst/>
            <a:ahLst/>
            <a:rect l="l" t="t" r="r" b="b"/>
            <a:pathLst>
              <a:path w="661" h="793">
                <a:moveTo>
                  <a:pt x="0" y="0"/>
                </a:moveTo>
                <a:lnTo>
                  <a:pt x="660" y="0"/>
                </a:lnTo>
                <a:lnTo>
                  <a:pt x="660" y="79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19600" y="5803920"/>
            <a:ext cx="4222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62200" y="4127400"/>
            <a:ext cx="0" cy="793800"/>
          </a:xfrm>
          <a:prstGeom prst="line">
            <a:avLst/>
          </a:prstGeom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35160" y="4095720"/>
            <a:ext cx="540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8120" y="4933800"/>
            <a:ext cx="52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47800" y="374652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66880" y="488952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95800" y="439416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781200" y="150480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precio que reciben los productores es P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Impuesto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581200" y="3860640"/>
            <a:ext cx="439560" cy="502560"/>
            <a:chOff x="2581200" y="3860640"/>
            <a:chExt cx="439560" cy="502560"/>
          </a:xfrm>
        </p:grpSpPr>
        <p:sp>
          <p:nvSpPr>
            <p:cNvPr id="217" name=""/>
            <p:cNvSpPr/>
            <p:nvPr/>
          </p:nvSpPr>
          <p:spPr>
            <a:xfrm>
              <a:off x="2581200" y="3936960"/>
              <a:ext cx="41760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47880" y="3860640"/>
              <a:ext cx="2728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491560" y="4356000"/>
            <a:ext cx="5486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562120" y="4756320"/>
            <a:ext cx="446760" cy="464040"/>
            <a:chOff x="2562120" y="4756320"/>
            <a:chExt cx="446760" cy="464040"/>
          </a:xfrm>
        </p:grpSpPr>
        <p:sp>
          <p:nvSpPr>
            <p:cNvPr id="221" name=""/>
            <p:cNvSpPr/>
            <p:nvPr/>
          </p:nvSpPr>
          <p:spPr>
            <a:xfrm>
              <a:off x="2562120" y="4794120"/>
              <a:ext cx="41760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28440" y="4756320"/>
              <a:ext cx="280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1410480" y="1962000"/>
            <a:ext cx="338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029040" y="2876400"/>
            <a:ext cx="3220920" cy="2935440"/>
          </a:xfrm>
          <a:custGeom>
            <a:avLst/>
            <a:gdLst/>
            <a:ahLst/>
            <a:rect l="l" t="t" r="r" b="b"/>
            <a:pathLst>
              <a:path w="2029" h="1849">
                <a:moveTo>
                  <a:pt x="0" y="0"/>
                </a:moveTo>
                <a:lnTo>
                  <a:pt x="0" y="1848"/>
                </a:lnTo>
                <a:lnTo>
                  <a:pt x="2028" y="184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054240" y="3537000"/>
            <a:ext cx="2482920" cy="178416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73320" y="3625920"/>
            <a:ext cx="2349720" cy="2158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8600" y="3308400"/>
            <a:ext cx="46188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52680" y="5194440"/>
            <a:ext cx="44820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80480" y="2870280"/>
            <a:ext cx="4251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42320" y="5765760"/>
            <a:ext cx="397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09960" y="4552920"/>
            <a:ext cx="1049400" cy="1258920"/>
          </a:xfrm>
          <a:custGeom>
            <a:avLst/>
            <a:gdLst/>
            <a:ahLst/>
            <a:rect l="l" t="t" r="r" b="b"/>
            <a:pathLst>
              <a:path w="661" h="793">
                <a:moveTo>
                  <a:pt x="0" y="0"/>
                </a:moveTo>
                <a:lnTo>
                  <a:pt x="660" y="0"/>
                </a:lnTo>
                <a:lnTo>
                  <a:pt x="660" y="79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19600" y="5803920"/>
            <a:ext cx="4222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62200" y="4127400"/>
            <a:ext cx="0" cy="793800"/>
          </a:xfrm>
          <a:prstGeom prst="line">
            <a:avLst/>
          </a:prstGeom>
          <a:ln w="381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35160" y="4095720"/>
            <a:ext cx="540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54240" y="4933800"/>
            <a:ext cx="520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80920" y="60199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47800" y="374652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66880" y="488952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95800" y="439416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781200" y="150480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a nueva cantidad tranzada es meno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Impuesto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581200" y="3860640"/>
            <a:ext cx="439560" cy="502560"/>
            <a:chOff x="2581200" y="3860640"/>
            <a:chExt cx="439560" cy="502560"/>
          </a:xfrm>
        </p:grpSpPr>
        <p:sp>
          <p:nvSpPr>
            <p:cNvPr id="243" name=""/>
            <p:cNvSpPr/>
            <p:nvPr/>
          </p:nvSpPr>
          <p:spPr>
            <a:xfrm>
              <a:off x="2581200" y="3936960"/>
              <a:ext cx="41760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47880" y="3860640"/>
              <a:ext cx="2728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2491560" y="4356000"/>
            <a:ext cx="5486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562120" y="4756320"/>
            <a:ext cx="446760" cy="464040"/>
            <a:chOff x="2562120" y="4756320"/>
            <a:chExt cx="446760" cy="464040"/>
          </a:xfrm>
        </p:grpSpPr>
        <p:sp>
          <p:nvSpPr>
            <p:cNvPr id="247" name=""/>
            <p:cNvSpPr/>
            <p:nvPr/>
          </p:nvSpPr>
          <p:spPr>
            <a:xfrm>
              <a:off x="2562120" y="4794120"/>
              <a:ext cx="41760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28440" y="4756320"/>
              <a:ext cx="280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781200" y="150480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a diferencia entre el P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y P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es lo que cancela de impuesto el consumidor por unidad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114800"/>
            <a:ext cx="520560" cy="4446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Impuesto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91000" y="150480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29040" y="2876400"/>
            <a:ext cx="3220920" cy="2935440"/>
          </a:xfrm>
          <a:custGeom>
            <a:avLst/>
            <a:gdLst/>
            <a:ahLst/>
            <a:rect l="l" t="t" r="r" b="b"/>
            <a:pathLst>
              <a:path w="2029" h="1849">
                <a:moveTo>
                  <a:pt x="0" y="0"/>
                </a:moveTo>
                <a:lnTo>
                  <a:pt x="0" y="1848"/>
                </a:lnTo>
                <a:lnTo>
                  <a:pt x="2028" y="184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054240" y="3537000"/>
            <a:ext cx="2482920" cy="178416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73320" y="3625920"/>
            <a:ext cx="2349720" cy="2158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28600" y="3308400"/>
            <a:ext cx="46188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52680" y="5194440"/>
            <a:ext cx="44820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80480" y="2870280"/>
            <a:ext cx="4251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42320" y="5765760"/>
            <a:ext cx="397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09960" y="4552920"/>
            <a:ext cx="1049400" cy="1258920"/>
          </a:xfrm>
          <a:custGeom>
            <a:avLst/>
            <a:gdLst/>
            <a:ahLst/>
            <a:rect l="l" t="t" r="r" b="b"/>
            <a:pathLst>
              <a:path w="661" h="793">
                <a:moveTo>
                  <a:pt x="0" y="0"/>
                </a:moveTo>
                <a:lnTo>
                  <a:pt x="660" y="0"/>
                </a:lnTo>
                <a:lnTo>
                  <a:pt x="660" y="79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19600" y="5803920"/>
            <a:ext cx="4222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62200" y="4127400"/>
            <a:ext cx="0" cy="793800"/>
          </a:xfrm>
          <a:prstGeom prst="line">
            <a:avLst/>
          </a:prstGeom>
          <a:ln w="381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35160" y="4095720"/>
            <a:ext cx="540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54240" y="4933800"/>
            <a:ext cx="520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580920" y="60199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47800" y="374652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66880" y="488952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95800" y="439416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581200" y="3860640"/>
            <a:ext cx="439560" cy="502560"/>
            <a:chOff x="2581200" y="3860640"/>
            <a:chExt cx="439560" cy="502560"/>
          </a:xfrm>
        </p:grpSpPr>
        <p:sp>
          <p:nvSpPr>
            <p:cNvPr id="270" name=""/>
            <p:cNvSpPr/>
            <p:nvPr/>
          </p:nvSpPr>
          <p:spPr>
            <a:xfrm>
              <a:off x="2581200" y="3936960"/>
              <a:ext cx="41760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47880" y="3860640"/>
              <a:ext cx="2728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491560" y="4356000"/>
            <a:ext cx="5486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562120" y="4756320"/>
            <a:ext cx="446760" cy="464040"/>
            <a:chOff x="2562120" y="4756320"/>
            <a:chExt cx="446760" cy="464040"/>
          </a:xfrm>
        </p:grpSpPr>
        <p:sp>
          <p:nvSpPr>
            <p:cNvPr id="274" name=""/>
            <p:cNvSpPr/>
            <p:nvPr/>
          </p:nvSpPr>
          <p:spPr>
            <a:xfrm>
              <a:off x="2562120" y="4794120"/>
              <a:ext cx="41760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28440" y="4756320"/>
              <a:ext cx="280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781200" y="150480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a diferencia entre el P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y P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es lo que cancela de impuesto el productor por unidad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Impuesto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48120" y="4572000"/>
            <a:ext cx="520560" cy="387360"/>
          </a:xfrm>
          <a:prstGeom prst="rect">
            <a:avLst/>
          </a:prstGeom>
          <a:solidFill>
            <a:srgbClr val="6e004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39680" y="1504800"/>
            <a:ext cx="338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29040" y="2876400"/>
            <a:ext cx="3220920" cy="2935440"/>
          </a:xfrm>
          <a:custGeom>
            <a:avLst/>
            <a:gdLst/>
            <a:ahLst/>
            <a:rect l="l" t="t" r="r" b="b"/>
            <a:pathLst>
              <a:path w="2029" h="1849">
                <a:moveTo>
                  <a:pt x="0" y="0"/>
                </a:moveTo>
                <a:lnTo>
                  <a:pt x="0" y="1848"/>
                </a:lnTo>
                <a:lnTo>
                  <a:pt x="2028" y="184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054240" y="3537000"/>
            <a:ext cx="2482920" cy="178416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3320" y="3625920"/>
            <a:ext cx="2349720" cy="2158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28600" y="3308400"/>
            <a:ext cx="46188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52680" y="5194440"/>
            <a:ext cx="44820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80480" y="2870280"/>
            <a:ext cx="4251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142320" y="5765760"/>
            <a:ext cx="397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09960" y="4552920"/>
            <a:ext cx="1049400" cy="1258920"/>
          </a:xfrm>
          <a:custGeom>
            <a:avLst/>
            <a:gdLst/>
            <a:ahLst/>
            <a:rect l="l" t="t" r="r" b="b"/>
            <a:pathLst>
              <a:path w="661" h="793">
                <a:moveTo>
                  <a:pt x="0" y="0"/>
                </a:moveTo>
                <a:lnTo>
                  <a:pt x="660" y="0"/>
                </a:lnTo>
                <a:lnTo>
                  <a:pt x="660" y="79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19600" y="5803920"/>
            <a:ext cx="4222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62200" y="4127400"/>
            <a:ext cx="0" cy="793800"/>
          </a:xfrm>
          <a:prstGeom prst="line">
            <a:avLst/>
          </a:prstGeom>
          <a:ln w="381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35160" y="4095720"/>
            <a:ext cx="540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8120" y="4952880"/>
            <a:ext cx="520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580920" y="60199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47800" y="374652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66880" y="488952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95800" y="439416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581200" y="3860640"/>
            <a:ext cx="439560" cy="502560"/>
            <a:chOff x="2581200" y="3860640"/>
            <a:chExt cx="439560" cy="502560"/>
          </a:xfrm>
        </p:grpSpPr>
        <p:sp>
          <p:nvSpPr>
            <p:cNvPr id="297" name=""/>
            <p:cNvSpPr/>
            <p:nvPr/>
          </p:nvSpPr>
          <p:spPr>
            <a:xfrm>
              <a:off x="2581200" y="3936960"/>
              <a:ext cx="41760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47880" y="3860640"/>
              <a:ext cx="2728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491560" y="4356000"/>
            <a:ext cx="5486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2562120" y="4756320"/>
            <a:ext cx="446760" cy="464040"/>
            <a:chOff x="2562120" y="4756320"/>
            <a:chExt cx="446760" cy="464040"/>
          </a:xfrm>
        </p:grpSpPr>
        <p:sp>
          <p:nvSpPr>
            <p:cNvPr id="301" name=""/>
            <p:cNvSpPr/>
            <p:nvPr/>
          </p:nvSpPr>
          <p:spPr>
            <a:xfrm>
              <a:off x="2562120" y="4794120"/>
              <a:ext cx="41760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s-ES_tradnl" sz="18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28440" y="4756320"/>
              <a:ext cx="280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3T19:03:08Z</dcterms:created>
  <dc:creator/>
  <dc:description/>
  <dc:language>en-US</dc:language>
  <cp:lastModifiedBy>Laboratorio de Computación</cp:lastModifiedBy>
  <dcterms:modified xsi:type="dcterms:W3CDTF">1997-11-04T22:21:48Z</dcterms:modified>
  <cp:revision>22</cp:revision>
  <dc:subject/>
  <dc:title>IMPUESTOS Y SUBSIDIOS</dc:title>
</cp:coreProperties>
</file>