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76320" y="298440"/>
                  <a:ext cx="1085760" cy="95400"/>
                  <a:chOff x="76320" y="298440"/>
                  <a:chExt cx="1085760" cy="954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632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61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77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788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80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96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7640"/>
                  <a:chOff x="69840" y="509760"/>
                  <a:chExt cx="1098720" cy="10764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7640"/>
                  <a:chOff x="7927920" y="5961240"/>
                  <a:chExt cx="1096920" cy="107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63680" y="482760"/>
              <a:ext cx="8216640" cy="5892480"/>
            </a:xfrm>
            <a:prstGeom prst="rect">
              <a:avLst/>
            </a:prstGeom>
            <a:solidFill>
              <a:srgbClr val="3e67bd"/>
            </a:solidFill>
            <a:ln w="12600">
              <a:solidFill>
                <a:srgbClr val="86a0d7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19320" y="1159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7920" y="646740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DRO VALDES VEL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066680" y="2133720"/>
            <a:ext cx="8077320" cy="26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EQUILIBRI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395440" y="1428840"/>
            <a:ext cx="4954680" cy="3930480"/>
          </a:xfrm>
          <a:custGeom>
            <a:avLst/>
            <a:gdLst/>
            <a:ahLst/>
            <a:rect l="l" t="t" r="r" b="b"/>
            <a:pathLst>
              <a:path w="3121" h="2476">
                <a:moveTo>
                  <a:pt x="0" y="0"/>
                </a:moveTo>
                <a:lnTo>
                  <a:pt x="0" y="2475"/>
                </a:lnTo>
                <a:lnTo>
                  <a:pt x="3120" y="247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8680" y="128124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31040" y="524340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411280" y="2031480"/>
            <a:ext cx="3759480" cy="3327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44760" y="1873080"/>
            <a:ext cx="3497400" cy="3511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64000" y="181440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79280" y="4710240"/>
            <a:ext cx="500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3920" y="3414600"/>
            <a:ext cx="60048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s-ES_tradnl" sz="2400" spc="-1" strike="noStrike" baseline="-25000">
                <a:solidFill>
                  <a:srgbClr val="fafd00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63600" y="5396040"/>
            <a:ext cx="58356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afd00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81640" y="3490920"/>
            <a:ext cx="384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733920"/>
            <a:ext cx="1830600" cy="1677960"/>
          </a:xfrm>
          <a:custGeom>
            <a:avLst/>
            <a:gdLst/>
            <a:ahLst/>
            <a:rect l="l" t="t" r="r" b="b"/>
            <a:pathLst>
              <a:path w="1153" h="1057">
                <a:moveTo>
                  <a:pt x="0" y="0"/>
                </a:moveTo>
                <a:lnTo>
                  <a:pt x="1152" y="0"/>
                </a:lnTo>
                <a:lnTo>
                  <a:pt x="1152" y="1056"/>
                </a:lnTo>
              </a:path>
            </a:pathLst>
          </a:custGeom>
          <a:noFill/>
          <a:ln cap="rnd" w="38160">
            <a:solidFill>
              <a:srgbClr val="fafd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UNTO DE EQUILIBRI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define el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Equilibri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uando consumidores y productores se ponen de acuerdo en transar una determinada cantidad de un bien o servicio a un mismo pre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533520" y="425520"/>
          <a:ext cx="8096040" cy="58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25520"/>
                    <a:ext cx="8096040" cy="58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que el equilibrio sea estable, la igualdad alcanzada implica ausencia de cualquier tendencia a posteriores cambios en el prec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742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cio de equilibrio es el que resulta de igualar la cantidad ofrecida (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 con la cantidad demandada (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Precio de Equilibrio</a:t>
            </a:r>
            <a:br>
              <a:rPr sz="4400"/>
            </a:b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(P</a:t>
            </a:r>
            <a:r>
              <a:rPr b="1" lang="es-ES_tradnl" sz="4400" spc="-1" strike="noStrike" baseline="-25000">
                <a:solidFill>
                  <a:srgbClr val="fafd00"/>
                </a:solidFill>
                <a:latin typeface="Times New Roman"/>
              </a:rPr>
              <a:t>xE</a:t>
            </a: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910120" y="3276720"/>
            <a:ext cx="1820160" cy="789480"/>
            <a:chOff x="5910120" y="3276720"/>
            <a:chExt cx="1820160" cy="789480"/>
          </a:xfrm>
        </p:grpSpPr>
        <p:sp>
          <p:nvSpPr>
            <p:cNvPr id="275" name=""/>
            <p:cNvSpPr/>
            <p:nvPr/>
          </p:nvSpPr>
          <p:spPr>
            <a:xfrm>
              <a:off x="7391880" y="327672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10120" y="373392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Cantidad de Equilibrio</a:t>
            </a:r>
            <a:br>
              <a:rPr sz="4400"/>
            </a:b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(q</a:t>
            </a:r>
            <a:r>
              <a:rPr b="1" lang="es-ES_tradnl" sz="4400" spc="-1" strike="noStrike" baseline="-25000">
                <a:solidFill>
                  <a:srgbClr val="fafd00"/>
                </a:solidFill>
                <a:latin typeface="Times New Roman"/>
              </a:rPr>
              <a:t>xE</a:t>
            </a:r>
            <a:r>
              <a:rPr b="1" lang="es-ES_tradnl" sz="4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880" y="2495520"/>
            <a:ext cx="7772400" cy="270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aquella cantidad del bien X, en que el precio que están dispuestos a cancelar los consumidores es el mismo que los  productores están dispuestos a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unto de Equilibrio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(E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2152800"/>
            <a:ext cx="7772400" cy="28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compone por un </a:t>
            </a: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Precio de Equilibrio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una </a:t>
            </a: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Cantidad de Equilibrio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es cuando oferentes y demandantes se ponen de acuerdo en transar una cantidad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 un precio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395440" y="1428840"/>
            <a:ext cx="4954680" cy="3930480"/>
          </a:xfrm>
          <a:custGeom>
            <a:avLst/>
            <a:gdLst/>
            <a:ahLst/>
            <a:rect l="l" t="t" r="r" b="b"/>
            <a:pathLst>
              <a:path w="3121" h="2476">
                <a:moveTo>
                  <a:pt x="0" y="0"/>
                </a:moveTo>
                <a:lnTo>
                  <a:pt x="0" y="2475"/>
                </a:lnTo>
                <a:lnTo>
                  <a:pt x="3120" y="247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68680" y="128124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31040" y="524340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411280" y="2031480"/>
            <a:ext cx="3759480" cy="3327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44760" y="1873080"/>
            <a:ext cx="3497400" cy="3511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64000" y="181440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79280" y="4710240"/>
            <a:ext cx="500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53920" y="3414600"/>
            <a:ext cx="60048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s-ES_tradnl" sz="2400" spc="-1" strike="noStrike" baseline="-25000">
                <a:solidFill>
                  <a:srgbClr val="fafd00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3600" y="5396040"/>
            <a:ext cx="58356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afd00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81640" y="3490920"/>
            <a:ext cx="384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733920"/>
            <a:ext cx="1830600" cy="1677960"/>
          </a:xfrm>
          <a:custGeom>
            <a:avLst/>
            <a:gdLst/>
            <a:ahLst/>
            <a:rect l="l" t="t" r="r" b="b"/>
            <a:pathLst>
              <a:path w="1153" h="1057">
                <a:moveTo>
                  <a:pt x="0" y="0"/>
                </a:moveTo>
                <a:lnTo>
                  <a:pt x="1152" y="0"/>
                </a:lnTo>
                <a:lnTo>
                  <a:pt x="1152" y="1056"/>
                </a:lnTo>
              </a:path>
            </a:pathLst>
          </a:custGeom>
          <a:noFill/>
          <a:ln cap="rnd" w="38160">
            <a:solidFill>
              <a:srgbClr val="fafd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cedente del Consumido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la diferencia entre el precio que está dispuesto a pagar el consumidor y el que finalmente canc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554360" y="1905120"/>
            <a:ext cx="3726000" cy="3332160"/>
          </a:xfrm>
          <a:custGeom>
            <a:avLst/>
            <a:gdLst/>
            <a:ahLst/>
            <a:rect l="l" t="t" r="r" b="b"/>
            <a:pathLst>
              <a:path w="2347" h="2099">
                <a:moveTo>
                  <a:pt x="0" y="0"/>
                </a:moveTo>
                <a:lnTo>
                  <a:pt x="0" y="2098"/>
                </a:lnTo>
                <a:lnTo>
                  <a:pt x="2346" y="209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70520" y="182232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44000" y="513540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9920" y="2370240"/>
            <a:ext cx="2685960" cy="2747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14000" y="3676680"/>
            <a:ext cx="590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92520" y="3882960"/>
            <a:ext cx="1376640" cy="1335240"/>
          </a:xfrm>
          <a:custGeom>
            <a:avLst/>
            <a:gdLst/>
            <a:ahLst/>
            <a:rect l="l" t="t" r="r" b="b"/>
            <a:pathLst>
              <a:path w="867" h="841">
                <a:moveTo>
                  <a:pt x="0" y="0"/>
                </a:moveTo>
                <a:lnTo>
                  <a:pt x="866" y="0"/>
                </a:lnTo>
                <a:lnTo>
                  <a:pt x="866" y="84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72960" y="2398680"/>
            <a:ext cx="500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66000" y="3664080"/>
            <a:ext cx="384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09600" y="5167440"/>
            <a:ext cx="46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2521080"/>
            <a:ext cx="0" cy="2730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76920" y="2673360"/>
            <a:ext cx="0" cy="257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2825640"/>
            <a:ext cx="0" cy="242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8480" y="259092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8480" y="2743200"/>
            <a:ext cx="291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8480" y="2895480"/>
            <a:ext cx="444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82120" y="2309760"/>
            <a:ext cx="410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x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82120" y="2538360"/>
            <a:ext cx="410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x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82120" y="2766960"/>
            <a:ext cx="410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x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16020000">
            <a:off x="4097520" y="3106800"/>
            <a:ext cx="43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117440" y="3711600"/>
            <a:ext cx="2914920" cy="637560"/>
            <a:chOff x="1117440" y="3711600"/>
            <a:chExt cx="2914920" cy="637560"/>
          </a:xfrm>
        </p:grpSpPr>
        <p:sp>
          <p:nvSpPr>
            <p:cNvPr id="314" name=""/>
            <p:cNvSpPr/>
            <p:nvPr/>
          </p:nvSpPr>
          <p:spPr>
            <a:xfrm>
              <a:off x="1117440" y="3711600"/>
              <a:ext cx="225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</a:rPr>
                <a:t>Precio que cancel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ff00"/>
                  </a:solidFill>
                  <a:latin typeface="Arial"/>
                </a:rPr>
                <a:t>realm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9160" y="3816360"/>
              <a:ext cx="673200" cy="216000"/>
            </a:xfrm>
            <a:prstGeom prst="rightArrow">
              <a:avLst>
                <a:gd name="adj1" fmla="val 50000"/>
                <a:gd name="adj2" fmla="val 155847"/>
              </a:avLst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cedente del Consumido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185120" y="2454120"/>
            <a:ext cx="2885400" cy="637560"/>
            <a:chOff x="1185120" y="2454120"/>
            <a:chExt cx="2885400" cy="637560"/>
          </a:xfrm>
        </p:grpSpPr>
        <p:sp>
          <p:nvSpPr>
            <p:cNvPr id="318" name=""/>
            <p:cNvSpPr/>
            <p:nvPr/>
          </p:nvSpPr>
          <p:spPr>
            <a:xfrm>
              <a:off x="1185120" y="2454120"/>
              <a:ext cx="2138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</a:rPr>
                <a:t>Precio que está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</a:rPr>
                <a:t>dispuesto a pag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97320" y="2654280"/>
              <a:ext cx="673200" cy="216000"/>
            </a:xfrm>
            <a:prstGeom prst="rightArrow">
              <a:avLst>
                <a:gd name="adj1" fmla="val 50000"/>
                <a:gd name="adj2" fmla="val 155847"/>
              </a:avLst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cantidades inferiores a q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, el consumidor cancela  un  precio  P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, pero  como está dispuesto a pagar un valor mayor, entonces    el consumidor se ve benefici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4680" y="2666880"/>
            <a:ext cx="3726000" cy="3332160"/>
          </a:xfrm>
          <a:custGeom>
            <a:avLst/>
            <a:gdLst/>
            <a:ahLst/>
            <a:rect l="l" t="t" r="r" b="b"/>
            <a:pathLst>
              <a:path w="2347" h="2099">
                <a:moveTo>
                  <a:pt x="0" y="0"/>
                </a:moveTo>
                <a:lnTo>
                  <a:pt x="0" y="2098"/>
                </a:lnTo>
                <a:lnTo>
                  <a:pt x="2346" y="209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60840" y="258444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34320" y="589752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70240" y="3132000"/>
            <a:ext cx="2685960" cy="27482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28000" y="4438800"/>
            <a:ext cx="590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82840" y="4645080"/>
            <a:ext cx="1376280" cy="1334880"/>
          </a:xfrm>
          <a:custGeom>
            <a:avLst/>
            <a:gdLst/>
            <a:ahLst/>
            <a:rect l="l" t="t" r="r" b="b"/>
            <a:pathLst>
              <a:path w="867" h="841">
                <a:moveTo>
                  <a:pt x="0" y="0"/>
                </a:moveTo>
                <a:lnTo>
                  <a:pt x="866" y="0"/>
                </a:lnTo>
                <a:lnTo>
                  <a:pt x="866" y="84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62920" y="3160800"/>
            <a:ext cx="500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55960" y="4425840"/>
            <a:ext cx="384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6400" y="5929200"/>
            <a:ext cx="556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736720" y="6248520"/>
            <a:ext cx="774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124080"/>
            <a:ext cx="1449360" cy="1525680"/>
          </a:xfrm>
          <a:custGeom>
            <a:avLst/>
            <a:gdLst/>
            <a:ahLst/>
            <a:rect l="l" t="t" r="r" b="b"/>
            <a:pathLst>
              <a:path w="913" h="961">
                <a:moveTo>
                  <a:pt x="0" y="0"/>
                </a:moveTo>
                <a:lnTo>
                  <a:pt x="0" y="960"/>
                </a:lnTo>
                <a:lnTo>
                  <a:pt x="912" y="96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49360" y="4114800"/>
            <a:ext cx="1373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Excedent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Consumi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QUILIBRI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quilibrio es  una situación de un conjunto de variables interrelacionadas, en la que no existe tendencia alguna al cambi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n economía, el concepto es de carácter analítico y se emplea como artificio metodológ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cedente del Producto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la diferencia entre el precio que recibe el productor y el precio al cual está dispuesto a produc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554360" y="1905120"/>
            <a:ext cx="3726000" cy="3332160"/>
          </a:xfrm>
          <a:custGeom>
            <a:avLst/>
            <a:gdLst/>
            <a:ahLst/>
            <a:rect l="l" t="t" r="r" b="b"/>
            <a:pathLst>
              <a:path w="2347" h="2099">
                <a:moveTo>
                  <a:pt x="0" y="0"/>
                </a:moveTo>
                <a:lnTo>
                  <a:pt x="0" y="2098"/>
                </a:lnTo>
                <a:lnTo>
                  <a:pt x="2346" y="209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70520" y="182232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44000" y="513540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14000" y="3371760"/>
            <a:ext cx="590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afd00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92520" y="3657600"/>
            <a:ext cx="1657440" cy="1560600"/>
          </a:xfrm>
          <a:custGeom>
            <a:avLst/>
            <a:gdLst/>
            <a:ahLst/>
            <a:rect l="l" t="t" r="r" b="b"/>
            <a:pathLst>
              <a:path w="1044" h="983">
                <a:moveTo>
                  <a:pt x="0" y="0"/>
                </a:moveTo>
                <a:lnTo>
                  <a:pt x="1043" y="0"/>
                </a:lnTo>
                <a:lnTo>
                  <a:pt x="1043" y="982"/>
                </a:lnTo>
              </a:path>
            </a:pathLst>
          </a:custGeom>
          <a:noFill/>
          <a:ln cap="rnd" w="38160">
            <a:solidFill>
              <a:srgbClr val="fafd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462440" y="247500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18280" y="3511440"/>
            <a:ext cx="384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82840" y="5224320"/>
            <a:ext cx="556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afd00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946760" y="5486400"/>
            <a:ext cx="774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82120" y="4748040"/>
            <a:ext cx="410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x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82120" y="4443480"/>
            <a:ext cx="410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x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82120" y="4062240"/>
            <a:ext cx="410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x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16020000">
            <a:off x="4173840" y="3716280"/>
            <a:ext cx="43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866880" y="4397400"/>
            <a:ext cx="3165480" cy="637560"/>
            <a:chOff x="866880" y="4397400"/>
            <a:chExt cx="3165480" cy="637560"/>
          </a:xfrm>
        </p:grpSpPr>
        <p:sp>
          <p:nvSpPr>
            <p:cNvPr id="349" name=""/>
            <p:cNvSpPr/>
            <p:nvPr/>
          </p:nvSpPr>
          <p:spPr>
            <a:xfrm>
              <a:off x="866880" y="4397400"/>
              <a:ext cx="2508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</a:rPr>
                <a:t>Precio al que está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</a:rPr>
                <a:t>dispuesto a producir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359160" y="4654440"/>
              <a:ext cx="673200" cy="216000"/>
            </a:xfrm>
            <a:prstGeom prst="rightArrow">
              <a:avLst>
                <a:gd name="adj1" fmla="val 50000"/>
                <a:gd name="adj2" fmla="val 155847"/>
              </a:avLst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199880" y="3406680"/>
            <a:ext cx="2832480" cy="363240"/>
            <a:chOff x="1199880" y="3406680"/>
            <a:chExt cx="2832480" cy="363240"/>
          </a:xfrm>
        </p:grpSpPr>
        <p:sp>
          <p:nvSpPr>
            <p:cNvPr id="352" name=""/>
            <p:cNvSpPr/>
            <p:nvPr/>
          </p:nvSpPr>
          <p:spPr>
            <a:xfrm>
              <a:off x="1199880" y="3406680"/>
              <a:ext cx="208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</a:rPr>
                <a:t>Precio que recib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59160" y="3511440"/>
              <a:ext cx="673200" cy="216000"/>
            </a:xfrm>
            <a:prstGeom prst="rightArrow">
              <a:avLst>
                <a:gd name="adj1" fmla="val 50000"/>
                <a:gd name="adj2" fmla="val 155847"/>
              </a:avLst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cedente del Producto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597560" y="2412720"/>
            <a:ext cx="2844720" cy="27939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4267080"/>
            <a:ext cx="1068480" cy="992160"/>
          </a:xfrm>
          <a:custGeom>
            <a:avLst/>
            <a:gdLst/>
            <a:ahLst/>
            <a:rect l="l" t="t" r="r" b="b"/>
            <a:pathLst>
              <a:path w="673" h="625">
                <a:moveTo>
                  <a:pt x="0" y="0"/>
                </a:moveTo>
                <a:lnTo>
                  <a:pt x="672" y="0"/>
                </a:lnTo>
                <a:lnTo>
                  <a:pt x="672" y="624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4648320"/>
            <a:ext cx="611280" cy="610920"/>
          </a:xfrm>
          <a:custGeom>
            <a:avLst/>
            <a:gdLst/>
            <a:ahLst/>
            <a:rect l="l" t="t" r="r" b="b"/>
            <a:pathLst>
              <a:path w="385" h="385">
                <a:moveTo>
                  <a:pt x="0" y="0"/>
                </a:moveTo>
                <a:lnTo>
                  <a:pt x="384" y="0"/>
                </a:lnTo>
                <a:lnTo>
                  <a:pt x="384" y="384"/>
                </a:lnTo>
                <a:lnTo>
                  <a:pt x="384" y="219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0" y="49528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106800" y="2590920"/>
            <a:ext cx="3725640" cy="3332160"/>
          </a:xfrm>
          <a:custGeom>
            <a:avLst/>
            <a:gdLst/>
            <a:ahLst/>
            <a:rect l="l" t="t" r="r" b="b"/>
            <a:pathLst>
              <a:path w="2347" h="2099">
                <a:moveTo>
                  <a:pt x="0" y="0"/>
                </a:moveTo>
                <a:lnTo>
                  <a:pt x="0" y="2098"/>
                </a:lnTo>
                <a:lnTo>
                  <a:pt x="2346" y="209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22600" y="250812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72400" y="582120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66440" y="4057560"/>
            <a:ext cx="590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afd00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44960" y="4343400"/>
            <a:ext cx="1657080" cy="1560600"/>
          </a:xfrm>
          <a:custGeom>
            <a:avLst/>
            <a:gdLst/>
            <a:ahLst/>
            <a:rect l="l" t="t" r="r" b="b"/>
            <a:pathLst>
              <a:path w="1044" h="983">
                <a:moveTo>
                  <a:pt x="0" y="0"/>
                </a:moveTo>
                <a:lnTo>
                  <a:pt x="1043" y="0"/>
                </a:lnTo>
                <a:lnTo>
                  <a:pt x="1043" y="98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14880" y="316080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70360" y="4197240"/>
            <a:ext cx="384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96760" y="5853240"/>
            <a:ext cx="556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afd00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498840" y="6172200"/>
            <a:ext cx="774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149640" y="3098520"/>
            <a:ext cx="2844720" cy="27939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4343400"/>
            <a:ext cx="1602000" cy="1525680"/>
          </a:xfrm>
          <a:custGeom>
            <a:avLst/>
            <a:gdLst/>
            <a:ahLst/>
            <a:rect l="l" t="t" r="r" b="b"/>
            <a:pathLst>
              <a:path w="1009" h="961">
                <a:moveTo>
                  <a:pt x="0" y="0"/>
                </a:moveTo>
                <a:lnTo>
                  <a:pt x="1008" y="0"/>
                </a:lnTo>
                <a:lnTo>
                  <a:pt x="0" y="960"/>
                </a:lnTo>
                <a:lnTo>
                  <a:pt x="0" y="0"/>
                </a:lnTo>
              </a:path>
            </a:pathLst>
          </a:custGeom>
          <a:solidFill>
            <a:srgbClr val="6e0043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 por una cantidad inferior a q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, el productor recibe un precio  P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xE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,  pero   como produce  la  misma cantidad por un valor menor, entonces el productor se ve benefici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10040" y="4419720"/>
            <a:ext cx="11948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Exced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Produ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124080" y="2838600"/>
            <a:ext cx="1582920" cy="1582560"/>
          </a:xfrm>
          <a:custGeom>
            <a:avLst/>
            <a:gdLst/>
            <a:ahLst/>
            <a:rect l="l" t="t" r="r" b="b"/>
            <a:pathLst>
              <a:path w="997" h="997">
                <a:moveTo>
                  <a:pt x="0" y="0"/>
                </a:moveTo>
                <a:lnTo>
                  <a:pt x="0" y="996"/>
                </a:lnTo>
                <a:lnTo>
                  <a:pt x="996" y="996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n   equilibrio    tanto    productor   como consumidor  maximizan  los  excesos del productor y consumidor respectivam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24080" y="2286000"/>
            <a:ext cx="3708360" cy="3637080"/>
          </a:xfrm>
          <a:custGeom>
            <a:avLst/>
            <a:gdLst/>
            <a:ahLst/>
            <a:rect l="l" t="t" r="r" b="b"/>
            <a:pathLst>
              <a:path w="2336" h="2291">
                <a:moveTo>
                  <a:pt x="0" y="0"/>
                </a:moveTo>
                <a:lnTo>
                  <a:pt x="0" y="2290"/>
                </a:lnTo>
                <a:lnTo>
                  <a:pt x="2335" y="229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22600" y="250812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66440" y="4057560"/>
            <a:ext cx="590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afd00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14880" y="316080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179880" y="3227400"/>
            <a:ext cx="2936880" cy="26892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72400" y="582120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90280" y="5853240"/>
            <a:ext cx="46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afd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49640" y="2844720"/>
            <a:ext cx="3149640" cy="3073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770360" y="4197240"/>
            <a:ext cx="384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44960" y="4419720"/>
            <a:ext cx="1657080" cy="1484280"/>
          </a:xfrm>
          <a:custGeom>
            <a:avLst/>
            <a:gdLst/>
            <a:ahLst/>
            <a:rect l="l" t="t" r="r" b="b"/>
            <a:pathLst>
              <a:path w="1044" h="935">
                <a:moveTo>
                  <a:pt x="0" y="0"/>
                </a:moveTo>
                <a:lnTo>
                  <a:pt x="1043" y="0"/>
                </a:lnTo>
                <a:lnTo>
                  <a:pt x="1043" y="934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11480" y="3809880"/>
            <a:ext cx="1373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Exced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Consumi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4419720"/>
            <a:ext cx="1602000" cy="1487520"/>
          </a:xfrm>
          <a:custGeom>
            <a:avLst/>
            <a:gdLst/>
            <a:ahLst/>
            <a:rect l="l" t="t" r="r" b="b"/>
            <a:pathLst>
              <a:path w="1009" h="937">
                <a:moveTo>
                  <a:pt x="0" y="0"/>
                </a:moveTo>
                <a:lnTo>
                  <a:pt x="0" y="936"/>
                </a:lnTo>
                <a:lnTo>
                  <a:pt x="1008" y="12"/>
                </a:lnTo>
                <a:lnTo>
                  <a:pt x="0" y="0"/>
                </a:lnTo>
              </a:path>
            </a:pathLst>
          </a:custGeom>
          <a:solidFill>
            <a:srgbClr val="6e0043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10040" y="4495680"/>
            <a:ext cx="11948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Exced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Produ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AMBIOS EN EL EQUILIBRI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593800" y="2787480"/>
            <a:ext cx="4238640" cy="3197520"/>
          </a:xfrm>
          <a:custGeom>
            <a:avLst/>
            <a:gdLst/>
            <a:ahLst/>
            <a:rect l="l" t="t" r="r" b="b"/>
            <a:pathLst>
              <a:path w="2670" h="2014">
                <a:moveTo>
                  <a:pt x="0" y="0"/>
                </a:moveTo>
                <a:lnTo>
                  <a:pt x="0" y="2013"/>
                </a:lnTo>
                <a:lnTo>
                  <a:pt x="2669" y="2013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44800" y="266076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04000" y="588168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2610000" y="3273120"/>
            <a:ext cx="3209760" cy="27162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39880" y="3649680"/>
            <a:ext cx="2508480" cy="2351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91040" y="309420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55680" y="5448240"/>
            <a:ext cx="599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x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18320" y="4629240"/>
            <a:ext cx="48312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30520" y="4848120"/>
            <a:ext cx="1305000" cy="1179720"/>
          </a:xfrm>
          <a:custGeom>
            <a:avLst/>
            <a:gdLst/>
            <a:ahLst/>
            <a:rect l="l" t="t" r="r" b="b"/>
            <a:pathLst>
              <a:path w="822" h="743">
                <a:moveTo>
                  <a:pt x="0" y="0"/>
                </a:moveTo>
                <a:lnTo>
                  <a:pt x="821" y="0"/>
                </a:lnTo>
                <a:lnTo>
                  <a:pt x="821" y="74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22520" y="3278160"/>
            <a:ext cx="2508480" cy="2351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30520" y="4343400"/>
            <a:ext cx="1941480" cy="1622520"/>
          </a:xfrm>
          <a:custGeom>
            <a:avLst/>
            <a:gdLst/>
            <a:ahLst/>
            <a:rect l="l" t="t" r="r" b="b"/>
            <a:pathLst>
              <a:path w="1233" h="1055">
                <a:moveTo>
                  <a:pt x="0" y="0"/>
                </a:moveTo>
                <a:lnTo>
                  <a:pt x="1232" y="0"/>
                </a:lnTo>
                <a:lnTo>
                  <a:pt x="1232" y="1054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68640" y="5138640"/>
            <a:ext cx="599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x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32840" y="4127400"/>
            <a:ext cx="48312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06760" y="5921280"/>
            <a:ext cx="655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x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74600" y="4022640"/>
            <a:ext cx="689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x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umento de la Demand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aumentar la curva de demanda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438280" y="4413240"/>
            <a:ext cx="0" cy="393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95720" y="6180120"/>
            <a:ext cx="368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88920" y="4581360"/>
            <a:ext cx="689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xE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98840" y="5942160"/>
            <a:ext cx="655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xE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0666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tiene un nuevo punt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1523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un precio y una cantidad may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344680" y="2666880"/>
            <a:ext cx="3726000" cy="3332160"/>
          </a:xfrm>
          <a:custGeom>
            <a:avLst/>
            <a:gdLst/>
            <a:ahLst/>
            <a:rect l="l" t="t" r="r" b="b"/>
            <a:pathLst>
              <a:path w="2347" h="2099">
                <a:moveTo>
                  <a:pt x="0" y="0"/>
                </a:moveTo>
                <a:lnTo>
                  <a:pt x="0" y="2098"/>
                </a:lnTo>
                <a:lnTo>
                  <a:pt x="2346" y="209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60840" y="273672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34320" y="589752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70240" y="3338640"/>
            <a:ext cx="2808360" cy="26654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64480" y="3476520"/>
            <a:ext cx="2937240" cy="2540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240520" y="3160800"/>
            <a:ext cx="617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x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32840" y="5148360"/>
            <a:ext cx="48312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38280" y="5410080"/>
            <a:ext cx="2181240" cy="603360"/>
          </a:xfrm>
          <a:custGeom>
            <a:avLst/>
            <a:gdLst/>
            <a:ahLst/>
            <a:rect l="l" t="t" r="r" b="b"/>
            <a:pathLst>
              <a:path w="1314" h="380">
                <a:moveTo>
                  <a:pt x="0" y="0"/>
                </a:moveTo>
                <a:lnTo>
                  <a:pt x="1313" y="0"/>
                </a:lnTo>
                <a:lnTo>
                  <a:pt x="1313" y="379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82840" y="4645080"/>
            <a:ext cx="1376280" cy="1334880"/>
          </a:xfrm>
          <a:custGeom>
            <a:avLst/>
            <a:gdLst/>
            <a:ahLst/>
            <a:rect l="l" t="t" r="r" b="b"/>
            <a:pathLst>
              <a:path w="867" h="841">
                <a:moveTo>
                  <a:pt x="0" y="0"/>
                </a:moveTo>
                <a:lnTo>
                  <a:pt x="866" y="0"/>
                </a:lnTo>
                <a:lnTo>
                  <a:pt x="866" y="84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662920" y="3160800"/>
            <a:ext cx="500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5560" y="4464000"/>
            <a:ext cx="48312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18120" y="5913360"/>
            <a:ext cx="655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x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34840" y="5143680"/>
            <a:ext cx="689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x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962520" y="3352320"/>
            <a:ext cx="2732040" cy="26672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86640" y="3282840"/>
            <a:ext cx="617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x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147760" y="4857480"/>
            <a:ext cx="0" cy="452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14640" y="6089760"/>
            <a:ext cx="385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umento de la Ofert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marL="119880" indent="-119880" algn="just">
              <a:spcBef>
                <a:spcPts val="75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Al      aumentar      la    curva   de   oferta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19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49160" y="4395960"/>
            <a:ext cx="689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xE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49440" y="5899320"/>
            <a:ext cx="655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xE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3520" y="2057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 un precio menor y una mayor cantida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 tiene un nuevo precio de equilibrio..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CESO DE OFERT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1520" y="2437920"/>
            <a:ext cx="784404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produce un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exceso de ofert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déficit de demand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ndo la cantidad ofrecida es superior a la cantidad demand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4800600" cy="89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ráficamente: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9560" y="1657440"/>
            <a:ext cx="4954680" cy="3930480"/>
          </a:xfrm>
          <a:custGeom>
            <a:avLst/>
            <a:gdLst/>
            <a:ahLst/>
            <a:rect l="l" t="t" r="r" b="b"/>
            <a:pathLst>
              <a:path w="3121" h="2476">
                <a:moveTo>
                  <a:pt x="0" y="0"/>
                </a:moveTo>
                <a:lnTo>
                  <a:pt x="0" y="2475"/>
                </a:lnTo>
                <a:lnTo>
                  <a:pt x="3120" y="247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82800" y="150984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45520" y="547200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3320" y="2424240"/>
            <a:ext cx="57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133720"/>
            <a:ext cx="3403440" cy="3403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78120" y="204300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93400" y="4938840"/>
            <a:ext cx="500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2133720"/>
            <a:ext cx="2671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Exceso de 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971800"/>
            <a:ext cx="0" cy="660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051800" y="5638680"/>
            <a:ext cx="538200" cy="567000"/>
            <a:chOff x="4051800" y="5638680"/>
            <a:chExt cx="538200" cy="567000"/>
          </a:xfrm>
        </p:grpSpPr>
        <p:sp>
          <p:nvSpPr>
            <p:cNvPr id="173" name=""/>
            <p:cNvSpPr/>
            <p:nvPr/>
          </p:nvSpPr>
          <p:spPr>
            <a:xfrm>
              <a:off x="4051800" y="5700600"/>
              <a:ext cx="538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Arial"/>
                </a:rPr>
                <a:t>x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91480" y="563868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980360" y="5715000"/>
            <a:ext cx="538200" cy="567000"/>
            <a:chOff x="1980360" y="5715000"/>
            <a:chExt cx="538200" cy="567000"/>
          </a:xfrm>
        </p:grpSpPr>
        <p:sp>
          <p:nvSpPr>
            <p:cNvPr id="176" name=""/>
            <p:cNvSpPr/>
            <p:nvPr/>
          </p:nvSpPr>
          <p:spPr>
            <a:xfrm>
              <a:off x="1980360" y="5776920"/>
              <a:ext cx="538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Arial"/>
                </a:rPr>
                <a:t>x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18960" y="571500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529240" y="2976480"/>
            <a:ext cx="2949480" cy="2001960"/>
            <a:chOff x="5529240" y="2976480"/>
            <a:chExt cx="2949480" cy="2001960"/>
          </a:xfrm>
        </p:grpSpPr>
        <p:graphicFrame>
          <p:nvGraphicFramePr>
            <p:cNvPr id="179" name=""/>
            <p:cNvGraphicFramePr/>
            <p:nvPr/>
          </p:nvGraphicFramePr>
          <p:xfrm>
            <a:off x="5529240" y="2976480"/>
            <a:ext cx="2949480" cy="200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29240" y="2976480"/>
                      <a:ext cx="2949480" cy="200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5852880" y="36352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53440" y="3635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343400" y="2895480"/>
            <a:ext cx="0" cy="27432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28195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2819520"/>
            <a:ext cx="0" cy="27432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600200" y="2057040"/>
            <a:ext cx="3505320" cy="35053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XCESO DE DEMAND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produce un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exceso de demand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déficit de ofert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ndo la cantidad demandada es mayor que la cantidad ofrec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533520"/>
            <a:ext cx="48006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ráficamente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9560" y="1657440"/>
            <a:ext cx="4954680" cy="3930480"/>
          </a:xfrm>
          <a:custGeom>
            <a:avLst/>
            <a:gdLst/>
            <a:ahLst/>
            <a:rect l="l" t="t" r="r" b="b"/>
            <a:pathLst>
              <a:path w="3121" h="2476">
                <a:moveTo>
                  <a:pt x="0" y="0"/>
                </a:moveTo>
                <a:lnTo>
                  <a:pt x="0" y="2475"/>
                </a:lnTo>
                <a:lnTo>
                  <a:pt x="3120" y="247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82800" y="150984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45520" y="547200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08720" y="4591080"/>
            <a:ext cx="57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625760" y="2437920"/>
            <a:ext cx="3784320" cy="31496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2057400"/>
            <a:ext cx="3497040" cy="351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83080" y="225756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69440" y="2295360"/>
            <a:ext cx="500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08160" y="5046840"/>
            <a:ext cx="2656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xceso de Dema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280400" y="5667480"/>
            <a:ext cx="538200" cy="567000"/>
            <a:chOff x="4280400" y="5667480"/>
            <a:chExt cx="538200" cy="567000"/>
          </a:xfrm>
        </p:grpSpPr>
        <p:sp>
          <p:nvSpPr>
            <p:cNvPr id="201" name=""/>
            <p:cNvSpPr/>
            <p:nvPr/>
          </p:nvSpPr>
          <p:spPr>
            <a:xfrm>
              <a:off x="4280400" y="5729400"/>
              <a:ext cx="538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Arial"/>
                </a:rPr>
                <a:t>x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9360" y="5667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980360" y="5715000"/>
            <a:ext cx="538200" cy="567000"/>
            <a:chOff x="1980360" y="5715000"/>
            <a:chExt cx="538200" cy="567000"/>
          </a:xfrm>
        </p:grpSpPr>
        <p:sp>
          <p:nvSpPr>
            <p:cNvPr id="204" name=""/>
            <p:cNvSpPr/>
            <p:nvPr/>
          </p:nvSpPr>
          <p:spPr>
            <a:xfrm>
              <a:off x="1980360" y="5776920"/>
              <a:ext cx="538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Arial"/>
                </a:rPr>
                <a:t>x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20040" y="571500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76960" y="2824200"/>
            <a:ext cx="2700360" cy="2001960"/>
            <a:chOff x="5376960" y="2824200"/>
            <a:chExt cx="2700360" cy="2001960"/>
          </a:xfrm>
        </p:grpSpPr>
        <p:graphicFrame>
          <p:nvGraphicFramePr>
            <p:cNvPr id="207" name=""/>
            <p:cNvGraphicFramePr/>
            <p:nvPr/>
          </p:nvGraphicFramePr>
          <p:xfrm>
            <a:off x="5376960" y="2824200"/>
            <a:ext cx="2700360" cy="20019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76960" y="2824200"/>
                      <a:ext cx="2700360" cy="200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"/>
            <p:cNvSpPr/>
            <p:nvPr/>
          </p:nvSpPr>
          <p:spPr>
            <a:xfrm>
              <a:off x="5665680" y="34830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30520" y="34830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4952880"/>
            <a:ext cx="0" cy="6098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4952880"/>
            <a:ext cx="2895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120" y="9907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¿Cómo logran ponerse de acuerdo productores y consumidores para evitar los excesos de oferta y demanda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317680" y="3249720"/>
          <a:ext cx="4653000" cy="31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7680" y="3249720"/>
                    <a:ext cx="465300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76280" y="490320"/>
            <a:ext cx="4548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ráficamente: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95440" y="1581120"/>
            <a:ext cx="4954680" cy="3930840"/>
          </a:xfrm>
          <a:custGeom>
            <a:avLst/>
            <a:gdLst/>
            <a:ahLst/>
            <a:rect l="l" t="t" r="r" b="b"/>
            <a:pathLst>
              <a:path w="3121" h="2476">
                <a:moveTo>
                  <a:pt x="0" y="0"/>
                </a:moveTo>
                <a:lnTo>
                  <a:pt x="0" y="2475"/>
                </a:lnTo>
                <a:lnTo>
                  <a:pt x="3120" y="247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68680" y="1433520"/>
            <a:ext cx="47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31040" y="5396040"/>
            <a:ext cx="43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99200" y="2347920"/>
            <a:ext cx="57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11280" y="2184120"/>
            <a:ext cx="3759480" cy="33274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44760" y="2025720"/>
            <a:ext cx="3497400" cy="351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64000" y="196704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79280" y="4862520"/>
            <a:ext cx="500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81160" y="2271600"/>
            <a:ext cx="2671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Exces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47840" y="2749680"/>
            <a:ext cx="0" cy="28065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80480" y="5562720"/>
            <a:ext cx="538200" cy="567000"/>
            <a:chOff x="5280480" y="5562720"/>
            <a:chExt cx="538200" cy="567000"/>
          </a:xfrm>
        </p:grpSpPr>
        <p:sp>
          <p:nvSpPr>
            <p:cNvPr id="229" name=""/>
            <p:cNvSpPr/>
            <p:nvPr/>
          </p:nvSpPr>
          <p:spPr>
            <a:xfrm>
              <a:off x="5280480" y="5624640"/>
              <a:ext cx="538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Arial"/>
                </a:rPr>
                <a:t>x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20160" y="556272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689920" y="5562720"/>
            <a:ext cx="538200" cy="567000"/>
            <a:chOff x="2689920" y="5562720"/>
            <a:chExt cx="538200" cy="567000"/>
          </a:xfrm>
        </p:grpSpPr>
        <p:sp>
          <p:nvSpPr>
            <p:cNvPr id="232" name=""/>
            <p:cNvSpPr/>
            <p:nvPr/>
          </p:nvSpPr>
          <p:spPr>
            <a:xfrm>
              <a:off x="2689920" y="5624640"/>
              <a:ext cx="538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Arial"/>
                </a:rPr>
                <a:t>x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28880" y="556272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784880" y="4257720"/>
            <a:ext cx="571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2832120"/>
            <a:ext cx="0" cy="584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267080" y="4025520"/>
            <a:ext cx="0" cy="406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05320" y="4502160"/>
            <a:ext cx="0" cy="9777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67080" y="4502160"/>
            <a:ext cx="0" cy="977760"/>
          </a:xfrm>
          <a:prstGeom prst="line">
            <a:avLst/>
          </a:prstGeom>
          <a:ln w="38160">
            <a:solidFill>
              <a:srgbClr val="fafd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44760" y="3886200"/>
            <a:ext cx="1816200" cy="0"/>
          </a:xfrm>
          <a:prstGeom prst="line">
            <a:avLst/>
          </a:prstGeom>
          <a:ln w="38160">
            <a:solidFill>
              <a:srgbClr val="fafd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3920" y="3567240"/>
            <a:ext cx="60048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s-ES_tradnl" sz="2400" spc="-1" strike="noStrike" baseline="-25000">
                <a:solidFill>
                  <a:srgbClr val="fafd00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94680" y="5562720"/>
            <a:ext cx="538200" cy="567000"/>
            <a:chOff x="4594680" y="5562720"/>
            <a:chExt cx="538200" cy="567000"/>
          </a:xfrm>
        </p:grpSpPr>
        <p:sp>
          <p:nvSpPr>
            <p:cNvPr id="242" name=""/>
            <p:cNvSpPr/>
            <p:nvPr/>
          </p:nvSpPr>
          <p:spPr>
            <a:xfrm>
              <a:off x="4594680" y="5624640"/>
              <a:ext cx="538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Arial"/>
                </a:rPr>
                <a:t>x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33640" y="556272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299400" y="5562720"/>
            <a:ext cx="538200" cy="567000"/>
            <a:chOff x="3299400" y="5562720"/>
            <a:chExt cx="538200" cy="567000"/>
          </a:xfrm>
        </p:grpSpPr>
        <p:sp>
          <p:nvSpPr>
            <p:cNvPr id="245" name=""/>
            <p:cNvSpPr/>
            <p:nvPr/>
          </p:nvSpPr>
          <p:spPr>
            <a:xfrm>
              <a:off x="3299400" y="5624640"/>
              <a:ext cx="538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Arial"/>
                </a:rPr>
                <a:t>x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39080" y="5562720"/>
              <a:ext cx="33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963600" y="5548320"/>
            <a:ext cx="583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afd00"/>
                </a:solidFill>
                <a:latin typeface="Arial"/>
              </a:rPr>
              <a:t>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81640" y="3643200"/>
            <a:ext cx="384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03320" y="5137200"/>
            <a:ext cx="2656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xceso de Dema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2666880"/>
            <a:ext cx="3200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2666880"/>
            <a:ext cx="0" cy="28195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2320" y="4572000"/>
            <a:ext cx="2590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52880" y="4572000"/>
            <a:ext cx="0" cy="914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144440" y="712800"/>
          <a:ext cx="6932880" cy="53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440" y="712800"/>
                    <a:ext cx="6932880" cy="53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4T18:39:42Z</dcterms:created>
  <dc:creator/>
  <dc:description/>
  <dc:language>en-US</dc:language>
  <cp:lastModifiedBy>Pedro Valdes Veloso</cp:lastModifiedBy>
  <dcterms:modified xsi:type="dcterms:W3CDTF">2000-04-10T15:11:26Z</dcterms:modified>
  <cp:revision>45</cp:revision>
  <dc:subject/>
  <dc:title>EQUILIBRIO</dc:title>
</cp:coreProperties>
</file>