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9840" y="79200"/>
            <a:ext cx="8955000" cy="6640560"/>
            <a:chOff x="69840" y="79200"/>
            <a:chExt cx="8955000" cy="6640560"/>
          </a:xfrm>
        </p:grpSpPr>
        <p:grpSp>
          <p:nvGrpSpPr>
            <p:cNvPr id="1" name=""/>
            <p:cNvGrpSpPr/>
            <p:nvPr/>
          </p:nvGrpSpPr>
          <p:grpSpPr>
            <a:xfrm>
              <a:off x="69840" y="79200"/>
              <a:ext cx="8955000" cy="6640560"/>
              <a:chOff x="69840" y="79200"/>
              <a:chExt cx="8955000" cy="6640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9840" y="79200"/>
                <a:ext cx="1098720" cy="1621080"/>
                <a:chOff x="69840" y="79200"/>
                <a:chExt cx="1098720" cy="16210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69840" y="79200"/>
                  <a:ext cx="1098720" cy="108000"/>
                  <a:chOff x="69840" y="79200"/>
                  <a:chExt cx="1098720" cy="1080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6984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2700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4716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67140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15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10731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76320" y="298440"/>
                  <a:ext cx="1085760" cy="95400"/>
                  <a:chOff x="76320" y="298440"/>
                  <a:chExt cx="1085760" cy="9540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7632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2761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777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7788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8780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10796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" name=""/>
                <p:cNvGrpSpPr/>
                <p:nvPr/>
              </p:nvGrpSpPr>
              <p:grpSpPr>
                <a:xfrm>
                  <a:off x="69840" y="509760"/>
                  <a:ext cx="1098720" cy="107640"/>
                  <a:chOff x="69840" y="509760"/>
                  <a:chExt cx="1098720" cy="10764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6984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2700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4716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7140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8715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10731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69840" y="727200"/>
                  <a:ext cx="1098720" cy="108000"/>
                  <a:chOff x="69840" y="727200"/>
                  <a:chExt cx="1098720" cy="1080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6984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2700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4716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7140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8715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10731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" name=""/>
                <p:cNvGrpSpPr/>
                <p:nvPr/>
              </p:nvGrpSpPr>
              <p:grpSpPr>
                <a:xfrm>
                  <a:off x="69840" y="941400"/>
                  <a:ext cx="1098720" cy="108000"/>
                  <a:chOff x="69840" y="941400"/>
                  <a:chExt cx="1098720" cy="10800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6984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2700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716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67140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8715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10731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" name=""/>
                <p:cNvGrpSpPr/>
                <p:nvPr/>
              </p:nvGrpSpPr>
              <p:grpSpPr>
                <a:xfrm>
                  <a:off x="69840" y="1158840"/>
                  <a:ext cx="1098720" cy="108000"/>
                  <a:chOff x="69840" y="1158840"/>
                  <a:chExt cx="1098720" cy="108000"/>
                </a:xfrm>
              </p:grpSpPr>
              <p:sp>
                <p:nvSpPr>
                  <p:cNvPr id="39" name=""/>
                  <p:cNvSpPr/>
                  <p:nvPr/>
                </p:nvSpPr>
                <p:spPr>
                  <a:xfrm>
                    <a:off x="6984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2700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716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67140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8715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10731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9840" y="1374840"/>
                  <a:ext cx="1098720" cy="108000"/>
                  <a:chOff x="69840" y="1374840"/>
                  <a:chExt cx="1098720" cy="108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6984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2700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716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7140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8715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0731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9840" y="1592280"/>
                  <a:ext cx="1098720" cy="108000"/>
                  <a:chOff x="69840" y="1592280"/>
                  <a:chExt cx="1098720" cy="10800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6984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700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4716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7140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8715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0731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" name=""/>
              <p:cNvGrpSpPr/>
              <p:nvPr/>
            </p:nvGrpSpPr>
            <p:grpSpPr>
              <a:xfrm>
                <a:off x="7927920" y="5099040"/>
                <a:ext cx="1096920" cy="1620720"/>
                <a:chOff x="7927920" y="5099040"/>
                <a:chExt cx="1096920" cy="162072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7927920" y="5099040"/>
                  <a:ext cx="1096920" cy="108000"/>
                  <a:chOff x="7927920" y="5099040"/>
                  <a:chExt cx="1096920" cy="10800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792792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81262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83278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52804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87296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89312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7927920" y="5311800"/>
                  <a:ext cx="1096920" cy="108000"/>
                  <a:chOff x="7927920" y="5311800"/>
                  <a:chExt cx="1096920" cy="1080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792792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1262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83278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52804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7296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9312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927920" y="5529240"/>
                  <a:ext cx="1096920" cy="108000"/>
                  <a:chOff x="7927920" y="5529240"/>
                  <a:chExt cx="1096920" cy="10800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792792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81262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83278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52804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7296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9312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7927920" y="5746680"/>
                  <a:ext cx="1096920" cy="108000"/>
                  <a:chOff x="7927920" y="5746680"/>
                  <a:chExt cx="1096920" cy="1080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792792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1262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3278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52804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7296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9312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7927920" y="5961240"/>
                  <a:ext cx="1096920" cy="107640"/>
                  <a:chOff x="7927920" y="5961240"/>
                  <a:chExt cx="1096920" cy="10764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92792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1262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83278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52804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87296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9312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927920" y="6178680"/>
                  <a:ext cx="1096920" cy="108000"/>
                  <a:chOff x="7927920" y="6178680"/>
                  <a:chExt cx="1096920" cy="1080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92792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1262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3278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52804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7296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9312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7927920" y="6394320"/>
                  <a:ext cx="1096920" cy="108000"/>
                  <a:chOff x="7927920" y="6394320"/>
                  <a:chExt cx="1096920" cy="1080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792792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62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83278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52804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87296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9312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927920" y="6611760"/>
                  <a:ext cx="1096920" cy="108000"/>
                  <a:chOff x="7927920" y="6611760"/>
                  <a:chExt cx="1096920" cy="1080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792792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81262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3278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2804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7296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89312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463680" y="482760"/>
              <a:ext cx="8216640" cy="5892480"/>
            </a:xfrm>
            <a:prstGeom prst="rect">
              <a:avLst/>
            </a:prstGeom>
            <a:solidFill>
              <a:srgbClr val="3e67bd"/>
            </a:solidFill>
            <a:ln w="12600">
              <a:solidFill>
                <a:srgbClr val="86a0d7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066680" y="1143000"/>
            <a:ext cx="807732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FIJACIÓ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man Old Style"/>
              </a:rPr>
              <a:t>DE PRECIO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843080" y="4695840"/>
            <a:ext cx="233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cio Máx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82960" y="2508120"/>
            <a:ext cx="4395600" cy="3338640"/>
          </a:xfrm>
          <a:custGeom>
            <a:avLst/>
            <a:gdLst/>
            <a:ahLst/>
            <a:rect l="l" t="t" r="r" b="b"/>
            <a:pathLst>
              <a:path w="2769" h="2103">
                <a:moveTo>
                  <a:pt x="0" y="0"/>
                </a:moveTo>
                <a:lnTo>
                  <a:pt x="0" y="2102"/>
                </a:lnTo>
                <a:lnTo>
                  <a:pt x="2768" y="210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17760" y="2376360"/>
            <a:ext cx="47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451560" y="5742000"/>
            <a:ext cx="43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100240" y="3098880"/>
            <a:ext cx="3208320" cy="27511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28680" y="2889360"/>
            <a:ext cx="2951280" cy="2952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05120" y="2828880"/>
            <a:ext cx="518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98160" y="5288040"/>
            <a:ext cx="500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04440" y="4187880"/>
            <a:ext cx="60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65000" y="5870520"/>
            <a:ext cx="583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43480" y="3949560"/>
            <a:ext cx="384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20760" y="4465800"/>
            <a:ext cx="1614600" cy="1376280"/>
          </a:xfrm>
          <a:custGeom>
            <a:avLst/>
            <a:gdLst/>
            <a:ahLst/>
            <a:rect l="l" t="t" r="r" b="b"/>
            <a:pathLst>
              <a:path w="1017" h="867">
                <a:moveTo>
                  <a:pt x="0" y="0"/>
                </a:moveTo>
                <a:lnTo>
                  <a:pt x="1016" y="0"/>
                </a:lnTo>
                <a:lnTo>
                  <a:pt x="1016" y="866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08240" y="4741920"/>
            <a:ext cx="7772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87720" y="5889600"/>
            <a:ext cx="574560" cy="551160"/>
            <a:chOff x="3987720" y="5889600"/>
            <a:chExt cx="574560" cy="551160"/>
          </a:xfrm>
        </p:grpSpPr>
        <p:sp>
          <p:nvSpPr>
            <p:cNvPr id="335" name=""/>
            <p:cNvSpPr/>
            <p:nvPr/>
          </p:nvSpPr>
          <p:spPr>
            <a:xfrm>
              <a:off x="3987720" y="5935680"/>
              <a:ext cx="574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Arial"/>
                </a:rPr>
                <a:t>x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33880" y="588960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800440" y="5897520"/>
            <a:ext cx="574560" cy="551160"/>
            <a:chOff x="2800440" y="5897520"/>
            <a:chExt cx="574560" cy="551160"/>
          </a:xfrm>
        </p:grpSpPr>
        <p:sp>
          <p:nvSpPr>
            <p:cNvPr id="338" name=""/>
            <p:cNvSpPr/>
            <p:nvPr/>
          </p:nvSpPr>
          <p:spPr>
            <a:xfrm>
              <a:off x="2800440" y="5943600"/>
              <a:ext cx="574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Arial"/>
                </a:rPr>
                <a:t>x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76120" y="589752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3075120" y="5054760"/>
            <a:ext cx="0" cy="779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84400" y="4983120"/>
            <a:ext cx="274176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960" y="514440"/>
            <a:ext cx="7772400" cy="628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recio Máxim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1238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os productores están dispuestos a producir una cantidad q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15320" y="1638360"/>
            <a:ext cx="33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5029200"/>
            <a:ext cx="0" cy="8380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843080" y="4695840"/>
            <a:ext cx="233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cio Máx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886360" y="2986200"/>
            <a:ext cx="2949840" cy="2001600"/>
            <a:chOff x="5886360" y="2986200"/>
            <a:chExt cx="2949840" cy="2001600"/>
          </a:xfrm>
        </p:grpSpPr>
        <p:graphicFrame>
          <p:nvGraphicFramePr>
            <p:cNvPr id="348" name=""/>
            <p:cNvGraphicFramePr/>
            <p:nvPr/>
          </p:nvGraphicFramePr>
          <p:xfrm>
            <a:off x="5886360" y="2986200"/>
            <a:ext cx="2949840" cy="20016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86360" y="2986200"/>
                      <a:ext cx="2949840" cy="200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0" name=""/>
            <p:cNvSpPr/>
            <p:nvPr/>
          </p:nvSpPr>
          <p:spPr>
            <a:xfrm>
              <a:off x="6210360" y="37018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29280" y="36640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082960" y="2508120"/>
            <a:ext cx="4395600" cy="3338640"/>
          </a:xfrm>
          <a:custGeom>
            <a:avLst/>
            <a:gdLst/>
            <a:ahLst/>
            <a:rect l="l" t="t" r="r" b="b"/>
            <a:pathLst>
              <a:path w="2769" h="2103">
                <a:moveTo>
                  <a:pt x="0" y="0"/>
                </a:moveTo>
                <a:lnTo>
                  <a:pt x="0" y="2102"/>
                </a:lnTo>
                <a:lnTo>
                  <a:pt x="2768" y="210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17760" y="2376360"/>
            <a:ext cx="47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51560" y="5742000"/>
            <a:ext cx="43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100240" y="3016080"/>
            <a:ext cx="3328920" cy="28339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28680" y="2889360"/>
            <a:ext cx="2862360" cy="2884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505120" y="2828880"/>
            <a:ext cx="518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98160" y="5288040"/>
            <a:ext cx="500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04440" y="4187880"/>
            <a:ext cx="60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65000" y="5870520"/>
            <a:ext cx="583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43480" y="3949560"/>
            <a:ext cx="384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20760" y="4465800"/>
            <a:ext cx="1614600" cy="1376280"/>
          </a:xfrm>
          <a:custGeom>
            <a:avLst/>
            <a:gdLst/>
            <a:ahLst/>
            <a:rect l="l" t="t" r="r" b="b"/>
            <a:pathLst>
              <a:path w="1017" h="867">
                <a:moveTo>
                  <a:pt x="0" y="0"/>
                </a:moveTo>
                <a:lnTo>
                  <a:pt x="1016" y="0"/>
                </a:lnTo>
                <a:lnTo>
                  <a:pt x="1016" y="866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08240" y="4741920"/>
            <a:ext cx="7772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987720" y="5889600"/>
            <a:ext cx="574560" cy="551160"/>
            <a:chOff x="3987720" y="5889600"/>
            <a:chExt cx="574560" cy="551160"/>
          </a:xfrm>
        </p:grpSpPr>
        <p:sp>
          <p:nvSpPr>
            <p:cNvPr id="365" name=""/>
            <p:cNvSpPr/>
            <p:nvPr/>
          </p:nvSpPr>
          <p:spPr>
            <a:xfrm>
              <a:off x="3987720" y="5935680"/>
              <a:ext cx="574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Arial"/>
                </a:rPr>
                <a:t>x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33880" y="588960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800440" y="5897520"/>
            <a:ext cx="574560" cy="551160"/>
            <a:chOff x="2800440" y="5897520"/>
            <a:chExt cx="574560" cy="551160"/>
          </a:xfrm>
        </p:grpSpPr>
        <p:sp>
          <p:nvSpPr>
            <p:cNvPr id="368" name=""/>
            <p:cNvSpPr/>
            <p:nvPr/>
          </p:nvSpPr>
          <p:spPr>
            <a:xfrm>
              <a:off x="2800440" y="5943600"/>
              <a:ext cx="574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Arial"/>
                </a:rPr>
                <a:t>x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76120" y="589752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439000" y="5454720"/>
            <a:ext cx="240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Exceso de Deman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75120" y="5054760"/>
            <a:ext cx="0" cy="779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084400" y="4983120"/>
            <a:ext cx="274176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3960" y="514440"/>
            <a:ext cx="7772400" cy="628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recio Máxim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6280" y="1085760"/>
            <a:ext cx="8248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cluye entonces, que existe una diferencia entre la cantidad ofrecida y la cantidad demandada que se conoce co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91120" y="5029200"/>
            <a:ext cx="0" cy="8380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16040" y="182880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afd00"/>
                </a:solidFill>
                <a:latin typeface="Arial"/>
              </a:rPr>
              <a:t>desabastecimient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s-ES_tradnl" sz="2400" spc="-1" strike="noStrike">
                <a:solidFill>
                  <a:srgbClr val="fafd00"/>
                </a:solidFill>
                <a:latin typeface="Arial"/>
              </a:rPr>
              <a:t>déficit de ofer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4843080" y="4695840"/>
            <a:ext cx="233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cio Máx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82960" y="2508120"/>
            <a:ext cx="4395600" cy="3338640"/>
          </a:xfrm>
          <a:custGeom>
            <a:avLst/>
            <a:gdLst/>
            <a:ahLst/>
            <a:rect l="l" t="t" r="r" b="b"/>
            <a:pathLst>
              <a:path w="2769" h="2103">
                <a:moveTo>
                  <a:pt x="0" y="0"/>
                </a:moveTo>
                <a:lnTo>
                  <a:pt x="0" y="2102"/>
                </a:lnTo>
                <a:lnTo>
                  <a:pt x="2768" y="210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17760" y="2376360"/>
            <a:ext cx="47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51560" y="5742000"/>
            <a:ext cx="43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100240" y="3016080"/>
            <a:ext cx="3328920" cy="28339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28680" y="2889360"/>
            <a:ext cx="2862360" cy="2884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05120" y="2828880"/>
            <a:ext cx="518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98160" y="5288040"/>
            <a:ext cx="500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04440" y="4187880"/>
            <a:ext cx="60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65000" y="5870520"/>
            <a:ext cx="583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43480" y="3949560"/>
            <a:ext cx="384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20760" y="4465800"/>
            <a:ext cx="1614600" cy="1376280"/>
          </a:xfrm>
          <a:custGeom>
            <a:avLst/>
            <a:gdLst/>
            <a:ahLst/>
            <a:rect l="l" t="t" r="r" b="b"/>
            <a:pathLst>
              <a:path w="1017" h="867">
                <a:moveTo>
                  <a:pt x="0" y="0"/>
                </a:moveTo>
                <a:lnTo>
                  <a:pt x="1016" y="0"/>
                </a:lnTo>
                <a:lnTo>
                  <a:pt x="1016" y="866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08240" y="4741920"/>
            <a:ext cx="7772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3987720" y="5889600"/>
            <a:ext cx="574560" cy="551160"/>
            <a:chOff x="3987720" y="5889600"/>
            <a:chExt cx="574560" cy="551160"/>
          </a:xfrm>
        </p:grpSpPr>
        <p:sp>
          <p:nvSpPr>
            <p:cNvPr id="391" name=""/>
            <p:cNvSpPr/>
            <p:nvPr/>
          </p:nvSpPr>
          <p:spPr>
            <a:xfrm>
              <a:off x="3987720" y="5935680"/>
              <a:ext cx="574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Arial"/>
                </a:rPr>
                <a:t>x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33880" y="588960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800440" y="5897520"/>
            <a:ext cx="574560" cy="551160"/>
            <a:chOff x="2800440" y="5897520"/>
            <a:chExt cx="574560" cy="551160"/>
          </a:xfrm>
        </p:grpSpPr>
        <p:sp>
          <p:nvSpPr>
            <p:cNvPr id="394" name=""/>
            <p:cNvSpPr/>
            <p:nvPr/>
          </p:nvSpPr>
          <p:spPr>
            <a:xfrm>
              <a:off x="2800440" y="5943600"/>
              <a:ext cx="574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Arial"/>
                </a:rPr>
                <a:t>x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76120" y="589752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3075120" y="5054760"/>
            <a:ext cx="0" cy="779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84400" y="4983120"/>
            <a:ext cx="274176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960" y="514440"/>
            <a:ext cx="7772400" cy="628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recio Máxim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91120" y="5029200"/>
            <a:ext cx="0" cy="8380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162240" y="4514760"/>
            <a:ext cx="547560" cy="519120"/>
            <a:chOff x="3162240" y="4514760"/>
            <a:chExt cx="547560" cy="519120"/>
          </a:xfrm>
        </p:grpSpPr>
        <p:sp>
          <p:nvSpPr>
            <p:cNvPr id="401" name=""/>
            <p:cNvSpPr/>
            <p:nvPr/>
          </p:nvSpPr>
          <p:spPr>
            <a:xfrm>
              <a:off x="3162240" y="451476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336" y="0"/>
                  </a:moveTo>
                  <a:lnTo>
                    <a:pt x="336" y="288"/>
                  </a:lnTo>
                  <a:lnTo>
                    <a:pt x="0" y="288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376800" y="466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657600" y="4533840"/>
            <a:ext cx="590400" cy="482760"/>
            <a:chOff x="3657600" y="4533840"/>
            <a:chExt cx="590400" cy="482760"/>
          </a:xfrm>
        </p:grpSpPr>
        <p:sp>
          <p:nvSpPr>
            <p:cNvPr id="404" name=""/>
            <p:cNvSpPr/>
            <p:nvPr/>
          </p:nvSpPr>
          <p:spPr>
            <a:xfrm>
              <a:off x="3714840" y="4533840"/>
              <a:ext cx="53316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0"/>
                  </a:moveTo>
                  <a:lnTo>
                    <a:pt x="0" y="288"/>
                  </a:lnTo>
                  <a:lnTo>
                    <a:pt x="336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0081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57600" y="464832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2805120" y="4640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6240" y="4667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66880" y="4944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76280" y="1085760"/>
            <a:ext cx="8248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 triángulo ABE es la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érdida de Bienestar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tribuyéndose en el   AEC, que es lo que pierde como excedente el productor y el   EBC, lo que pierde como excedente el consumid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86040" y="1486080"/>
            <a:ext cx="228600" cy="2286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29040" y="1828800"/>
            <a:ext cx="228600" cy="2286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FIJACIÓN DE PRECIOS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 autoridad tiene formas de intervenir los mercados, siendo  una  de  ellas la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5257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andantes con el precio máxi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648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erentes con el precio míni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50840" y="4003560"/>
            <a:ext cx="7102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que se pretende favorecer es 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19520"/>
            <a:ext cx="76964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fijación de precios de bienes y servicio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5144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Precio Mínim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38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 la autoridad económica fija un precio mínimo en el mercado del bi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01680" y="2363760"/>
            <a:ext cx="4503960" cy="3489480"/>
          </a:xfrm>
          <a:custGeom>
            <a:avLst/>
            <a:gdLst/>
            <a:ahLst/>
            <a:rect l="l" t="t" r="r" b="b"/>
            <a:pathLst>
              <a:path w="2837" h="2198">
                <a:moveTo>
                  <a:pt x="0" y="0"/>
                </a:moveTo>
                <a:lnTo>
                  <a:pt x="0" y="2197"/>
                </a:lnTo>
                <a:lnTo>
                  <a:pt x="2836" y="2197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5680" y="2228760"/>
            <a:ext cx="47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80440" y="5743440"/>
            <a:ext cx="43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119320" y="2896920"/>
            <a:ext cx="3413160" cy="29588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49560" y="2760840"/>
            <a:ext cx="3052800" cy="3055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09880" y="2701800"/>
            <a:ext cx="518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88520" y="5270400"/>
            <a:ext cx="500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12360" y="4121280"/>
            <a:ext cx="60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20440" y="5878440"/>
            <a:ext cx="583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73360" y="3900600"/>
            <a:ext cx="384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41640" y="4408560"/>
            <a:ext cx="1663560" cy="1490760"/>
          </a:xfrm>
          <a:custGeom>
            <a:avLst/>
            <a:gdLst/>
            <a:ahLst/>
            <a:rect l="l" t="t" r="r" b="b"/>
            <a:pathLst>
              <a:path w="1048" h="939">
                <a:moveTo>
                  <a:pt x="0" y="0"/>
                </a:moveTo>
                <a:lnTo>
                  <a:pt x="1047" y="0"/>
                </a:lnTo>
                <a:lnTo>
                  <a:pt x="1047" y="93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83120" y="3241800"/>
            <a:ext cx="7088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22560" y="3589200"/>
            <a:ext cx="324468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01880" y="3365640"/>
            <a:ext cx="226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cio Mín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5144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Precio Mínim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238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productor está dispuesto a producir una cantidad q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0640" y="1574640"/>
            <a:ext cx="33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01680" y="2363760"/>
            <a:ext cx="4503960" cy="3489480"/>
          </a:xfrm>
          <a:custGeom>
            <a:avLst/>
            <a:gdLst/>
            <a:ahLst/>
            <a:rect l="l" t="t" r="r" b="b"/>
            <a:pathLst>
              <a:path w="2837" h="2198">
                <a:moveTo>
                  <a:pt x="0" y="0"/>
                </a:moveTo>
                <a:lnTo>
                  <a:pt x="0" y="2197"/>
                </a:lnTo>
                <a:lnTo>
                  <a:pt x="2836" y="2197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5680" y="2228760"/>
            <a:ext cx="47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0440" y="5743440"/>
            <a:ext cx="43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119320" y="2896920"/>
            <a:ext cx="3413160" cy="29588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49560" y="2760840"/>
            <a:ext cx="3052800" cy="3055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09880" y="2701800"/>
            <a:ext cx="518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88520" y="5270400"/>
            <a:ext cx="500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12360" y="4121280"/>
            <a:ext cx="60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20440" y="5878440"/>
            <a:ext cx="583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00360" y="3871800"/>
            <a:ext cx="384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41640" y="4408560"/>
            <a:ext cx="1663560" cy="1490760"/>
          </a:xfrm>
          <a:custGeom>
            <a:avLst/>
            <a:gdLst/>
            <a:ahLst/>
            <a:rect l="l" t="t" r="r" b="b"/>
            <a:pathLst>
              <a:path w="1048" h="939">
                <a:moveTo>
                  <a:pt x="0" y="0"/>
                </a:moveTo>
                <a:lnTo>
                  <a:pt x="1047" y="0"/>
                </a:lnTo>
                <a:lnTo>
                  <a:pt x="1047" y="93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83120" y="3241800"/>
            <a:ext cx="7088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487040" y="5800680"/>
            <a:ext cx="565200" cy="586080"/>
            <a:chOff x="4487040" y="5800680"/>
            <a:chExt cx="565200" cy="586080"/>
          </a:xfrm>
        </p:grpSpPr>
        <p:sp>
          <p:nvSpPr>
            <p:cNvPr id="194" name=""/>
            <p:cNvSpPr/>
            <p:nvPr/>
          </p:nvSpPr>
          <p:spPr>
            <a:xfrm>
              <a:off x="4487040" y="5881680"/>
              <a:ext cx="565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Arial"/>
                </a:rPr>
                <a:t>x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78200" y="580068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122560" y="3589200"/>
            <a:ext cx="324468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01880" y="3365640"/>
            <a:ext cx="226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cio Mín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3581280"/>
            <a:ext cx="0" cy="22860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01680" y="2363760"/>
            <a:ext cx="4503960" cy="3489480"/>
          </a:xfrm>
          <a:custGeom>
            <a:avLst/>
            <a:gdLst/>
            <a:ahLst/>
            <a:rect l="l" t="t" r="r" b="b"/>
            <a:pathLst>
              <a:path w="2837" h="2198">
                <a:moveTo>
                  <a:pt x="0" y="0"/>
                </a:moveTo>
                <a:lnTo>
                  <a:pt x="0" y="2197"/>
                </a:lnTo>
                <a:lnTo>
                  <a:pt x="2836" y="2197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5680" y="2228760"/>
            <a:ext cx="47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80440" y="5743440"/>
            <a:ext cx="43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119320" y="2896920"/>
            <a:ext cx="3413160" cy="29588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49560" y="2760840"/>
            <a:ext cx="3052800" cy="3055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09880" y="2701800"/>
            <a:ext cx="518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88520" y="5270400"/>
            <a:ext cx="500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12360" y="4121280"/>
            <a:ext cx="60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20440" y="5878440"/>
            <a:ext cx="583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00360" y="3900600"/>
            <a:ext cx="384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41640" y="4408560"/>
            <a:ext cx="1663560" cy="1490760"/>
          </a:xfrm>
          <a:custGeom>
            <a:avLst/>
            <a:gdLst/>
            <a:ahLst/>
            <a:rect l="l" t="t" r="r" b="b"/>
            <a:pathLst>
              <a:path w="1048" h="939">
                <a:moveTo>
                  <a:pt x="0" y="0"/>
                </a:moveTo>
                <a:lnTo>
                  <a:pt x="1047" y="0"/>
                </a:lnTo>
                <a:lnTo>
                  <a:pt x="1047" y="93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83120" y="3241800"/>
            <a:ext cx="7088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87040" y="5881680"/>
            <a:ext cx="565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78200" y="5800680"/>
            <a:ext cx="33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54160" y="3618000"/>
            <a:ext cx="0" cy="22478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664360" y="5864400"/>
            <a:ext cx="565200" cy="555840"/>
            <a:chOff x="2664360" y="5864400"/>
            <a:chExt cx="565200" cy="555840"/>
          </a:xfrm>
        </p:grpSpPr>
        <p:sp>
          <p:nvSpPr>
            <p:cNvPr id="215" name=""/>
            <p:cNvSpPr/>
            <p:nvPr/>
          </p:nvSpPr>
          <p:spPr>
            <a:xfrm>
              <a:off x="2664360" y="5915160"/>
              <a:ext cx="565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Arial"/>
                </a:rPr>
                <a:t>x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44720" y="586440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122560" y="3589200"/>
            <a:ext cx="324468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01880" y="3365640"/>
            <a:ext cx="226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cio Mín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5144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Precio Mínim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238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or su parte el consumidor está dispuesto a demandar una cantidad q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09840" y="167652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3581280"/>
            <a:ext cx="0" cy="22860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01680" y="2363760"/>
            <a:ext cx="4503960" cy="3489480"/>
          </a:xfrm>
          <a:custGeom>
            <a:avLst/>
            <a:gdLst/>
            <a:ahLst/>
            <a:rect l="l" t="t" r="r" b="b"/>
            <a:pathLst>
              <a:path w="2837" h="2198">
                <a:moveTo>
                  <a:pt x="0" y="0"/>
                </a:moveTo>
                <a:lnTo>
                  <a:pt x="0" y="2197"/>
                </a:lnTo>
                <a:lnTo>
                  <a:pt x="2836" y="2197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5680" y="2228760"/>
            <a:ext cx="47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80440" y="5743440"/>
            <a:ext cx="43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119320" y="2896920"/>
            <a:ext cx="3413160" cy="29588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49560" y="2760840"/>
            <a:ext cx="3052800" cy="3055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09880" y="2701800"/>
            <a:ext cx="518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88520" y="5270400"/>
            <a:ext cx="500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12360" y="4121280"/>
            <a:ext cx="60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20440" y="5878440"/>
            <a:ext cx="583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00360" y="3871800"/>
            <a:ext cx="384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41640" y="4408560"/>
            <a:ext cx="1663560" cy="1490760"/>
          </a:xfrm>
          <a:custGeom>
            <a:avLst/>
            <a:gdLst/>
            <a:ahLst/>
            <a:rect l="l" t="t" r="r" b="b"/>
            <a:pathLst>
              <a:path w="1048" h="939">
                <a:moveTo>
                  <a:pt x="0" y="0"/>
                </a:moveTo>
                <a:lnTo>
                  <a:pt x="1047" y="0"/>
                </a:lnTo>
                <a:lnTo>
                  <a:pt x="1047" y="93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83120" y="3241800"/>
            <a:ext cx="7088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64360" y="5915160"/>
            <a:ext cx="565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87040" y="5881680"/>
            <a:ext cx="565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77840" y="5869080"/>
            <a:ext cx="32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54160" y="3618000"/>
            <a:ext cx="0" cy="22478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44720" y="586440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22560" y="3589200"/>
            <a:ext cx="324468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160" y="3092400"/>
            <a:ext cx="2332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Exceso de Ofe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01880" y="3365640"/>
            <a:ext cx="226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cio Mín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5144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Precio Mínim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6280" y="1085760"/>
            <a:ext cx="8248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genera entonces, una diferencia entre la cantidad ofrecida y la cantidad demandada que se conoce co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657760" y="3633840"/>
            <a:ext cx="2949840" cy="2001960"/>
            <a:chOff x="5657760" y="3633840"/>
            <a:chExt cx="2949840" cy="2001960"/>
          </a:xfrm>
        </p:grpSpPr>
        <p:graphicFrame>
          <p:nvGraphicFramePr>
            <p:cNvPr id="246" name=""/>
            <p:cNvGraphicFramePr/>
            <p:nvPr/>
          </p:nvGraphicFramePr>
          <p:xfrm>
            <a:off x="5657760" y="3633840"/>
            <a:ext cx="2949840" cy="20019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57760" y="3633840"/>
                      <a:ext cx="2949840" cy="200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8" name=""/>
            <p:cNvSpPr/>
            <p:nvPr/>
          </p:nvSpPr>
          <p:spPr>
            <a:xfrm>
              <a:off x="6005160" y="43020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24800" y="434016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724280" y="3581280"/>
            <a:ext cx="0" cy="22860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1828800"/>
            <a:ext cx="8248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ceso de ofer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éficit de deman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101680" y="2363760"/>
            <a:ext cx="4503960" cy="3489480"/>
          </a:xfrm>
          <a:custGeom>
            <a:avLst/>
            <a:gdLst/>
            <a:ahLst/>
            <a:rect l="l" t="t" r="r" b="b"/>
            <a:pathLst>
              <a:path w="2837" h="2198">
                <a:moveTo>
                  <a:pt x="0" y="0"/>
                </a:moveTo>
                <a:lnTo>
                  <a:pt x="0" y="2197"/>
                </a:lnTo>
                <a:lnTo>
                  <a:pt x="2836" y="2197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83000" y="2438280"/>
            <a:ext cx="47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80440" y="5743440"/>
            <a:ext cx="43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119320" y="2896920"/>
            <a:ext cx="3413160" cy="29588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49560" y="2760840"/>
            <a:ext cx="3052800" cy="3055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09880" y="2701800"/>
            <a:ext cx="518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88520" y="5270400"/>
            <a:ext cx="500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12360" y="4121280"/>
            <a:ext cx="60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20440" y="5878440"/>
            <a:ext cx="583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191120"/>
            <a:ext cx="384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4419720"/>
            <a:ext cx="1663560" cy="1490400"/>
          </a:xfrm>
          <a:custGeom>
            <a:avLst/>
            <a:gdLst/>
            <a:ahLst/>
            <a:rect l="l" t="t" r="r" b="b"/>
            <a:pathLst>
              <a:path w="1048" h="939">
                <a:moveTo>
                  <a:pt x="0" y="0"/>
                </a:moveTo>
                <a:lnTo>
                  <a:pt x="1047" y="0"/>
                </a:lnTo>
                <a:lnTo>
                  <a:pt x="1047" y="93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83120" y="3241800"/>
            <a:ext cx="7088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64360" y="5915160"/>
            <a:ext cx="565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87040" y="5881680"/>
            <a:ext cx="565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77840" y="5869080"/>
            <a:ext cx="32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54160" y="3618000"/>
            <a:ext cx="0" cy="22478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44720" y="586440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22560" y="3589200"/>
            <a:ext cx="324468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01880" y="3365640"/>
            <a:ext cx="226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cio Mín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5144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Precio Mínim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6280" y="1085760"/>
            <a:ext cx="8248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 triángulo ABE es la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érdida de Bienestar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tribuyéndose en el   ACE, que es lo que pierde como excedente el consumidor y el   CBE, lo que pierde como excedente el product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3581280"/>
            <a:ext cx="0" cy="22860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97280" y="312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9748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8344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35812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9880" y="3581280"/>
            <a:ext cx="914400" cy="83844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0" y="0"/>
                </a:moveTo>
                <a:lnTo>
                  <a:pt x="576" y="0"/>
                </a:lnTo>
                <a:lnTo>
                  <a:pt x="0" y="528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35812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0"/>
                </a:moveTo>
                <a:lnTo>
                  <a:pt x="528" y="0"/>
                </a:lnTo>
                <a:lnTo>
                  <a:pt x="528" y="528"/>
                </a:lnTo>
                <a:lnTo>
                  <a:pt x="0" y="0"/>
                </a:lnTo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39000" y="3621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48480" y="3621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24080" y="1752480"/>
            <a:ext cx="228600" cy="304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1447920"/>
            <a:ext cx="228600" cy="304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23960" y="514440"/>
            <a:ext cx="7772400" cy="628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recio Máxim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238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autoridad económica decide fijar un precio máximo 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 el mercado del bien X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43080" y="4695840"/>
            <a:ext cx="233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cio Máx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82960" y="2508120"/>
            <a:ext cx="4395600" cy="3338640"/>
          </a:xfrm>
          <a:custGeom>
            <a:avLst/>
            <a:gdLst/>
            <a:ahLst/>
            <a:rect l="l" t="t" r="r" b="b"/>
            <a:pathLst>
              <a:path w="2769" h="2103">
                <a:moveTo>
                  <a:pt x="0" y="0"/>
                </a:moveTo>
                <a:lnTo>
                  <a:pt x="0" y="2102"/>
                </a:lnTo>
                <a:lnTo>
                  <a:pt x="2768" y="210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17760" y="2376360"/>
            <a:ext cx="47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51560" y="5742000"/>
            <a:ext cx="43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100240" y="3098880"/>
            <a:ext cx="3208320" cy="27511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28680" y="2889360"/>
            <a:ext cx="2951280" cy="2952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05120" y="2828880"/>
            <a:ext cx="518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98160" y="5288040"/>
            <a:ext cx="500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04440" y="4187880"/>
            <a:ext cx="60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65000" y="5870520"/>
            <a:ext cx="583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43480" y="3949560"/>
            <a:ext cx="384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20760" y="4465800"/>
            <a:ext cx="1614600" cy="1376280"/>
          </a:xfrm>
          <a:custGeom>
            <a:avLst/>
            <a:gdLst/>
            <a:ahLst/>
            <a:rect l="l" t="t" r="r" b="b"/>
            <a:pathLst>
              <a:path w="1017" h="867">
                <a:moveTo>
                  <a:pt x="0" y="0"/>
                </a:moveTo>
                <a:lnTo>
                  <a:pt x="1016" y="0"/>
                </a:lnTo>
                <a:lnTo>
                  <a:pt x="1016" y="866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08240" y="4741920"/>
            <a:ext cx="7772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84400" y="4983120"/>
            <a:ext cx="274176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723960" y="514440"/>
            <a:ext cx="7772400" cy="628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recio Máxim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1238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os consumidores están dispuestos a demandar una cantidad q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9840" y="165744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843080" y="4695840"/>
            <a:ext cx="233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cio Máx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82960" y="2508120"/>
            <a:ext cx="4395600" cy="3338640"/>
          </a:xfrm>
          <a:custGeom>
            <a:avLst/>
            <a:gdLst/>
            <a:ahLst/>
            <a:rect l="l" t="t" r="r" b="b"/>
            <a:pathLst>
              <a:path w="2769" h="2103">
                <a:moveTo>
                  <a:pt x="0" y="0"/>
                </a:moveTo>
                <a:lnTo>
                  <a:pt x="0" y="2102"/>
                </a:lnTo>
                <a:lnTo>
                  <a:pt x="2768" y="210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17760" y="2376360"/>
            <a:ext cx="47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51560" y="5742000"/>
            <a:ext cx="43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100240" y="3098880"/>
            <a:ext cx="3208320" cy="27511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28680" y="2889360"/>
            <a:ext cx="2951280" cy="2952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05120" y="2828880"/>
            <a:ext cx="518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98160" y="5288040"/>
            <a:ext cx="500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04440" y="4187880"/>
            <a:ext cx="60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65000" y="5870520"/>
            <a:ext cx="583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43480" y="3949560"/>
            <a:ext cx="384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20760" y="4465800"/>
            <a:ext cx="1614600" cy="1376280"/>
          </a:xfrm>
          <a:custGeom>
            <a:avLst/>
            <a:gdLst/>
            <a:ahLst/>
            <a:rect l="l" t="t" r="r" b="b"/>
            <a:pathLst>
              <a:path w="1017" h="867">
                <a:moveTo>
                  <a:pt x="0" y="0"/>
                </a:moveTo>
                <a:lnTo>
                  <a:pt x="1016" y="0"/>
                </a:lnTo>
                <a:lnTo>
                  <a:pt x="1016" y="866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08240" y="4741920"/>
            <a:ext cx="7772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87720" y="5889600"/>
            <a:ext cx="574560" cy="551160"/>
            <a:chOff x="3987720" y="5889600"/>
            <a:chExt cx="574560" cy="551160"/>
          </a:xfrm>
        </p:grpSpPr>
        <p:sp>
          <p:nvSpPr>
            <p:cNvPr id="317" name=""/>
            <p:cNvSpPr/>
            <p:nvPr/>
          </p:nvSpPr>
          <p:spPr>
            <a:xfrm>
              <a:off x="3987720" y="5935680"/>
              <a:ext cx="574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Arial"/>
                </a:rPr>
                <a:t>x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33880" y="588960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084400" y="4983120"/>
            <a:ext cx="274176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91120" y="5029200"/>
            <a:ext cx="0" cy="8380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9T18:33:54Z</dcterms:created>
  <dc:creator>ISABEL BARROS &amp; PEDRO VALDES</dc:creator>
  <dc:description/>
  <dc:language>en-US</dc:language>
  <cp:lastModifiedBy>Laboratorio de Computación</cp:lastModifiedBy>
  <dcterms:modified xsi:type="dcterms:W3CDTF">1997-11-04T22:19:50Z</dcterms:modified>
  <cp:revision>13</cp:revision>
  <dc:subject/>
  <dc:title>FIJACIÓN DE PRECIOS</dc:title>
</cp:coreProperties>
</file>