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24160" y="76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6502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DRO VALDES VEL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" Target="slide5.xml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66680" y="2209680"/>
            <a:ext cx="8077320" cy="260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OFER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antidad Ofrecid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máxima cantidad de un bien o servicio por unidad de tiempo que un productor está dispuesto a producir a un determinado precio del bien, permaneciendo constante las otras vari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09640" y="2867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ambio en la cantidad ofrecida implica 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3526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movimiento a través de la curva de ofe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7543800" y="55627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12100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3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 producir bienes y servicios se requiere de factores productivos, los cuales se clasifican 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447560" y="762120"/>
            <a:ext cx="647676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CIO DE LOS FACTORES PRODUCTIVO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3581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114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4724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URSO NA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257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TOR EMPRESA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5961240" cy="35719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factor productivo que permite producir otros bienes (infraestructura). Su forma de pago se conoce como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674800" y="1447920"/>
            <a:ext cx="3794400" cy="4800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 productivo básico que consiste en el esfuerzo humano aplicado a la producción de riquezas. La remuneración se conoce  como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al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TOR TRABAJO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RSO NATURA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ierra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052640" y="1523880"/>
            <a:ext cx="3671640" cy="4800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800600" y="1200240"/>
            <a:ext cx="3475080" cy="44575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0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refiere a los recursos que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creados por el hombre y se pueden clasificar en Recursos Naturales Renovables y Recursos Naturales No Renovables. Su pago se denomina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e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57360" y="1600200"/>
            <a:ext cx="6027840" cy="46720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TOR EMPRESARI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factor que algunos autores definen como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sumir el riesgo de la gesti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Su remuneración se conoce como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Ut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érd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2263680"/>
            <a:ext cx="4573440" cy="3608640"/>
          </a:xfrm>
          <a:custGeom>
            <a:avLst/>
            <a:gdLst/>
            <a:ahLst/>
            <a:rect l="l" t="t" r="r" b="b"/>
            <a:pathLst>
              <a:path w="2881" h="2273">
                <a:moveTo>
                  <a:pt x="0" y="0"/>
                </a:moveTo>
                <a:lnTo>
                  <a:pt x="0" y="2272"/>
                </a:lnTo>
                <a:lnTo>
                  <a:pt x="2880" y="227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29520" y="586584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08640" y="578952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65440" y="579132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8440" y="23986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4040" y="382572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9400" y="46432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098960"/>
            <a:ext cx="2668680" cy="1754280"/>
          </a:xfrm>
          <a:custGeom>
            <a:avLst/>
            <a:gdLst/>
            <a:ahLst/>
            <a:rect l="l" t="t" r="r" b="b"/>
            <a:pathLst>
              <a:path w="1681" h="1105">
                <a:moveTo>
                  <a:pt x="0" y="0"/>
                </a:moveTo>
                <a:lnTo>
                  <a:pt x="1680" y="0"/>
                </a:lnTo>
                <a:lnTo>
                  <a:pt x="1680" y="110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9480" y="4098960"/>
            <a:ext cx="2654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114800"/>
            <a:ext cx="0" cy="17398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9480" y="4861080"/>
            <a:ext cx="186048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29320" y="447660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8600" y="449568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666880" y="3110040"/>
            <a:ext cx="2130480" cy="2135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76600" y="2301840"/>
            <a:ext cx="115524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FP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34200" y="373392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91640" y="375120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447920" y="3352680"/>
            <a:ext cx="2908080" cy="1752840"/>
            <a:chOff x="1447920" y="3352680"/>
            <a:chExt cx="2908080" cy="1752840"/>
          </a:xfrm>
        </p:grpSpPr>
        <p:sp>
          <p:nvSpPr>
            <p:cNvPr id="284" name=""/>
            <p:cNvSpPr/>
            <p:nvPr/>
          </p:nvSpPr>
          <p:spPr>
            <a:xfrm flipH="1">
              <a:off x="3124080" y="3352680"/>
              <a:ext cx="123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447920" y="5105520"/>
              <a:ext cx="123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681280" y="5307120"/>
            <a:ext cx="115524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FP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15880" y="58428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aumenta el precio de los factores productivo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294080" y="4044960"/>
          <a:ext cx="4370400" cy="13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4080" y="4044960"/>
                    <a:ext cx="4370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5720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inuye la cantidad produc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43000" y="3048120"/>
            <a:ext cx="2130480" cy="21351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>
            <a:off x="7543800" y="55627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12100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10255" y="3794"/>
                </a:lnTo>
                <a:lnTo>
                  <a:pt x="10255" y="17806"/>
                </a:lnTo>
                <a:lnTo>
                  <a:pt x="8593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NÁLISIS DE LAS VARIABLES INDEPENDIENT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89548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Arial"/>
              </a:rPr>
              <a:t>PRECIO DEL B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49fff"/>
                </a:solidFill>
                <a:latin typeface="Arial"/>
              </a:rPr>
              <a:t>PRECIO DE LOS FACTORES PRODU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818480" cy="19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manera de combinar los factores productivos en forma más efic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47712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ECNOLOG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hablar de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Ofer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 tiene que asociar al comportamiento  racional de lo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oduct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 más aún, de los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oductores potenciales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un bien o servic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4151160" y="3724200"/>
          <a:ext cx="4540320" cy="13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3724200"/>
                    <a:ext cx="454032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29520" y="565308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1752480"/>
            <a:ext cx="4573440" cy="3888000"/>
          </a:xfrm>
          <a:custGeom>
            <a:avLst/>
            <a:gdLst/>
            <a:ahLst/>
            <a:rect l="l" t="t" r="r" b="b"/>
            <a:pathLst>
              <a:path w="2881" h="2449">
                <a:moveTo>
                  <a:pt x="0" y="0"/>
                </a:moveTo>
                <a:lnTo>
                  <a:pt x="0" y="2448"/>
                </a:lnTo>
                <a:lnTo>
                  <a:pt x="2880" y="24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18280" y="556272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83000" y="5599080"/>
            <a:ext cx="5626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a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6120" y="19540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4040" y="361332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9400" y="44308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892680"/>
            <a:ext cx="0" cy="17398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117080" y="2511360"/>
            <a:ext cx="1876680" cy="25686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149480" y="3886200"/>
            <a:ext cx="2654280" cy="762120"/>
            <a:chOff x="1149480" y="3886200"/>
            <a:chExt cx="2654280" cy="762120"/>
          </a:xfrm>
        </p:grpSpPr>
        <p:sp>
          <p:nvSpPr>
            <p:cNvPr id="309" name=""/>
            <p:cNvSpPr/>
            <p:nvPr/>
          </p:nvSpPr>
          <p:spPr>
            <a:xfrm>
              <a:off x="1149480" y="3886200"/>
              <a:ext cx="265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149480" y="4643280"/>
              <a:ext cx="208728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123200" y="428004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93960" y="2664000"/>
            <a:ext cx="1876320" cy="25682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4040" y="2241720"/>
            <a:ext cx="9525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67520" y="348300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0360" y="352116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517760" y="3124080"/>
            <a:ext cx="2527200" cy="1752840"/>
            <a:chOff x="1517760" y="3124080"/>
            <a:chExt cx="2527200" cy="1752840"/>
          </a:xfrm>
        </p:grpSpPr>
        <p:sp>
          <p:nvSpPr>
            <p:cNvPr id="317" name=""/>
            <p:cNvSpPr/>
            <p:nvPr/>
          </p:nvSpPr>
          <p:spPr>
            <a:xfrm flipH="1">
              <a:off x="2813040" y="3124080"/>
              <a:ext cx="123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760" y="4876920"/>
              <a:ext cx="123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817720" y="5137200"/>
            <a:ext cx="9525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67760" y="4302000"/>
            <a:ext cx="380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538200" y="4996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aumenta la tecnología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335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menta la cantidad de producción del bien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38862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464832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84680" y="3911760"/>
            <a:ext cx="0" cy="1714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762120" y="3203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raslado de la curva de ofe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209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mbios en otras variables, tales como el precio de los factores productivos, tecnología   etc.,    produce  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URVA DE OFERTA DEL MERC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352680" y="2438280"/>
            <a:ext cx="1729080" cy="1881360"/>
          </a:xfrm>
          <a:custGeom>
            <a:avLst/>
            <a:gdLst/>
            <a:ahLst/>
            <a:rect l="l" t="t" r="r" b="b"/>
            <a:pathLst>
              <a:path w="1089" h="1185">
                <a:moveTo>
                  <a:pt x="0" y="0"/>
                </a:moveTo>
                <a:lnTo>
                  <a:pt x="0" y="1184"/>
                </a:lnTo>
                <a:lnTo>
                  <a:pt x="1088" y="11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2438280"/>
            <a:ext cx="1733400" cy="1881360"/>
          </a:xfrm>
          <a:custGeom>
            <a:avLst/>
            <a:gdLst/>
            <a:ahLst/>
            <a:rect l="l" t="t" r="r" b="b"/>
            <a:pathLst>
              <a:path w="1092" h="1185">
                <a:moveTo>
                  <a:pt x="0" y="0"/>
                </a:moveTo>
                <a:lnTo>
                  <a:pt x="0" y="1184"/>
                </a:lnTo>
                <a:lnTo>
                  <a:pt x="1091" y="11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77400" y="1814400"/>
            <a:ext cx="177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</a:rPr>
              <a:t>Empres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15680" y="1814400"/>
            <a:ext cx="177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</a:rPr>
              <a:t>Empres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59240" y="422280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5040" y="422280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63080" y="1814400"/>
            <a:ext cx="143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ff00"/>
                </a:solidFill>
                <a:latin typeface="Arial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914040" y="2844720"/>
            <a:ext cx="1397160" cy="10969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330720" y="2921040"/>
            <a:ext cx="1320480" cy="10206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3962520"/>
            <a:ext cx="4822920" cy="1440"/>
          </a:xfrm>
          <a:custGeom>
            <a:avLst/>
            <a:gdLst/>
            <a:ahLst/>
            <a:rect l="l" t="t" r="r" b="b"/>
            <a:pathLst>
              <a:path w="3038" h="1">
                <a:moveTo>
                  <a:pt x="0" y="0"/>
                </a:moveTo>
                <a:lnTo>
                  <a:pt x="3037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35877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35877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5080" y="38419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80" y="33847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5080" y="30034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04560" y="43750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61760" y="43750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3206880"/>
            <a:ext cx="0" cy="11300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42840" y="43750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00040" y="43750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54480" y="3224160"/>
            <a:ext cx="0" cy="11080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92480" y="2622600"/>
            <a:ext cx="617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7600" y="2709720"/>
            <a:ext cx="62640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3581280"/>
            <a:ext cx="5711760" cy="763560"/>
          </a:xfrm>
          <a:custGeom>
            <a:avLst/>
            <a:gdLst/>
            <a:ahLst/>
            <a:rect l="l" t="t" r="r" b="b"/>
            <a:pathLst>
              <a:path w="3598" h="481">
                <a:moveTo>
                  <a:pt x="0" y="0"/>
                </a:moveTo>
                <a:lnTo>
                  <a:pt x="3597" y="0"/>
                </a:lnTo>
                <a:lnTo>
                  <a:pt x="3597" y="48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3200400"/>
            <a:ext cx="6600960" cy="1144440"/>
          </a:xfrm>
          <a:custGeom>
            <a:avLst/>
            <a:gdLst/>
            <a:ahLst/>
            <a:rect l="l" t="t" r="r" b="b"/>
            <a:pathLst>
              <a:path w="4158" h="721">
                <a:moveTo>
                  <a:pt x="0" y="0"/>
                </a:moveTo>
                <a:lnTo>
                  <a:pt x="4157" y="0"/>
                </a:lnTo>
                <a:lnTo>
                  <a:pt x="4157" y="72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35520" y="2459160"/>
            <a:ext cx="2818080" cy="1903320"/>
          </a:xfrm>
          <a:custGeom>
            <a:avLst/>
            <a:gdLst/>
            <a:ahLst/>
            <a:rect l="l" t="t" r="r" b="b"/>
            <a:pathLst>
              <a:path w="1775" h="1199">
                <a:moveTo>
                  <a:pt x="0" y="0"/>
                </a:moveTo>
                <a:lnTo>
                  <a:pt x="0" y="1198"/>
                </a:lnTo>
                <a:lnTo>
                  <a:pt x="1774" y="119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49760" y="43736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35880" y="3063960"/>
            <a:ext cx="2057040" cy="9331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21320" y="435924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21760" y="2585880"/>
            <a:ext cx="130608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70560" y="4336920"/>
            <a:ext cx="518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87040" y="4849920"/>
            <a:ext cx="128916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+ q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URVA DE OFERTA DEL MERCADO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a horizontal de las ofertas individuales a los distintos precios del bi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unción Ofer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47360" y="2133720"/>
            <a:ext cx="8071200" cy="2504880"/>
            <a:chOff x="747360" y="2133720"/>
            <a:chExt cx="8071200" cy="2504880"/>
          </a:xfrm>
        </p:grpSpPr>
        <p:grpSp>
          <p:nvGrpSpPr>
            <p:cNvPr id="162" name=""/>
            <p:cNvGrpSpPr/>
            <p:nvPr/>
          </p:nvGrpSpPr>
          <p:grpSpPr>
            <a:xfrm>
              <a:off x="747360" y="3886200"/>
              <a:ext cx="628200" cy="730440"/>
              <a:chOff x="747360" y="3886200"/>
              <a:chExt cx="628200" cy="730440"/>
            </a:xfrm>
          </p:grpSpPr>
          <p:sp>
            <p:nvSpPr>
              <p:cNvPr id="163" name=""/>
              <p:cNvSpPr/>
              <p:nvPr/>
            </p:nvSpPr>
            <p:spPr>
              <a:xfrm>
                <a:off x="747360" y="3886200"/>
                <a:ext cx="435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1052280" y="3909960"/>
                <a:ext cx="323280" cy="706680"/>
                <a:chOff x="1052280" y="3909960"/>
                <a:chExt cx="323280" cy="7066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052280" y="4222800"/>
                  <a:ext cx="3232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2280" y="3909960"/>
                  <a:ext cx="320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747360" y="2133720"/>
              <a:ext cx="628200" cy="730440"/>
              <a:chOff x="747360" y="2133720"/>
              <a:chExt cx="628200" cy="730440"/>
            </a:xfrm>
          </p:grpSpPr>
          <p:sp>
            <p:nvSpPr>
              <p:cNvPr id="168" name=""/>
              <p:cNvSpPr/>
              <p:nvPr/>
            </p:nvSpPr>
            <p:spPr>
              <a:xfrm>
                <a:off x="747360" y="2133720"/>
                <a:ext cx="435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052280" y="2157480"/>
                <a:ext cx="323280" cy="706680"/>
                <a:chOff x="1052280" y="2157480"/>
                <a:chExt cx="323280" cy="7066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052280" y="2470320"/>
                  <a:ext cx="3232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2280" y="2157480"/>
                  <a:ext cx="320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1278000" y="2133720"/>
              <a:ext cx="75405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= f(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ecio del bien, Precio de los Factores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ductivos , Tecnología, Otras variables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11840" y="3962520"/>
              <a:ext cx="28911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ff"/>
                  </a:solidFill>
                  <a:latin typeface="Arial"/>
                </a:rPr>
                <a:t>= f(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, P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Arial"/>
                </a:rPr>
                <a:t>PF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, T, V</a:t>
              </a:r>
              <a:r>
                <a:rPr b="0" lang="es-ES_tradnl" sz="3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nde: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09480" y="1752480"/>
            <a:ext cx="627840" cy="730440"/>
            <a:chOff x="1509480" y="1752480"/>
            <a:chExt cx="627840" cy="730440"/>
          </a:xfrm>
        </p:grpSpPr>
        <p:sp>
          <p:nvSpPr>
            <p:cNvPr id="176" name=""/>
            <p:cNvSpPr/>
            <p:nvPr/>
          </p:nvSpPr>
          <p:spPr>
            <a:xfrm>
              <a:off x="1509480" y="1752480"/>
              <a:ext cx="435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814040" y="1776240"/>
              <a:ext cx="323280" cy="706680"/>
              <a:chOff x="1814040" y="1776240"/>
              <a:chExt cx="323280" cy="706680"/>
            </a:xfrm>
          </p:grpSpPr>
          <p:sp>
            <p:nvSpPr>
              <p:cNvPr id="178" name=""/>
              <p:cNvSpPr/>
              <p:nvPr/>
            </p:nvSpPr>
            <p:spPr>
              <a:xfrm>
                <a:off x="1814040" y="2089080"/>
                <a:ext cx="32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14040" y="1776240"/>
                <a:ext cx="3200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2348640" y="1768320"/>
            <a:ext cx="4962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Cantidad ofrecida del bien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9200" y="2438280"/>
            <a:ext cx="6188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48280" y="2530440"/>
            <a:ext cx="3179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recio del bien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4680" y="3124080"/>
            <a:ext cx="82476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F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46840" y="3216240"/>
            <a:ext cx="528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Precio de factores productiv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5800" y="3809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8640" y="3978360"/>
            <a:ext cx="224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Tecn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09840" y="4572000"/>
            <a:ext cx="612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7920" y="4587840"/>
            <a:ext cx="2941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Otras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NÁLISIS DE LAS VARIABLES INDEPENDIENT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IO DEL B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IO DE LOS FACTORES PRODU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6781680" y="29718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6781680" y="35053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6781680" y="44197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RECIO DEL BIE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2200" y="173196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ra analizar cómo afecta el precio a la cantidad ofrecida del bien, se mantienen constantes el resto de las variables independientes (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éteris Paribu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. Así, la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Función Ofert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queda definida com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719160" y="4648320"/>
            <a:ext cx="1964520" cy="730440"/>
            <a:chOff x="3719160" y="4648320"/>
            <a:chExt cx="1964520" cy="730440"/>
          </a:xfrm>
        </p:grpSpPr>
        <p:grpSp>
          <p:nvGrpSpPr>
            <p:cNvPr id="197" name=""/>
            <p:cNvGrpSpPr/>
            <p:nvPr/>
          </p:nvGrpSpPr>
          <p:grpSpPr>
            <a:xfrm>
              <a:off x="3719160" y="4648320"/>
              <a:ext cx="628200" cy="730440"/>
              <a:chOff x="3719160" y="4648320"/>
              <a:chExt cx="628200" cy="730440"/>
            </a:xfrm>
          </p:grpSpPr>
          <p:sp>
            <p:nvSpPr>
              <p:cNvPr id="198" name=""/>
              <p:cNvSpPr/>
              <p:nvPr/>
            </p:nvSpPr>
            <p:spPr>
              <a:xfrm>
                <a:off x="3719160" y="4648320"/>
                <a:ext cx="435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4024080" y="4672080"/>
                <a:ext cx="323280" cy="706680"/>
                <a:chOff x="4024080" y="4672080"/>
                <a:chExt cx="323280" cy="7066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024080" y="4984920"/>
                  <a:ext cx="3232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24080" y="4672080"/>
                  <a:ext cx="3200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" name=""/>
            <p:cNvSpPr/>
            <p:nvPr/>
          </p:nvSpPr>
          <p:spPr>
            <a:xfrm>
              <a:off x="4338000" y="4648320"/>
              <a:ext cx="134568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ffff"/>
                  </a:solidFill>
                  <a:latin typeface="Arial"/>
                </a:rPr>
                <a:t>= f(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s-ES_tradnl" sz="3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743200" y="2743200"/>
            <a:ext cx="3735360" cy="3125880"/>
          </a:xfrm>
          <a:custGeom>
            <a:avLst/>
            <a:gdLst/>
            <a:ahLst/>
            <a:rect l="l" t="t" r="r" b="b"/>
            <a:pathLst>
              <a:path w="2353" h="1969">
                <a:moveTo>
                  <a:pt x="0" y="0"/>
                </a:moveTo>
                <a:lnTo>
                  <a:pt x="0" y="1968"/>
                </a:lnTo>
                <a:lnTo>
                  <a:pt x="2352" y="196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7400" y="269892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65960" y="574668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17240" y="339732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60080" y="488808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2000" y="589932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3600" y="589932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609480"/>
            <a:ext cx="800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mentando el precio del bi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y permaneciendo constante el resto de las variabl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5105520"/>
            <a:ext cx="838080" cy="763560"/>
          </a:xfrm>
          <a:custGeom>
            <a:avLst/>
            <a:gdLst/>
            <a:ahLst/>
            <a:rect l="l" t="t" r="r" b="b"/>
            <a:pathLst>
              <a:path w="385" h="481">
                <a:moveTo>
                  <a:pt x="0" y="0"/>
                </a:moveTo>
                <a:lnTo>
                  <a:pt x="384" y="0"/>
                </a:lnTo>
                <a:lnTo>
                  <a:pt x="384" y="48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733920"/>
            <a:ext cx="2133720" cy="2135160"/>
          </a:xfrm>
          <a:custGeom>
            <a:avLst/>
            <a:gdLst/>
            <a:ahLst/>
            <a:rect l="l" t="t" r="r" b="b"/>
            <a:pathLst>
              <a:path w="1153" h="1345">
                <a:moveTo>
                  <a:pt x="0" y="0"/>
                </a:moveTo>
                <a:lnTo>
                  <a:pt x="1152" y="0"/>
                </a:lnTo>
                <a:lnTo>
                  <a:pt x="1152" y="134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3892680"/>
            <a:ext cx="0" cy="9014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7760" y="60958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47242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4290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8840" y="3048120"/>
            <a:ext cx="518040" cy="505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6002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productor está dispuesto a producir una mayor cant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790360" y="3171960"/>
            <a:ext cx="2667240" cy="26668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505320" y="3809880"/>
            <a:ext cx="106668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inuyendo  el  precio  del  bien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y permaneciendo constante el resto de las variabl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2666880"/>
            <a:ext cx="3735360" cy="3278160"/>
          </a:xfrm>
          <a:custGeom>
            <a:avLst/>
            <a:gdLst/>
            <a:ahLst/>
            <a:rect l="l" t="t" r="r" b="b"/>
            <a:pathLst>
              <a:path w="2353" h="2065">
                <a:moveTo>
                  <a:pt x="0" y="0"/>
                </a:moveTo>
                <a:lnTo>
                  <a:pt x="0" y="2064"/>
                </a:lnTo>
                <a:lnTo>
                  <a:pt x="2352" y="206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58320" y="2774880"/>
            <a:ext cx="425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23160" y="5823000"/>
            <a:ext cx="397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94960" y="345276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53560" y="5040360"/>
            <a:ext cx="507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9200" y="597528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9400" y="5975280"/>
            <a:ext cx="48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3809880"/>
            <a:ext cx="2133720" cy="2135160"/>
          </a:xfrm>
          <a:custGeom>
            <a:avLst/>
            <a:gdLst/>
            <a:ahLst/>
            <a:rect l="l" t="t" r="r" b="b"/>
            <a:pathLst>
              <a:path w="1297" h="1345">
                <a:moveTo>
                  <a:pt x="0" y="0"/>
                </a:moveTo>
                <a:lnTo>
                  <a:pt x="1296" y="0"/>
                </a:lnTo>
                <a:lnTo>
                  <a:pt x="1296" y="1344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0400" y="5257800"/>
            <a:ext cx="685800" cy="687240"/>
          </a:xfrm>
          <a:custGeom>
            <a:avLst/>
            <a:gdLst/>
            <a:ahLst/>
            <a:rect l="l" t="t" r="r" b="b"/>
            <a:pathLst>
              <a:path w="385" h="433">
                <a:moveTo>
                  <a:pt x="0" y="0"/>
                </a:moveTo>
                <a:lnTo>
                  <a:pt x="384" y="0"/>
                </a:lnTo>
                <a:lnTo>
                  <a:pt x="384" y="43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108320" y="6172200"/>
            <a:ext cx="851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3968640"/>
            <a:ext cx="0" cy="97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49528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42900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57200" y="3003480"/>
            <a:ext cx="461880" cy="435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_tradnl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6765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inuye también la cantidad ofrec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00400" y="3276720"/>
            <a:ext cx="2666880" cy="26668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86200" y="3885840"/>
            <a:ext cx="1066680" cy="10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unción Ofer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2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n las cantidades máximas de un bien o servicio por unidad de tiempo que un productor está dispuesto a producir a los distintos precios del bien X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aneciendo constante el precio de los factores productivo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FP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la tecnología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T)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otras variable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(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2T12:19:44Z</dcterms:created>
  <dc:creator>UDP</dc:creator>
  <dc:description/>
  <cp:keywords/>
  <dc:language>en-US</dc:language>
  <cp:lastModifiedBy>PEDRO VALDES VELOSO</cp:lastModifiedBy>
  <dcterms:modified xsi:type="dcterms:W3CDTF">2007-04-12T13:41:36Z</dcterms:modified>
  <cp:revision>38</cp:revision>
  <dc:subject/>
  <dc:title>OFERTA</dc:title>
</cp:coreProperties>
</file>