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6477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DRO VALDES VEL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2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" Target="slide15.xml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30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447920" y="1295280"/>
            <a:ext cx="67816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ECONOM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600200" y="4876920"/>
            <a:ext cx="7543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man Old Style"/>
              </a:rPr>
              <a:t>Pedro Valdes Velos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minuyendo el precio del bi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 permaneciendo constante el resto de las variabl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43200" y="2438280"/>
            <a:ext cx="3735360" cy="3125880"/>
          </a:xfrm>
          <a:custGeom>
            <a:avLst/>
            <a:gdLst/>
            <a:ahLst/>
            <a:rect l="l" t="t" r="r" b="b"/>
            <a:pathLst>
              <a:path w="2353" h="1969">
                <a:moveTo>
                  <a:pt x="0" y="0"/>
                </a:moveTo>
                <a:lnTo>
                  <a:pt x="0" y="1968"/>
                </a:lnTo>
                <a:lnTo>
                  <a:pt x="2352" y="196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01120" y="239400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65960" y="544212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37760" y="30718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96360" y="44308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2000" y="559440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2200" y="559440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3352680"/>
            <a:ext cx="534960" cy="2211480"/>
          </a:xfrm>
          <a:custGeom>
            <a:avLst/>
            <a:gdLst/>
            <a:ahLst/>
            <a:rect l="l" t="t" r="r" b="b"/>
            <a:pathLst>
              <a:path w="337" h="1393">
                <a:moveTo>
                  <a:pt x="0" y="0"/>
                </a:moveTo>
                <a:lnTo>
                  <a:pt x="336" y="0"/>
                </a:lnTo>
                <a:lnTo>
                  <a:pt x="336" y="13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4648320"/>
            <a:ext cx="2211480" cy="915840"/>
          </a:xfrm>
          <a:custGeom>
            <a:avLst/>
            <a:gdLst/>
            <a:ahLst/>
            <a:rect l="l" t="t" r="r" b="b"/>
            <a:pathLst>
              <a:path w="1393" h="577">
                <a:moveTo>
                  <a:pt x="0" y="0"/>
                </a:moveTo>
                <a:lnTo>
                  <a:pt x="1392" y="0"/>
                </a:lnTo>
                <a:lnTo>
                  <a:pt x="1392" y="57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532240" y="3553920"/>
            <a:ext cx="0" cy="6987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879720" y="571500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73320" y="3149640"/>
            <a:ext cx="2387520" cy="1854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76320" y="460368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360" y="3062160"/>
            <a:ext cx="280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64400" y="4251240"/>
            <a:ext cx="280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46600" y="3446640"/>
            <a:ext cx="1130040" cy="90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LEY  DE  DEMAND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e una relación inversa entre Precio y   Cantidad Demandada del b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4480" y="812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Demanda o Función de Demand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n las cantidades máximas de un bien o servicio por unidad de tiempo que un consumidor está dispuesto a consumir a los distintos precios del bien X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permaneciendo constante el precio de otros bienes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OB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el ingreso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(Y)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gustos de los consumidores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otras variables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(O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antidad Demandad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1840" y="2298600"/>
            <a:ext cx="80773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56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máxima cantidad de un bien o servicio por unidad de tiempo, que un consumidor está dispuesto a consumir a un determinado precio del bien, manteniendo constante las otras vari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09480" y="2666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cambio en la cantidad demandada implica 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31622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ovimiento a través de la curva de dema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7391520" y="5257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1" h="21600">
                <a:moveTo>
                  <a:pt x="18087" y="10800"/>
                </a:moveTo>
                <a:lnTo>
                  <a:pt x="28592" y="3794"/>
                </a:lnTo>
                <a:lnTo>
                  <a:pt x="28592" y="17806"/>
                </a:lnTo>
                <a:close/>
              </a:path>
              <a:path fill="darken" w="43171" h="21600">
                <a:moveTo>
                  <a:pt x="14579" y="3794"/>
                </a:moveTo>
                <a:lnTo>
                  <a:pt x="16241" y="3794"/>
                </a:lnTo>
                <a:lnTo>
                  <a:pt x="16241" y="17806"/>
                </a:lnTo>
                <a:lnTo>
                  <a:pt x="14579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l analizar la relación existente entre la 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antidad demandada de un bien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l 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precio de otros biene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se pueden definir los bienes 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47712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ECIO DE OTROS BIEN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33520" y="4343400"/>
            <a:ext cx="8076600" cy="1752480"/>
            <a:chOff x="533520" y="4343400"/>
            <a:chExt cx="8076600" cy="1752480"/>
          </a:xfrm>
        </p:grpSpPr>
        <p:sp>
          <p:nvSpPr>
            <p:cNvPr id="257" name=""/>
            <p:cNvSpPr/>
            <p:nvPr/>
          </p:nvSpPr>
          <p:spPr>
            <a:xfrm>
              <a:off x="533520" y="5562360"/>
              <a:ext cx="8076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3" marL="1600200" indent="-228600" algn="just">
                <a:lnSpc>
                  <a:spcPct val="100000"/>
                </a:lnSpc>
                <a:spcBef>
                  <a:spcPts val="700"/>
                </a:spcBef>
                <a:buClr>
                  <a:srgbClr val="d49fff"/>
                </a:buClr>
                <a:buSzPct val="65000"/>
                <a:buFont typeface="Monotype Sorts" charset="2"/>
                <a:buChar char="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BIENES NO RELACIONAD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3520" y="4419360"/>
              <a:ext cx="8076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55000"/>
            </a:bodyPr>
            <a:p>
              <a:pPr lvl="3" marL="879840" indent="-12564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3" marL="879840" indent="-125640" algn="just">
                <a:lnSpc>
                  <a:spcPct val="100000"/>
                </a:lnSpc>
                <a:spcBef>
                  <a:spcPts val="700"/>
                </a:spcBef>
                <a:buClr>
                  <a:srgbClr val="d49fff"/>
                </a:buClr>
                <a:buSzPct val="65000"/>
                <a:buFont typeface="Monotype Sorts" charset="2"/>
                <a:buChar char="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BIENES COMPLEMENTARI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3" marL="879840" indent="-12564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520" y="4343400"/>
              <a:ext cx="80766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3" marL="1600200" indent="-228600" algn="just">
                <a:lnSpc>
                  <a:spcPct val="100000"/>
                </a:lnSpc>
                <a:spcBef>
                  <a:spcPts val="700"/>
                </a:spcBef>
                <a:buClr>
                  <a:srgbClr val="d49fff"/>
                </a:buClr>
                <a:buSzPct val="65000"/>
                <a:buFont typeface="Monotype Sorts" charset="2"/>
                <a:buChar char="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BIENES SUSTITUT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7391520" y="44956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8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8" y="20200"/>
                </a:lnTo>
                <a:lnTo>
                  <a:pt x="58998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8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98" h="21600">
                <a:moveTo>
                  <a:pt x="23193" y="3794"/>
                </a:moveTo>
                <a:lnTo>
                  <a:pt x="37206" y="10800"/>
                </a:lnTo>
                <a:lnTo>
                  <a:pt x="23193" y="17806"/>
                </a:lnTo>
                <a:close/>
              </a:path>
            </a:pathLst>
          </a:cu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7391520" y="502920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3794"/>
                </a:moveTo>
                <a:lnTo>
                  <a:pt x="37234" y="10800"/>
                </a:lnTo>
                <a:lnTo>
                  <a:pt x="23221" y="17806"/>
                </a:lnTo>
                <a:close/>
              </a:path>
            </a:pathLst>
          </a:cu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7391520" y="56386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8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8" y="20200"/>
                </a:lnTo>
                <a:lnTo>
                  <a:pt x="58998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8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98" h="21600">
                <a:moveTo>
                  <a:pt x="23193" y="3794"/>
                </a:moveTo>
                <a:lnTo>
                  <a:pt x="37206" y="10800"/>
                </a:lnTo>
                <a:lnTo>
                  <a:pt x="23193" y="17806"/>
                </a:lnTo>
                <a:close/>
              </a:path>
            </a:pathLst>
          </a:cu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7238880" cy="20304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5413320" cy="1789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ENES SUSTITUTO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n aquellos que satisfacen una misma necesidad.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44600" y="515520"/>
            <a:ext cx="82756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 aumenta el precio del bien sustituto Z (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de 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a 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, la cantidad demandada disminuye de q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0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61200" y="542124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66400" y="26146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16400" y="2684520"/>
            <a:ext cx="3125520" cy="2744640"/>
          </a:xfrm>
          <a:custGeom>
            <a:avLst/>
            <a:gdLst/>
            <a:ahLst/>
            <a:rect l="l" t="t" r="r" b="b"/>
            <a:pathLst>
              <a:path w="1969" h="1729">
                <a:moveTo>
                  <a:pt x="0" y="0"/>
                </a:moveTo>
                <a:lnTo>
                  <a:pt x="0" y="1728"/>
                </a:lnTo>
                <a:lnTo>
                  <a:pt x="1968" y="17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15640" y="45910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8960" y="542916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86480" y="540864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41600" y="3395520"/>
            <a:ext cx="2311560" cy="2006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16400" y="3903840"/>
            <a:ext cx="610920" cy="1525320"/>
          </a:xfrm>
          <a:custGeom>
            <a:avLst/>
            <a:gdLst/>
            <a:ahLst/>
            <a:rect l="l" t="t" r="r" b="b"/>
            <a:pathLst>
              <a:path w="385" h="961">
                <a:moveTo>
                  <a:pt x="0" y="0"/>
                </a:moveTo>
                <a:lnTo>
                  <a:pt x="384" y="0"/>
                </a:lnTo>
                <a:lnTo>
                  <a:pt x="384" y="96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16400" y="4818240"/>
            <a:ext cx="1677960" cy="610920"/>
          </a:xfrm>
          <a:custGeom>
            <a:avLst/>
            <a:gdLst/>
            <a:ahLst/>
            <a:rect l="l" t="t" r="r" b="b"/>
            <a:pathLst>
              <a:path w="1057" h="385">
                <a:moveTo>
                  <a:pt x="0" y="0"/>
                </a:moveTo>
                <a:lnTo>
                  <a:pt x="1056" y="0"/>
                </a:lnTo>
                <a:lnTo>
                  <a:pt x="1056" y="38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35040" y="5605560"/>
            <a:ext cx="622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54320" y="406224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02680" y="4844880"/>
            <a:ext cx="4402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51920" y="368604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17960" y="3675240"/>
            <a:ext cx="280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85000" y="4513320"/>
            <a:ext cx="280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aumento del precio del bien sustituto (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... implica que la demanda del bien (D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aumenta o se desplaza hacia la derech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34640" y="58053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4573440" cy="3887640"/>
          </a:xfrm>
          <a:custGeom>
            <a:avLst/>
            <a:gdLst/>
            <a:ahLst/>
            <a:rect l="l" t="t" r="r" b="b"/>
            <a:pathLst>
              <a:path w="2881" h="2449">
                <a:moveTo>
                  <a:pt x="0" y="0"/>
                </a:moveTo>
                <a:lnTo>
                  <a:pt x="0" y="2448"/>
                </a:lnTo>
                <a:lnTo>
                  <a:pt x="2880" y="24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13760" y="572940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83200" y="575136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31240" y="210672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48800" y="376560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04520" y="48880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4038480"/>
            <a:ext cx="458640" cy="1754280"/>
          </a:xfrm>
          <a:custGeom>
            <a:avLst/>
            <a:gdLst/>
            <a:ahLst/>
            <a:rect l="l" t="t" r="r" b="b"/>
            <a:pathLst>
              <a:path w="289" h="1105">
                <a:moveTo>
                  <a:pt x="0" y="0"/>
                </a:moveTo>
                <a:lnTo>
                  <a:pt x="288" y="0"/>
                </a:lnTo>
                <a:lnTo>
                  <a:pt x="288" y="110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73320" y="3301920"/>
            <a:ext cx="1397160" cy="2463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07760" y="365112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6280" y="480204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7040" y="2997360"/>
            <a:ext cx="1625400" cy="2768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19400" y="378792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67040" y="490860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511440" y="3657600"/>
            <a:ext cx="2654280" cy="1828800"/>
            <a:chOff x="3511440" y="3657600"/>
            <a:chExt cx="2654280" cy="1828800"/>
          </a:xfrm>
        </p:grpSpPr>
        <p:sp>
          <p:nvSpPr>
            <p:cNvPr id="299" name=""/>
            <p:cNvSpPr/>
            <p:nvPr/>
          </p:nvSpPr>
          <p:spPr>
            <a:xfrm>
              <a:off x="3511440" y="3657600"/>
              <a:ext cx="1587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8480" y="548640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337000" y="3003480"/>
            <a:ext cx="10270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7320" y="3003480"/>
            <a:ext cx="10270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54240" y="4038480"/>
            <a:ext cx="27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518148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4038480"/>
            <a:ext cx="0" cy="17528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 algn="just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xiste una relación directa entre el precio del bien sustituto (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y la cantidad demandada del bien (q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2057400"/>
            <a:ext cx="3888000" cy="3506760"/>
          </a:xfrm>
          <a:custGeom>
            <a:avLst/>
            <a:gdLst/>
            <a:ahLst/>
            <a:rect l="l" t="t" r="r" b="b"/>
            <a:pathLst>
              <a:path w="2449" h="2209">
                <a:moveTo>
                  <a:pt x="0" y="0"/>
                </a:moveTo>
                <a:lnTo>
                  <a:pt x="0" y="2208"/>
                </a:lnTo>
                <a:lnTo>
                  <a:pt x="2448" y="220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86640" y="20350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31320" y="55785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89400" y="558648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72480" y="556416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45600" y="42148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79080" y="286380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66880" y="3124080"/>
            <a:ext cx="2820960" cy="2440080"/>
          </a:xfrm>
          <a:custGeom>
            <a:avLst/>
            <a:gdLst/>
            <a:ahLst/>
            <a:rect l="l" t="t" r="r" b="b"/>
            <a:pathLst>
              <a:path w="1777" h="1537">
                <a:moveTo>
                  <a:pt x="0" y="0"/>
                </a:moveTo>
                <a:lnTo>
                  <a:pt x="1776" y="0"/>
                </a:lnTo>
                <a:lnTo>
                  <a:pt x="1776" y="153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4419720"/>
            <a:ext cx="992160" cy="1144440"/>
          </a:xfrm>
          <a:custGeom>
            <a:avLst/>
            <a:gdLst/>
            <a:ahLst/>
            <a:rect l="l" t="t" r="r" b="b"/>
            <a:pathLst>
              <a:path w="625" h="721">
                <a:moveTo>
                  <a:pt x="0" y="0"/>
                </a:moveTo>
                <a:lnTo>
                  <a:pt x="624" y="0"/>
                </a:lnTo>
                <a:lnTo>
                  <a:pt x="624" y="72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073320" y="2565000"/>
            <a:ext cx="3149640" cy="23367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66680" y="2133720"/>
            <a:ext cx="8077320" cy="26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DEMAND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137440" y="301320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25640" y="716040"/>
            <a:ext cx="40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31080" y="839880"/>
            <a:ext cx="2455560" cy="2182680"/>
          </a:xfrm>
          <a:custGeom>
            <a:avLst/>
            <a:gdLst/>
            <a:ahLst/>
            <a:rect l="l" t="t" r="r" b="b"/>
            <a:pathLst>
              <a:path w="1547" h="1375">
                <a:moveTo>
                  <a:pt x="0" y="0"/>
                </a:moveTo>
                <a:lnTo>
                  <a:pt x="0" y="1374"/>
                </a:lnTo>
                <a:lnTo>
                  <a:pt x="1546" y="137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64520" y="233208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31680" y="3021120"/>
            <a:ext cx="44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07560" y="3022560"/>
            <a:ext cx="44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6280" y="1411200"/>
            <a:ext cx="1806480" cy="15843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31080" y="1809720"/>
            <a:ext cx="480960" cy="1212840"/>
          </a:xfrm>
          <a:custGeom>
            <a:avLst/>
            <a:gdLst/>
            <a:ahLst/>
            <a:rect l="l" t="t" r="r" b="b"/>
            <a:pathLst>
              <a:path w="303" h="764">
                <a:moveTo>
                  <a:pt x="0" y="0"/>
                </a:moveTo>
                <a:lnTo>
                  <a:pt x="302" y="0"/>
                </a:lnTo>
                <a:lnTo>
                  <a:pt x="302" y="763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31080" y="2536920"/>
            <a:ext cx="1377720" cy="485640"/>
          </a:xfrm>
          <a:custGeom>
            <a:avLst/>
            <a:gdLst/>
            <a:ahLst/>
            <a:rect l="l" t="t" r="r" b="b"/>
            <a:pathLst>
              <a:path w="868" h="306">
                <a:moveTo>
                  <a:pt x="0" y="0"/>
                </a:moveTo>
                <a:lnTo>
                  <a:pt x="867" y="0"/>
                </a:lnTo>
                <a:lnTo>
                  <a:pt x="867" y="305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741720" y="326232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186696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81680" y="2471760"/>
            <a:ext cx="41292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4520" y="150192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45000" y="321300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98720" y="533520"/>
            <a:ext cx="3786120" cy="2701800"/>
          </a:xfrm>
          <a:custGeom>
            <a:avLst/>
            <a:gdLst/>
            <a:ahLst/>
            <a:rect l="l" t="t" r="r" b="b"/>
            <a:pathLst>
              <a:path w="2385" h="1702">
                <a:moveTo>
                  <a:pt x="0" y="0"/>
                </a:moveTo>
                <a:lnTo>
                  <a:pt x="0" y="1701"/>
                </a:lnTo>
                <a:lnTo>
                  <a:pt x="2384" y="170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65040" y="320688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88720" y="318276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2600" y="717480"/>
            <a:ext cx="40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0480" y="172404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5160" y="256536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98720" y="2016000"/>
            <a:ext cx="338040" cy="4016520"/>
          </a:xfrm>
          <a:custGeom>
            <a:avLst/>
            <a:gdLst/>
            <a:ahLst/>
            <a:rect l="l" t="t" r="r" b="b"/>
            <a:pathLst>
              <a:path w="213" h="2530">
                <a:moveTo>
                  <a:pt x="0" y="0"/>
                </a:moveTo>
                <a:lnTo>
                  <a:pt x="212" y="0"/>
                </a:lnTo>
                <a:lnTo>
                  <a:pt x="212" y="2529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23920" y="1511280"/>
            <a:ext cx="1147680" cy="1697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53280" y="241308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89360" y="1300320"/>
            <a:ext cx="1338120" cy="1908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14440" y="2016000"/>
            <a:ext cx="1940040" cy="4005360"/>
          </a:xfrm>
          <a:custGeom>
            <a:avLst/>
            <a:gdLst/>
            <a:ahLst/>
            <a:rect l="l" t="t" r="r" b="b"/>
            <a:pathLst>
              <a:path w="1222" h="2523">
                <a:moveTo>
                  <a:pt x="0" y="0"/>
                </a:moveTo>
                <a:lnTo>
                  <a:pt x="1221" y="0"/>
                </a:lnTo>
                <a:lnTo>
                  <a:pt x="1221" y="252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1960" y="181620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04840" y="2757600"/>
            <a:ext cx="282564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15360" y="258912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88960" y="1751040"/>
            <a:ext cx="1298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73480" y="3022560"/>
            <a:ext cx="1298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54960" y="1333440"/>
            <a:ext cx="93708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54520" y="1333440"/>
            <a:ext cx="93708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03400" y="3747960"/>
            <a:ext cx="3646440" cy="2303640"/>
          </a:xfrm>
          <a:custGeom>
            <a:avLst/>
            <a:gdLst/>
            <a:ahLst/>
            <a:rect l="l" t="t" r="r" b="b"/>
            <a:pathLst>
              <a:path w="2297" h="1451">
                <a:moveTo>
                  <a:pt x="0" y="0"/>
                </a:moveTo>
                <a:lnTo>
                  <a:pt x="0" y="1450"/>
                </a:lnTo>
                <a:lnTo>
                  <a:pt x="2296" y="145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2200" y="3716280"/>
            <a:ext cx="40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35440" y="595944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09160" y="601344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87360" y="600696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9320" y="523548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400" y="435780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9480" y="4572000"/>
            <a:ext cx="21970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9480" y="548640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298520" y="4362480"/>
            <a:ext cx="2508480" cy="1257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376960" y="3767040"/>
          <a:ext cx="3030480" cy="22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6960" y="3767040"/>
                    <a:ext cx="3030480" cy="22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106640" y="2011320"/>
            <a:ext cx="2252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19240" y="2757600"/>
            <a:ext cx="2739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92600" y="15048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02680" y="22683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57920" y="168264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7238880" cy="20304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5413320" cy="17888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ENES SUSTITUTO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términos económicos, son aquellos que ante un alza en el precio de uno de ellos se origina un aumento de consumo o en la demanda de 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8001000" y="58672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ENES COMPLEMENTARIO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343400" y="2000160"/>
            <a:ext cx="4343400" cy="3079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5257800" y="3733920"/>
            <a:ext cx="2438280" cy="76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ZUC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521160" cy="4591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8056440" cy="14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os o más bienes son complementarios si el consumo de ellos debe hacerse simultáneam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60360" y="515520"/>
            <a:ext cx="83390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 aumenta el precio del bien complementario Z (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de 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a 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, la cantidad demandada disminuye de q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0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 q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00840" y="52959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7000" y="244620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68800" y="2536920"/>
            <a:ext cx="3125520" cy="2744640"/>
          </a:xfrm>
          <a:custGeom>
            <a:avLst/>
            <a:gdLst/>
            <a:ahLst/>
            <a:rect l="l" t="t" r="r" b="b"/>
            <a:pathLst>
              <a:path w="1969" h="1729">
                <a:moveTo>
                  <a:pt x="0" y="0"/>
                </a:moveTo>
                <a:lnTo>
                  <a:pt x="0" y="1728"/>
                </a:lnTo>
                <a:lnTo>
                  <a:pt x="1968" y="17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25200" y="446580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86560" y="526104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38880" y="526104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87880" y="3335400"/>
            <a:ext cx="2415960" cy="18795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68800" y="3755880"/>
            <a:ext cx="610920" cy="1525680"/>
          </a:xfrm>
          <a:custGeom>
            <a:avLst/>
            <a:gdLst/>
            <a:ahLst/>
            <a:rect l="l" t="t" r="r" b="b"/>
            <a:pathLst>
              <a:path w="385" h="961">
                <a:moveTo>
                  <a:pt x="0" y="0"/>
                </a:moveTo>
                <a:lnTo>
                  <a:pt x="384" y="0"/>
                </a:lnTo>
                <a:lnTo>
                  <a:pt x="384" y="96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68800" y="4670280"/>
            <a:ext cx="1753920" cy="611280"/>
          </a:xfrm>
          <a:custGeom>
            <a:avLst/>
            <a:gdLst/>
            <a:ahLst/>
            <a:rect l="l" t="t" r="r" b="b"/>
            <a:pathLst>
              <a:path w="1105" h="385">
                <a:moveTo>
                  <a:pt x="0" y="0"/>
                </a:moveTo>
                <a:lnTo>
                  <a:pt x="1104" y="0"/>
                </a:lnTo>
                <a:lnTo>
                  <a:pt x="1104" y="38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68640" y="39574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91720" y="4549680"/>
            <a:ext cx="4402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47160" y="353844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0200" y="3454560"/>
            <a:ext cx="2959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88160" y="4381560"/>
            <a:ext cx="2959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190760" y="548640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03200" y="54108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n aumento de precio  del bien complementario Z (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provoca que la demanda del bien D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sminuya o se desplace hacia la izquier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28080" y="597528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97680" y="593424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45160" y="593424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36720" y="2430360"/>
            <a:ext cx="4579920" cy="3514680"/>
          </a:xfrm>
          <a:custGeom>
            <a:avLst/>
            <a:gdLst/>
            <a:ahLst/>
            <a:rect l="l" t="t" r="r" b="b"/>
            <a:pathLst>
              <a:path w="2885" h="2214">
                <a:moveTo>
                  <a:pt x="0" y="0"/>
                </a:moveTo>
                <a:lnTo>
                  <a:pt x="0" y="2213"/>
                </a:lnTo>
                <a:lnTo>
                  <a:pt x="2884" y="2213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91400" y="240660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1920" y="387504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87000" y="499752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68760" y="3454560"/>
            <a:ext cx="1396800" cy="246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95280" y="382896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06200" y="488304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02120" y="3149640"/>
            <a:ext cx="1625760" cy="2768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4191120"/>
            <a:ext cx="2744640" cy="1753920"/>
          </a:xfrm>
          <a:custGeom>
            <a:avLst/>
            <a:gdLst/>
            <a:ahLst/>
            <a:rect l="l" t="t" r="r" b="b"/>
            <a:pathLst>
              <a:path w="1489" h="1105">
                <a:moveTo>
                  <a:pt x="0" y="0"/>
                </a:moveTo>
                <a:lnTo>
                  <a:pt x="1488" y="0"/>
                </a:lnTo>
                <a:lnTo>
                  <a:pt x="1488" y="110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93960" y="394020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19280" y="495612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206880" y="3809880"/>
            <a:ext cx="2654280" cy="1828800"/>
            <a:chOff x="3206880" y="3809880"/>
            <a:chExt cx="2654280" cy="1828800"/>
          </a:xfrm>
        </p:grpSpPr>
        <p:sp>
          <p:nvSpPr>
            <p:cNvPr id="408" name=""/>
            <p:cNvSpPr/>
            <p:nvPr/>
          </p:nvSpPr>
          <p:spPr>
            <a:xfrm>
              <a:off x="3206880" y="380988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73560" y="5638680"/>
              <a:ext cx="1587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790720" y="3224160"/>
            <a:ext cx="10270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100480" y="3203640"/>
            <a:ext cx="10270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4191120"/>
            <a:ext cx="225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4680" y="5257800"/>
            <a:ext cx="23256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4191120"/>
            <a:ext cx="0" cy="17524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da una relación inversa entre el precio del bien complementario (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y la cantidad demandada del bien (q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2209680"/>
            <a:ext cx="3659400" cy="3049560"/>
          </a:xfrm>
          <a:custGeom>
            <a:avLst/>
            <a:gdLst/>
            <a:ahLst/>
            <a:rect l="l" t="t" r="r" b="b"/>
            <a:pathLst>
              <a:path w="2305" h="1921">
                <a:moveTo>
                  <a:pt x="0" y="0"/>
                </a:moveTo>
                <a:lnTo>
                  <a:pt x="0" y="1920"/>
                </a:lnTo>
                <a:lnTo>
                  <a:pt x="2304" y="192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02760" y="290664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80440" y="395136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49840" y="525924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23200" y="526104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40560" y="216540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37360" y="521352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66880" y="3124080"/>
            <a:ext cx="534960" cy="2135160"/>
          </a:xfrm>
          <a:custGeom>
            <a:avLst/>
            <a:gdLst/>
            <a:ahLst/>
            <a:rect l="l" t="t" r="r" b="b"/>
            <a:pathLst>
              <a:path w="337" h="1345">
                <a:moveTo>
                  <a:pt x="0" y="0"/>
                </a:moveTo>
                <a:lnTo>
                  <a:pt x="336" y="0"/>
                </a:lnTo>
                <a:lnTo>
                  <a:pt x="336" y="134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4191120"/>
            <a:ext cx="2363760" cy="1068120"/>
          </a:xfrm>
          <a:custGeom>
            <a:avLst/>
            <a:gdLst/>
            <a:ahLst/>
            <a:rect l="l" t="t" r="r" b="b"/>
            <a:pathLst>
              <a:path w="1489" h="673">
                <a:moveTo>
                  <a:pt x="0" y="0"/>
                </a:moveTo>
                <a:lnTo>
                  <a:pt x="1488" y="0"/>
                </a:lnTo>
                <a:lnTo>
                  <a:pt x="1488" y="67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16280" y="2892600"/>
            <a:ext cx="2749320" cy="160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8080200" y="319392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80960" y="749160"/>
            <a:ext cx="40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838080"/>
            <a:ext cx="3125880" cy="2401920"/>
          </a:xfrm>
          <a:custGeom>
            <a:avLst/>
            <a:gdLst/>
            <a:ahLst/>
            <a:rect l="l" t="t" r="r" b="b"/>
            <a:pathLst>
              <a:path w="1969" h="1513">
                <a:moveTo>
                  <a:pt x="0" y="0"/>
                </a:moveTo>
                <a:lnTo>
                  <a:pt x="0" y="1512"/>
                </a:lnTo>
                <a:lnTo>
                  <a:pt x="1968" y="151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16960" y="236520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14240" y="3244680"/>
            <a:ext cx="44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25160" y="3225960"/>
            <a:ext cx="44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67320" y="1274760"/>
            <a:ext cx="2416320" cy="18795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10080" y="1695600"/>
            <a:ext cx="611280" cy="1525320"/>
          </a:xfrm>
          <a:custGeom>
            <a:avLst/>
            <a:gdLst/>
            <a:ahLst/>
            <a:rect l="l" t="t" r="r" b="b"/>
            <a:pathLst>
              <a:path w="385" h="961">
                <a:moveTo>
                  <a:pt x="0" y="0"/>
                </a:moveTo>
                <a:lnTo>
                  <a:pt x="384" y="0"/>
                </a:lnTo>
                <a:lnTo>
                  <a:pt x="384" y="96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52920" y="2611440"/>
            <a:ext cx="1754280" cy="611280"/>
          </a:xfrm>
          <a:custGeom>
            <a:avLst/>
            <a:gdLst/>
            <a:ahLst/>
            <a:rect l="l" t="t" r="r" b="b"/>
            <a:pathLst>
              <a:path w="1105" h="385">
                <a:moveTo>
                  <a:pt x="0" y="0"/>
                </a:moveTo>
                <a:lnTo>
                  <a:pt x="1104" y="0"/>
                </a:lnTo>
                <a:lnTo>
                  <a:pt x="1104" y="38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275520" y="3441600"/>
            <a:ext cx="622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3120" y="183672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70720" y="2535120"/>
            <a:ext cx="41292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96080" y="146052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41040" y="711360"/>
            <a:ext cx="40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79840" y="181764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79840" y="255276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43480" y="411804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98920" y="487692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040" y="3701880"/>
            <a:ext cx="40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20480" y="590400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55640" y="591804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05280" y="331776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30080" y="323208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55400" y="321156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43160" y="685800"/>
            <a:ext cx="2649240" cy="2576520"/>
          </a:xfrm>
          <a:custGeom>
            <a:avLst/>
            <a:gdLst/>
            <a:ahLst/>
            <a:rect l="l" t="t" r="r" b="b"/>
            <a:pathLst>
              <a:path w="1669" h="1623">
                <a:moveTo>
                  <a:pt x="0" y="0"/>
                </a:moveTo>
                <a:lnTo>
                  <a:pt x="0" y="1622"/>
                </a:lnTo>
                <a:lnTo>
                  <a:pt x="1668" y="16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095560"/>
            <a:ext cx="230040" cy="3811680"/>
          </a:xfrm>
          <a:custGeom>
            <a:avLst/>
            <a:gdLst/>
            <a:ahLst/>
            <a:rect l="l" t="t" r="r" b="b"/>
            <a:pathLst>
              <a:path w="145" h="2401">
                <a:moveTo>
                  <a:pt x="0" y="0"/>
                </a:moveTo>
                <a:lnTo>
                  <a:pt x="144" y="0"/>
                </a:lnTo>
                <a:lnTo>
                  <a:pt x="144" y="240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68360" y="1617840"/>
            <a:ext cx="787320" cy="1617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42320" y="199548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72440" y="271296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29000" y="1495440"/>
            <a:ext cx="879480" cy="1768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63840" y="2100240"/>
            <a:ext cx="1244520" cy="3807000"/>
          </a:xfrm>
          <a:custGeom>
            <a:avLst/>
            <a:gdLst/>
            <a:ahLst/>
            <a:rect l="l" t="t" r="r" b="b"/>
            <a:pathLst>
              <a:path w="784" h="2398">
                <a:moveTo>
                  <a:pt x="0" y="0"/>
                </a:moveTo>
                <a:lnTo>
                  <a:pt x="783" y="0"/>
                </a:lnTo>
                <a:lnTo>
                  <a:pt x="783" y="2397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96200" y="193680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45400" y="265104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90560" y="1922400"/>
            <a:ext cx="912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32000" y="3059280"/>
            <a:ext cx="912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42040" y="1454040"/>
            <a:ext cx="93708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61160" y="1454040"/>
            <a:ext cx="93708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52520" y="3772080"/>
            <a:ext cx="2333520" cy="2139840"/>
          </a:xfrm>
          <a:custGeom>
            <a:avLst/>
            <a:gdLst/>
            <a:ahLst/>
            <a:rect l="l" t="t" r="r" b="b"/>
            <a:pathLst>
              <a:path w="1470" h="1348">
                <a:moveTo>
                  <a:pt x="0" y="0"/>
                </a:moveTo>
                <a:lnTo>
                  <a:pt x="0" y="1347"/>
                </a:lnTo>
                <a:lnTo>
                  <a:pt x="1469" y="134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51320" y="589284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59080" y="4255920"/>
            <a:ext cx="1733400" cy="1113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52520" y="5143680"/>
            <a:ext cx="1476360" cy="1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39920" y="4338720"/>
            <a:ext cx="253800" cy="4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65120" y="2095560"/>
            <a:ext cx="1409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78080" y="2793960"/>
            <a:ext cx="1765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5410080" y="3733920"/>
          <a:ext cx="2944800" cy="222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733920"/>
                    <a:ext cx="294480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5985000" y="13572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148520" y="2289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ENES COMPLEMENTARIO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343400" y="2000160"/>
            <a:ext cx="4343400" cy="30798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5257800" y="3733920"/>
            <a:ext cx="2438280" cy="76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ZUC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521160" cy="459108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056800" cy="220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términos económicos, son aquellos que ante un alza en el precio de uno de ellos se origina una disminución de consumo o de la demanda de 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>
            <a:hlinkClick r:id="rId3" action="ppaction://hlinksldjump"/>
          </p:cNvPr>
          <p:cNvSpPr/>
          <p:nvPr/>
        </p:nvSpPr>
        <p:spPr>
          <a:xfrm>
            <a:off x="7848720" y="5638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8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ENES NO RELACIONADO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444840" cy="25923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5257800" y="3124080"/>
            <a:ext cx="3029040" cy="29592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bienes que no tienen ninguna relación entre ellos, por lo tanto ante un aumento en el precio del bien Z (no relacionado), la cantidad demandada del bien X no se altera, por lo que su demanda también permanece inalter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257480" y="749160"/>
            <a:ext cx="2884320" cy="2641680"/>
          </a:xfrm>
          <a:custGeom>
            <a:avLst/>
            <a:gdLst/>
            <a:ahLst/>
            <a:rect l="l" t="t" r="r" b="b"/>
            <a:pathLst>
              <a:path w="1817" h="1664">
                <a:moveTo>
                  <a:pt x="0" y="0"/>
                </a:moveTo>
                <a:lnTo>
                  <a:pt x="0" y="1663"/>
                </a:lnTo>
                <a:lnTo>
                  <a:pt x="1816" y="16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61520" y="336240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52360" y="334152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90600" y="1630440"/>
            <a:ext cx="387360" cy="2485800"/>
          </a:xfrm>
          <a:custGeom>
            <a:avLst/>
            <a:gdLst/>
            <a:ahLst/>
            <a:rect l="l" t="t" r="r" b="b"/>
            <a:pathLst>
              <a:path w="244" h="1566">
                <a:moveTo>
                  <a:pt x="0" y="0"/>
                </a:moveTo>
                <a:lnTo>
                  <a:pt x="243" y="0"/>
                </a:lnTo>
                <a:lnTo>
                  <a:pt x="243" y="1565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90600" y="2666880"/>
            <a:ext cx="1909800" cy="723960"/>
          </a:xfrm>
          <a:custGeom>
            <a:avLst/>
            <a:gdLst/>
            <a:ahLst/>
            <a:rect l="l" t="t" r="r" b="b"/>
            <a:pathLst>
              <a:path w="1203" h="456">
                <a:moveTo>
                  <a:pt x="0" y="0"/>
                </a:moveTo>
                <a:lnTo>
                  <a:pt x="1202" y="0"/>
                </a:lnTo>
                <a:lnTo>
                  <a:pt x="1202" y="455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9360" y="1503360"/>
            <a:ext cx="2166840" cy="14112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96680" y="1430280"/>
            <a:ext cx="714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23800" y="2398680"/>
            <a:ext cx="714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683520" y="2828880"/>
            <a:ext cx="93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54680" y="1087560"/>
            <a:ext cx="93708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7560" y="139716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27560" y="245124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77600" y="731880"/>
            <a:ext cx="40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810400" y="768240"/>
            <a:ext cx="2381040" cy="2610000"/>
          </a:xfrm>
          <a:custGeom>
            <a:avLst/>
            <a:gdLst/>
            <a:ahLst/>
            <a:rect l="l" t="t" r="r" b="b"/>
            <a:pathLst>
              <a:path w="1500" h="1644">
                <a:moveTo>
                  <a:pt x="0" y="0"/>
                </a:moveTo>
                <a:lnTo>
                  <a:pt x="0" y="1643"/>
                </a:lnTo>
                <a:lnTo>
                  <a:pt x="1499" y="16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09120" y="3486240"/>
            <a:ext cx="44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990480" y="3486240"/>
            <a:ext cx="44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50040" y="343548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10400" y="1636560"/>
            <a:ext cx="374400" cy="1792440"/>
          </a:xfrm>
          <a:custGeom>
            <a:avLst/>
            <a:gdLst/>
            <a:ahLst/>
            <a:rect l="l" t="t" r="r" b="b"/>
            <a:pathLst>
              <a:path w="236" h="1129">
                <a:moveTo>
                  <a:pt x="0" y="0"/>
                </a:moveTo>
                <a:lnTo>
                  <a:pt x="235" y="0"/>
                </a:lnTo>
                <a:lnTo>
                  <a:pt x="235" y="112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10400" y="2557440"/>
            <a:ext cx="1353960" cy="820800"/>
          </a:xfrm>
          <a:custGeom>
            <a:avLst/>
            <a:gdLst/>
            <a:ahLst/>
            <a:rect l="l" t="t" r="r" b="b"/>
            <a:pathLst>
              <a:path w="853" h="517">
                <a:moveTo>
                  <a:pt x="0" y="0"/>
                </a:moveTo>
                <a:lnTo>
                  <a:pt x="852" y="0"/>
                </a:lnTo>
                <a:lnTo>
                  <a:pt x="852" y="51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731000" y="2719440"/>
            <a:ext cx="41292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94600" y="139860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26560" y="235440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93880" y="677880"/>
            <a:ext cx="40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457680" y="3579840"/>
            <a:ext cx="571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95560" y="3692520"/>
            <a:ext cx="3082680" cy="2013120"/>
          </a:xfrm>
          <a:custGeom>
            <a:avLst/>
            <a:gdLst/>
            <a:ahLst/>
            <a:rect l="l" t="t" r="r" b="b"/>
            <a:pathLst>
              <a:path w="1942" h="1268">
                <a:moveTo>
                  <a:pt x="0" y="0"/>
                </a:moveTo>
                <a:lnTo>
                  <a:pt x="0" y="1267"/>
                </a:lnTo>
                <a:lnTo>
                  <a:pt x="1941" y="12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21200" y="565956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83840" y="568476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3880" y="3632040"/>
            <a:ext cx="40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5760" y="421812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4320" y="495288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233360" y="4412880"/>
            <a:ext cx="436680" cy="176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021200" y="340344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4140360"/>
            <a:ext cx="0" cy="15490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25440" y="5181480"/>
            <a:ext cx="444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630760" y="184788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4724280" y="3962520"/>
          <a:ext cx="3030480" cy="222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962520"/>
                    <a:ext cx="303048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1255680" y="163044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33360" y="2666880"/>
            <a:ext cx="197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75440" y="1336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69040" y="2289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1523880"/>
            <a:ext cx="1304640" cy="1152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>
            <a:hlinkClick r:id="rId3" action="ppaction://hlinksldjump"/>
          </p:cNvPr>
          <p:cNvSpPr/>
          <p:nvPr/>
        </p:nvSpPr>
        <p:spPr>
          <a:xfrm>
            <a:off x="7696080" y="57913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5019" y="10800"/>
                </a:moveTo>
                <a:lnTo>
                  <a:pt x="25524" y="3794"/>
                </a:lnTo>
                <a:lnTo>
                  <a:pt x="25524" y="17806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13173" y="3794"/>
                </a:lnTo>
                <a:lnTo>
                  <a:pt x="13173" y="17806"/>
                </a:lnTo>
                <a:lnTo>
                  <a:pt x="11511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hablar de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emand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 tiene que asociar al comportamiento  racional de los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nsumid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 más aún, de los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nsumidores potenciales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un bien o servic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 N G R E S O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iendo de la relación existente entre el ingreso y la cantidad demandada del bien o servicio, los bienes se pueden clasificar 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23880" y="43434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3" marL="1600200" indent="-228600" algn="just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U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ERI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6477120" y="44197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>
            <a:hlinkClick r:id="rId1" action="ppaction://hlinksldjump"/>
          </p:cNvPr>
          <p:cNvSpPr/>
          <p:nvPr/>
        </p:nvSpPr>
        <p:spPr>
          <a:xfrm>
            <a:off x="6477120" y="4952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3794"/>
                </a:moveTo>
                <a:lnTo>
                  <a:pt x="39366" y="10800"/>
                </a:lnTo>
                <a:lnTo>
                  <a:pt x="25353" y="1780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>
            <a:hlinkClick r:id="rId2" action="ppaction://hlinksldjump"/>
          </p:cNvPr>
          <p:cNvSpPr/>
          <p:nvPr/>
        </p:nvSpPr>
        <p:spPr>
          <a:xfrm>
            <a:off x="6477120" y="54864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ENES NORMA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aquellos en que existe una relación directa entre el ingreso y la cantidad demandada del bien. Son conocidos también como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ienes superior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aumento del ingreso (Y), hace que la demanda de un bien normal (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umente o se desplace hacia la derecha (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2133720"/>
            <a:ext cx="3735360" cy="3506760"/>
          </a:xfrm>
          <a:custGeom>
            <a:avLst/>
            <a:gdLst/>
            <a:ahLst/>
            <a:rect l="l" t="t" r="r" b="b"/>
            <a:pathLst>
              <a:path w="2353" h="2209">
                <a:moveTo>
                  <a:pt x="0" y="0"/>
                </a:moveTo>
                <a:lnTo>
                  <a:pt x="0" y="2208"/>
                </a:lnTo>
                <a:lnTo>
                  <a:pt x="2352" y="220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53560" y="296244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610720" y="425772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24840" y="212400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03880" y="558972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3200400"/>
            <a:ext cx="687600" cy="2440080"/>
          </a:xfrm>
          <a:custGeom>
            <a:avLst/>
            <a:gdLst/>
            <a:ahLst/>
            <a:rect l="l" t="t" r="r" b="b"/>
            <a:pathLst>
              <a:path w="433" h="1537">
                <a:moveTo>
                  <a:pt x="0" y="0"/>
                </a:moveTo>
                <a:lnTo>
                  <a:pt x="432" y="0"/>
                </a:lnTo>
                <a:lnTo>
                  <a:pt x="432" y="153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43320" y="2463840"/>
            <a:ext cx="1854000" cy="2997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98240" y="4886280"/>
            <a:ext cx="95256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49840" y="2387520"/>
            <a:ext cx="1854000" cy="3073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99720" y="4832280"/>
            <a:ext cx="95256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11240" y="282564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47720" y="292752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36720" y="413388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09840" y="422280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30560" y="4502160"/>
            <a:ext cx="1517760" cy="3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664080" y="2666880"/>
            <a:ext cx="1892160" cy="1295640"/>
            <a:chOff x="3664080" y="2666880"/>
            <a:chExt cx="1892160" cy="1295640"/>
          </a:xfrm>
        </p:grpSpPr>
        <p:sp>
          <p:nvSpPr>
            <p:cNvPr id="552" name=""/>
            <p:cNvSpPr/>
            <p:nvPr/>
          </p:nvSpPr>
          <p:spPr>
            <a:xfrm>
              <a:off x="3664080" y="2666880"/>
              <a:ext cx="1130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25840" y="3962520"/>
              <a:ext cx="113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997880" y="559116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41880" y="5829480"/>
            <a:ext cx="584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621840" y="562752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4505400"/>
            <a:ext cx="2895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81480" y="3219480"/>
            <a:ext cx="0" cy="24573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24080" y="320040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bien normal tiene una relación directa entre ingreso (Y) y la cantidad demandada del bien (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. Es decir, si aumenta el ingr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95480" y="3124080"/>
            <a:ext cx="4040280" cy="2745000"/>
          </a:xfrm>
          <a:custGeom>
            <a:avLst/>
            <a:gdLst/>
            <a:ahLst/>
            <a:rect l="l" t="t" r="r" b="b"/>
            <a:pathLst>
              <a:path w="2545" h="1729">
                <a:moveTo>
                  <a:pt x="0" y="0"/>
                </a:moveTo>
                <a:lnTo>
                  <a:pt x="0" y="1728"/>
                </a:lnTo>
                <a:lnTo>
                  <a:pt x="2544" y="17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87600" y="30798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47200" y="589932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44760" y="460368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21160" y="582768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4800600"/>
            <a:ext cx="916200" cy="1068480"/>
          </a:xfrm>
          <a:custGeom>
            <a:avLst/>
            <a:gdLst/>
            <a:ahLst/>
            <a:rect l="l" t="t" r="r" b="b"/>
            <a:pathLst>
              <a:path w="577" h="673">
                <a:moveTo>
                  <a:pt x="0" y="0"/>
                </a:moveTo>
                <a:lnTo>
                  <a:pt x="576" y="0"/>
                </a:lnTo>
                <a:lnTo>
                  <a:pt x="576" y="67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487600" y="362592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93000" y="580536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95480" y="3886200"/>
            <a:ext cx="2592360" cy="1982880"/>
          </a:xfrm>
          <a:custGeom>
            <a:avLst/>
            <a:gdLst/>
            <a:ahLst/>
            <a:rect l="l" t="t" r="r" b="b"/>
            <a:pathLst>
              <a:path w="1633" h="1249">
                <a:moveTo>
                  <a:pt x="0" y="0"/>
                </a:moveTo>
                <a:lnTo>
                  <a:pt x="1632" y="0"/>
                </a:lnTo>
                <a:lnTo>
                  <a:pt x="1632" y="124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454560" y="3479400"/>
            <a:ext cx="2768400" cy="1498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717640" y="3997080"/>
            <a:ext cx="0" cy="5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89320" y="607392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1800" y="18288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 la cantidad demandada también aum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765440" y="565200"/>
            <a:ext cx="2962080" cy="2624040"/>
          </a:xfrm>
          <a:custGeom>
            <a:avLst/>
            <a:gdLst/>
            <a:ahLst/>
            <a:rect l="l" t="t" r="r" b="b"/>
            <a:pathLst>
              <a:path w="1866" h="1653">
                <a:moveTo>
                  <a:pt x="0" y="0"/>
                </a:moveTo>
                <a:lnTo>
                  <a:pt x="0" y="1652"/>
                </a:lnTo>
                <a:lnTo>
                  <a:pt x="1865" y="16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11120" y="1122480"/>
            <a:ext cx="479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10040" y="2068560"/>
            <a:ext cx="48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45320" y="53820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22400" y="3143160"/>
            <a:ext cx="54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65440" y="1363680"/>
            <a:ext cx="468000" cy="4559400"/>
          </a:xfrm>
          <a:custGeom>
            <a:avLst/>
            <a:gdLst/>
            <a:ahLst/>
            <a:rect l="l" t="t" r="r" b="b"/>
            <a:pathLst>
              <a:path w="295" h="2872">
                <a:moveTo>
                  <a:pt x="0" y="0"/>
                </a:moveTo>
                <a:lnTo>
                  <a:pt x="294" y="0"/>
                </a:lnTo>
                <a:lnTo>
                  <a:pt x="294" y="2871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13040" y="819000"/>
            <a:ext cx="1458720" cy="2227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89960" y="2631960"/>
            <a:ext cx="87012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08320" y="1363680"/>
            <a:ext cx="1144440" cy="4559400"/>
          </a:xfrm>
          <a:custGeom>
            <a:avLst/>
            <a:gdLst/>
            <a:ahLst/>
            <a:rect l="l" t="t" r="r" b="b"/>
            <a:pathLst>
              <a:path w="721" h="2872">
                <a:moveTo>
                  <a:pt x="0" y="0"/>
                </a:moveTo>
                <a:lnTo>
                  <a:pt x="720" y="0"/>
                </a:lnTo>
                <a:lnTo>
                  <a:pt x="720" y="2871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60720" y="762120"/>
            <a:ext cx="1458720" cy="22842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13960" y="2595600"/>
            <a:ext cx="87012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93120" y="101448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32960" y="114948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3400" y="1959120"/>
            <a:ext cx="39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35600" y="2162160"/>
            <a:ext cx="39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71560" y="2330280"/>
            <a:ext cx="234324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95640" y="963720"/>
            <a:ext cx="892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98640" y="1933560"/>
            <a:ext cx="89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70160" y="3112920"/>
            <a:ext cx="54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77040" y="3137040"/>
            <a:ext cx="39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90560" y="3530520"/>
            <a:ext cx="3498840" cy="2387520"/>
          </a:xfrm>
          <a:custGeom>
            <a:avLst/>
            <a:gdLst/>
            <a:ahLst/>
            <a:rect l="l" t="t" r="r" b="b"/>
            <a:pathLst>
              <a:path w="2204" h="1504">
                <a:moveTo>
                  <a:pt x="0" y="0"/>
                </a:moveTo>
                <a:lnTo>
                  <a:pt x="0" y="1503"/>
                </a:lnTo>
                <a:lnTo>
                  <a:pt x="2203" y="150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12920" y="34574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02640" y="5972040"/>
            <a:ext cx="39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91320" y="484488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925640" y="5870520"/>
            <a:ext cx="54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1320" y="411336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3480" y="5891040"/>
            <a:ext cx="54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5720" y="3911760"/>
            <a:ext cx="2392200" cy="1311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87600" y="6072120"/>
            <a:ext cx="777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704960" y="4397400"/>
            <a:ext cx="18162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704960" y="508320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4338720" y="995400"/>
          <a:ext cx="4200480" cy="77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8720" y="995400"/>
                    <a:ext cx="42004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1763640" y="1353960"/>
            <a:ext cx="1638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63640" y="2328840"/>
            <a:ext cx="223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523880" y="449532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>
            <a:hlinkClick r:id="rId3" action="ppaction://hlinksldjump"/>
          </p:cNvPr>
          <p:cNvSpPr/>
          <p:nvPr/>
        </p:nvSpPr>
        <p:spPr>
          <a:xfrm>
            <a:off x="7620120" y="5638680"/>
            <a:ext cx="990360" cy="53352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683" y="1400"/>
                </a:lnTo>
                <a:lnTo>
                  <a:pt x="1400" y="140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683" y="20200"/>
                </a:lnTo>
                <a:lnTo>
                  <a:pt x="38683" y="140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83" y="2020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83" h="21600">
                <a:moveTo>
                  <a:pt x="16543" y="10800"/>
                </a:moveTo>
                <a:lnTo>
                  <a:pt x="27048" y="3794"/>
                </a:lnTo>
                <a:lnTo>
                  <a:pt x="27048" y="17806"/>
                </a:lnTo>
                <a:close/>
              </a:path>
              <a:path fill="darken" w="40083" h="21600">
                <a:moveTo>
                  <a:pt x="13035" y="3794"/>
                </a:moveTo>
                <a:lnTo>
                  <a:pt x="14697" y="3794"/>
                </a:lnTo>
                <a:lnTo>
                  <a:pt x="14697" y="17806"/>
                </a:lnTo>
                <a:lnTo>
                  <a:pt x="13035" y="1780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ENES  NEUTRO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aquellos que ante cambios en el ingreso, su cantidad demandada permanece cons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  aumenta   el  ingreso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716200" y="15987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1600200"/>
            <a:ext cx="3735360" cy="3811680"/>
          </a:xfrm>
          <a:custGeom>
            <a:avLst/>
            <a:gdLst/>
            <a:ahLst/>
            <a:rect l="l" t="t" r="r" b="b"/>
            <a:pathLst>
              <a:path w="2353" h="2401">
                <a:moveTo>
                  <a:pt x="0" y="0"/>
                </a:moveTo>
                <a:lnTo>
                  <a:pt x="0" y="2400"/>
                </a:lnTo>
                <a:lnTo>
                  <a:pt x="2352" y="24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47200" y="544212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85960" y="238608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85960" y="368136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76840" y="543240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0560" y="259092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30560" y="388620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925720" y="2868120"/>
            <a:ext cx="0" cy="698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2362320"/>
            <a:ext cx="0" cy="30477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856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antidad demandada del bien no se ve alte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095200" y="496800"/>
            <a:ext cx="40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33640" y="542880"/>
            <a:ext cx="3749760" cy="2825640"/>
          </a:xfrm>
          <a:custGeom>
            <a:avLst/>
            <a:gdLst/>
            <a:ahLst/>
            <a:rect l="l" t="t" r="r" b="b"/>
            <a:pathLst>
              <a:path w="2362" h="1780">
                <a:moveTo>
                  <a:pt x="0" y="0"/>
                </a:moveTo>
                <a:lnTo>
                  <a:pt x="0" y="1779"/>
                </a:lnTo>
                <a:lnTo>
                  <a:pt x="2361" y="177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529280" y="123840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505880" y="212580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33640" y="1484280"/>
            <a:ext cx="650880" cy="2708280"/>
          </a:xfrm>
          <a:custGeom>
            <a:avLst/>
            <a:gdLst/>
            <a:ahLst/>
            <a:rect l="l" t="t" r="r" b="b"/>
            <a:pathLst>
              <a:path w="410" h="1706">
                <a:moveTo>
                  <a:pt x="0" y="0"/>
                </a:moveTo>
                <a:lnTo>
                  <a:pt x="409" y="0"/>
                </a:lnTo>
                <a:lnTo>
                  <a:pt x="409" y="1705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33640" y="2425680"/>
            <a:ext cx="1779480" cy="995400"/>
          </a:xfrm>
          <a:custGeom>
            <a:avLst/>
            <a:gdLst/>
            <a:ahLst/>
            <a:rect l="l" t="t" r="r" b="b"/>
            <a:pathLst>
              <a:path w="1121" h="627">
                <a:moveTo>
                  <a:pt x="0" y="0"/>
                </a:moveTo>
                <a:lnTo>
                  <a:pt x="1120" y="0"/>
                </a:lnTo>
                <a:lnTo>
                  <a:pt x="1120" y="62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15040" y="337356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80680" y="337176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46000" y="335124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b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24080" y="1055520"/>
            <a:ext cx="2413080" cy="2008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754000" y="1228680"/>
            <a:ext cx="714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46240" y="2171880"/>
            <a:ext cx="714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691880" y="2746440"/>
            <a:ext cx="87012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04080" y="876240"/>
            <a:ext cx="87012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96920" y="3657600"/>
            <a:ext cx="3811680" cy="2135160"/>
          </a:xfrm>
          <a:custGeom>
            <a:avLst/>
            <a:gdLst/>
            <a:ahLst/>
            <a:rect l="l" t="t" r="r" b="b"/>
            <a:pathLst>
              <a:path w="2401" h="1345">
                <a:moveTo>
                  <a:pt x="0" y="0"/>
                </a:moveTo>
                <a:lnTo>
                  <a:pt x="0" y="1344"/>
                </a:lnTo>
                <a:lnTo>
                  <a:pt x="2400" y="13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4160" y="585324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18840" y="5830920"/>
            <a:ext cx="52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1640" y="363528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48360" y="434664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68880" y="499896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82720" y="4216320"/>
            <a:ext cx="0" cy="1549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03400" y="457200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03400" y="51814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4340160" y="868320"/>
          <a:ext cx="4221360" cy="77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0160" y="868320"/>
                    <a:ext cx="42213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2038320" y="1481040"/>
            <a:ext cx="642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50920" y="2421000"/>
            <a:ext cx="1765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>
            <a:hlinkClick r:id="rId3" action="ppaction://hlinksldjump"/>
          </p:cNvPr>
          <p:cNvSpPr/>
          <p:nvPr/>
        </p:nvSpPr>
        <p:spPr>
          <a:xfrm>
            <a:off x="7620120" y="5638680"/>
            <a:ext cx="990360" cy="53352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683" y="1400"/>
                </a:lnTo>
                <a:lnTo>
                  <a:pt x="1400" y="140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683" y="20200"/>
                </a:lnTo>
                <a:lnTo>
                  <a:pt x="38683" y="140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83" y="2020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83" h="21600">
                <a:moveTo>
                  <a:pt x="16543" y="10800"/>
                </a:moveTo>
                <a:lnTo>
                  <a:pt x="27048" y="3794"/>
                </a:lnTo>
                <a:lnTo>
                  <a:pt x="27048" y="17806"/>
                </a:lnTo>
                <a:close/>
              </a:path>
              <a:path fill="darken" w="40083" h="21600">
                <a:moveTo>
                  <a:pt x="13035" y="3794"/>
                </a:moveTo>
                <a:lnTo>
                  <a:pt x="14697" y="3794"/>
                </a:lnTo>
                <a:lnTo>
                  <a:pt x="14697" y="17806"/>
                </a:lnTo>
                <a:lnTo>
                  <a:pt x="13035" y="1780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ENES  INFERIOR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96880" y="2555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aquellos en que existe una relación inversa entre el ingreso y la cantidad demandada del b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aumento del ingreso (Y)... hace que la demanda de un bien inferior (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, disminuya o se desplace hacia la izquierda (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971800" y="2286000"/>
            <a:ext cx="3735360" cy="3506760"/>
          </a:xfrm>
          <a:custGeom>
            <a:avLst/>
            <a:gdLst/>
            <a:ahLst/>
            <a:rect l="l" t="t" r="r" b="b"/>
            <a:pathLst>
              <a:path w="2353" h="2209">
                <a:moveTo>
                  <a:pt x="0" y="0"/>
                </a:moveTo>
                <a:lnTo>
                  <a:pt x="0" y="2208"/>
                </a:lnTo>
                <a:lnTo>
                  <a:pt x="2352" y="220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37560" y="30718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15600" y="43876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52040" y="225432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1600" y="576432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149640" y="2616120"/>
            <a:ext cx="1854000" cy="29973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817160" y="5081760"/>
            <a:ext cx="95256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71800" y="3352680"/>
            <a:ext cx="2135160" cy="2440080"/>
          </a:xfrm>
          <a:custGeom>
            <a:avLst/>
            <a:gdLst/>
            <a:ahLst/>
            <a:rect l="l" t="t" r="r" b="b"/>
            <a:pathLst>
              <a:path w="913" h="1537">
                <a:moveTo>
                  <a:pt x="0" y="0"/>
                </a:moveTo>
                <a:lnTo>
                  <a:pt x="912" y="0"/>
                </a:lnTo>
                <a:lnTo>
                  <a:pt x="912" y="153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97560" y="2540160"/>
            <a:ext cx="1854000" cy="3073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5960" y="5070600"/>
            <a:ext cx="95256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38080" y="301140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95440" y="307980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93720" y="425916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57560" y="437508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978280" y="4648320"/>
            <a:ext cx="295884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511440" y="2819520"/>
            <a:ext cx="1892520" cy="1295280"/>
            <a:chOff x="3511440" y="2819520"/>
            <a:chExt cx="1892520" cy="1295280"/>
          </a:xfrm>
        </p:grpSpPr>
        <p:sp>
          <p:nvSpPr>
            <p:cNvPr id="672" name=""/>
            <p:cNvSpPr/>
            <p:nvPr/>
          </p:nvSpPr>
          <p:spPr>
            <a:xfrm>
              <a:off x="3511440" y="2819520"/>
              <a:ext cx="113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73560" y="4114800"/>
              <a:ext cx="113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4867560" y="574200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10120" y="6004080"/>
            <a:ext cx="5842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48680" y="578160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00360" y="3352680"/>
            <a:ext cx="1497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19720" y="4648320"/>
            <a:ext cx="1377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352680"/>
            <a:ext cx="0" cy="24386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unción Demand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75960" y="2416320"/>
            <a:ext cx="7585560" cy="2526840"/>
            <a:chOff x="975960" y="2416320"/>
            <a:chExt cx="7585560" cy="2526840"/>
          </a:xfrm>
        </p:grpSpPr>
        <p:grpSp>
          <p:nvGrpSpPr>
            <p:cNvPr id="164" name=""/>
            <p:cNvGrpSpPr/>
            <p:nvPr/>
          </p:nvGrpSpPr>
          <p:grpSpPr>
            <a:xfrm>
              <a:off x="975960" y="4168800"/>
              <a:ext cx="628200" cy="752760"/>
              <a:chOff x="975960" y="4168800"/>
              <a:chExt cx="628200" cy="752760"/>
            </a:xfrm>
          </p:grpSpPr>
          <p:sp>
            <p:nvSpPr>
              <p:cNvPr id="165" name=""/>
              <p:cNvSpPr/>
              <p:nvPr/>
            </p:nvSpPr>
            <p:spPr>
              <a:xfrm>
                <a:off x="975960" y="4191120"/>
                <a:ext cx="435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1280880" y="4168800"/>
                <a:ext cx="323280" cy="752760"/>
                <a:chOff x="1280880" y="4168800"/>
                <a:chExt cx="323280" cy="7527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280880" y="4527720"/>
                  <a:ext cx="3232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280880" y="4168800"/>
                  <a:ext cx="3214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975960" y="2416320"/>
              <a:ext cx="628200" cy="752400"/>
              <a:chOff x="975960" y="2416320"/>
              <a:chExt cx="628200" cy="752400"/>
            </a:xfrm>
          </p:grpSpPr>
          <p:sp>
            <p:nvSpPr>
              <p:cNvPr id="170" name=""/>
              <p:cNvSpPr/>
              <p:nvPr/>
            </p:nvSpPr>
            <p:spPr>
              <a:xfrm>
                <a:off x="975960" y="2438280"/>
                <a:ext cx="435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1280880" y="2416320"/>
                <a:ext cx="323280" cy="752400"/>
                <a:chOff x="1280880" y="2416320"/>
                <a:chExt cx="323280" cy="7524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280880" y="2774880"/>
                  <a:ext cx="3232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280880" y="2416320"/>
                  <a:ext cx="3214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>
              <a:off x="1509840" y="2438280"/>
              <a:ext cx="70516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= f(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ecio del bien, Precio de otros bienes,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greso, Gustos, Otras variables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41880" y="4267080"/>
              <a:ext cx="369612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ffff"/>
                  </a:solidFill>
                  <a:latin typeface="Arial"/>
                </a:rPr>
                <a:t>= f(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, P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Arial"/>
                </a:rPr>
                <a:t>OB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, Y, G, OV</a:t>
              </a:r>
              <a:r>
                <a:rPr b="0" lang="es-ES_tradnl" sz="3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7975440" cy="16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n bien inferior tiene una relación inversa entre el ingreso (Y) y la cantidad demandada del bien (q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... Es decir, si el ingreso disminuy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24080" y="2438280"/>
            <a:ext cx="3811680" cy="3506760"/>
          </a:xfrm>
          <a:custGeom>
            <a:avLst/>
            <a:gdLst/>
            <a:ahLst/>
            <a:rect l="l" t="t" r="r" b="b"/>
            <a:pathLst>
              <a:path w="2401" h="2209">
                <a:moveTo>
                  <a:pt x="0" y="0"/>
                </a:moveTo>
                <a:lnTo>
                  <a:pt x="0" y="2208"/>
                </a:lnTo>
                <a:lnTo>
                  <a:pt x="2400" y="220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25560" y="25732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923160" y="589932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59040" y="324468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736720" y="440856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0200" y="590220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96040" y="590400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3505320"/>
            <a:ext cx="763560" cy="2439720"/>
          </a:xfrm>
          <a:custGeom>
            <a:avLst/>
            <a:gdLst/>
            <a:ahLst/>
            <a:rect l="l" t="t" r="r" b="b"/>
            <a:pathLst>
              <a:path w="481" h="1537">
                <a:moveTo>
                  <a:pt x="0" y="0"/>
                </a:moveTo>
                <a:lnTo>
                  <a:pt x="480" y="0"/>
                </a:lnTo>
                <a:lnTo>
                  <a:pt x="480" y="153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24080" y="4648320"/>
            <a:ext cx="2592360" cy="1296720"/>
          </a:xfrm>
          <a:custGeom>
            <a:avLst/>
            <a:gdLst/>
            <a:ahLst/>
            <a:rect l="l" t="t" r="r" b="b"/>
            <a:pathLst>
              <a:path w="1633" h="817">
                <a:moveTo>
                  <a:pt x="0" y="0"/>
                </a:moveTo>
                <a:lnTo>
                  <a:pt x="1632" y="0"/>
                </a:lnTo>
                <a:lnTo>
                  <a:pt x="1632" y="81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3200400"/>
            <a:ext cx="2797200" cy="1806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14400" y="1752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cantidad demandada del bien aum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36576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267080" y="617220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372760" y="449280"/>
            <a:ext cx="40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771560" y="581040"/>
            <a:ext cx="3063960" cy="2352600"/>
          </a:xfrm>
          <a:custGeom>
            <a:avLst/>
            <a:gdLst/>
            <a:ahLst/>
            <a:rect l="l" t="t" r="r" b="b"/>
            <a:pathLst>
              <a:path w="1930" h="1482">
                <a:moveTo>
                  <a:pt x="0" y="0"/>
                </a:moveTo>
                <a:lnTo>
                  <a:pt x="0" y="1481"/>
                </a:lnTo>
                <a:lnTo>
                  <a:pt x="1929" y="148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17960" y="105408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95640" y="1922400"/>
            <a:ext cx="473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771560" y="1295280"/>
            <a:ext cx="522360" cy="4505400"/>
          </a:xfrm>
          <a:custGeom>
            <a:avLst/>
            <a:gdLst/>
            <a:ahLst/>
            <a:rect l="l" t="t" r="r" b="b"/>
            <a:pathLst>
              <a:path w="329" h="2838">
                <a:moveTo>
                  <a:pt x="0" y="0"/>
                </a:moveTo>
                <a:lnTo>
                  <a:pt x="328" y="0"/>
                </a:lnTo>
                <a:lnTo>
                  <a:pt x="328" y="2837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20960" y="811080"/>
            <a:ext cx="1512720" cy="1992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63040" y="2436840"/>
            <a:ext cx="87012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33520" y="1295280"/>
            <a:ext cx="1179720" cy="4505400"/>
          </a:xfrm>
          <a:custGeom>
            <a:avLst/>
            <a:gdLst/>
            <a:ahLst/>
            <a:rect l="l" t="t" r="r" b="b"/>
            <a:pathLst>
              <a:path w="743" h="2838">
                <a:moveTo>
                  <a:pt x="0" y="0"/>
                </a:moveTo>
                <a:lnTo>
                  <a:pt x="742" y="0"/>
                </a:lnTo>
                <a:lnTo>
                  <a:pt x="742" y="2837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08240" y="760320"/>
            <a:ext cx="1513080" cy="20433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95040" y="2386080"/>
            <a:ext cx="870120" cy="400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02480" y="97164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99560" y="108900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42200" y="183024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45760" y="193824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14720" y="938160"/>
            <a:ext cx="925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40040" y="1808280"/>
            <a:ext cx="9237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2028600" y="3008160"/>
            <a:ext cx="1833840" cy="400680"/>
            <a:chOff x="2028600" y="3008160"/>
            <a:chExt cx="1833840" cy="400680"/>
          </a:xfrm>
        </p:grpSpPr>
        <p:sp>
          <p:nvSpPr>
            <p:cNvPr id="711" name=""/>
            <p:cNvSpPr/>
            <p:nvPr/>
          </p:nvSpPr>
          <p:spPr>
            <a:xfrm>
              <a:off x="2028600" y="3008160"/>
              <a:ext cx="521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x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1160" y="3008160"/>
              <a:ext cx="521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xa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2719440" y="6041880"/>
            <a:ext cx="474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578120" y="290664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58960" y="3665520"/>
            <a:ext cx="3201840" cy="2135160"/>
          </a:xfrm>
          <a:custGeom>
            <a:avLst/>
            <a:gdLst/>
            <a:ahLst/>
            <a:rect l="l" t="t" r="r" b="b"/>
            <a:pathLst>
              <a:path w="2017" h="1345">
                <a:moveTo>
                  <a:pt x="0" y="0"/>
                </a:moveTo>
                <a:lnTo>
                  <a:pt x="0" y="1344"/>
                </a:lnTo>
                <a:lnTo>
                  <a:pt x="2016" y="13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2007720" y="5826240"/>
            <a:ext cx="1834200" cy="400680"/>
            <a:chOff x="2007720" y="5826240"/>
            <a:chExt cx="1834200" cy="400680"/>
          </a:xfrm>
        </p:grpSpPr>
        <p:sp>
          <p:nvSpPr>
            <p:cNvPr id="717" name=""/>
            <p:cNvSpPr/>
            <p:nvPr/>
          </p:nvSpPr>
          <p:spPr>
            <a:xfrm>
              <a:off x="2007720" y="5826240"/>
              <a:ext cx="521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xa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20640" y="5826240"/>
              <a:ext cx="521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xa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65440" y="45799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765440" y="5113440"/>
            <a:ext cx="173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13120" y="4452840"/>
            <a:ext cx="2006280" cy="863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34960" y="35654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20840" y="427356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01760" y="490392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24360" y="5810400"/>
            <a:ext cx="37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4338720" y="995400"/>
          <a:ext cx="4200480" cy="77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8720" y="995400"/>
                    <a:ext cx="42004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1785960" y="1295280"/>
            <a:ext cx="172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81280" y="2181240"/>
            <a:ext cx="234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URVA DE ENG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estra la relación entre diferentes niveles de ingreso y la cantidad demandada de un bi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426600" y="533520"/>
            <a:ext cx="81025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icemos la relación que tienen los distintos tipos de bienes respecto a cambios en el ingr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09160" y="2698920"/>
            <a:ext cx="207576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EN INF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09160" y="3917880"/>
            <a:ext cx="193572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EN NEU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8440" y="5213520"/>
            <a:ext cx="1978200" cy="393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EN 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09080" y="5883120"/>
            <a:ext cx="483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2057400" y="2519280"/>
            <a:ext cx="2508120" cy="3500640"/>
            <a:chOff x="2057400" y="2519280"/>
            <a:chExt cx="2508120" cy="3500640"/>
          </a:xfrm>
        </p:grpSpPr>
        <p:sp>
          <p:nvSpPr>
            <p:cNvPr id="738" name=""/>
            <p:cNvSpPr/>
            <p:nvPr/>
          </p:nvSpPr>
          <p:spPr>
            <a:xfrm>
              <a:off x="2203560" y="2525760"/>
              <a:ext cx="2361960" cy="342432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057400" y="2519280"/>
              <a:ext cx="1327320" cy="3500640"/>
            </a:xfrm>
            <a:prstGeom prst="rect">
              <a:avLst/>
            </a:prstGeom>
            <a:solidFill>
              <a:srgbClr val="3e6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751120" y="2158920"/>
            <a:ext cx="4413240" cy="3938760"/>
          </a:xfrm>
          <a:custGeom>
            <a:avLst/>
            <a:gdLst/>
            <a:ahLst/>
            <a:rect l="l" t="t" r="r" b="b"/>
            <a:pathLst>
              <a:path w="2780" h="2481">
                <a:moveTo>
                  <a:pt x="0" y="0"/>
                </a:moveTo>
                <a:lnTo>
                  <a:pt x="0" y="2480"/>
                </a:lnTo>
                <a:lnTo>
                  <a:pt x="2779" y="24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71600" y="222552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>
            <a:hlinkClick r:id="rId1" action="ppaction://hlinksldjump"/>
          </p:cNvPr>
          <p:cNvSpPr/>
          <p:nvPr/>
        </p:nvSpPr>
        <p:spPr>
          <a:xfrm>
            <a:off x="7696080" y="5257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5006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13161" y="3794"/>
                </a:lnTo>
                <a:lnTo>
                  <a:pt x="13161" y="17806"/>
                </a:lnTo>
                <a:lnTo>
                  <a:pt x="11498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GUSTO DE LOS CONSUMIDOR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gustos se refieren a las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eferenci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que los agentes económicos manifiestan por los diferentes bienes o servicios y qu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es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uantifi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aumento de los gustos, provoca... un aumento  o desplazamiento de la curva de demanda hacia la derech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363680" y="2306520"/>
            <a:ext cx="3735360" cy="3506760"/>
          </a:xfrm>
          <a:custGeom>
            <a:avLst/>
            <a:gdLst/>
            <a:ahLst/>
            <a:rect l="l" t="t" r="r" b="b"/>
            <a:pathLst>
              <a:path w="2353" h="2209">
                <a:moveTo>
                  <a:pt x="0" y="0"/>
                </a:moveTo>
                <a:lnTo>
                  <a:pt x="0" y="2208"/>
                </a:lnTo>
                <a:lnTo>
                  <a:pt x="2352" y="220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29440" y="313524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28000" y="44290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80200" y="223200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363680" y="3373560"/>
            <a:ext cx="687240" cy="2439720"/>
          </a:xfrm>
          <a:custGeom>
            <a:avLst/>
            <a:gdLst/>
            <a:ahLst/>
            <a:rect l="l" t="t" r="r" b="b"/>
            <a:pathLst>
              <a:path w="433" h="1537">
                <a:moveTo>
                  <a:pt x="0" y="0"/>
                </a:moveTo>
                <a:lnTo>
                  <a:pt x="432" y="0"/>
                </a:lnTo>
                <a:lnTo>
                  <a:pt x="432" y="153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1520" y="2637000"/>
            <a:ext cx="1854000" cy="2997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06520" y="5122800"/>
            <a:ext cx="98136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G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89440" y="2560680"/>
            <a:ext cx="1854000" cy="3073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38600" y="5005440"/>
            <a:ext cx="98136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G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34640" y="301464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487320" y="310032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687040" y="428004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49440" y="4395960"/>
            <a:ext cx="40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903320" y="2840040"/>
            <a:ext cx="1892520" cy="1295280"/>
            <a:chOff x="1903320" y="2840040"/>
            <a:chExt cx="1892520" cy="1295280"/>
          </a:xfrm>
        </p:grpSpPr>
        <p:sp>
          <p:nvSpPr>
            <p:cNvPr id="760" name=""/>
            <p:cNvSpPr/>
            <p:nvPr/>
          </p:nvSpPr>
          <p:spPr>
            <a:xfrm>
              <a:off x="1903320" y="2840040"/>
              <a:ext cx="113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65440" y="4135320"/>
              <a:ext cx="113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5010480" y="584352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4444920" y="3303720"/>
          <a:ext cx="4200480" cy="76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3303720"/>
                    <a:ext cx="420048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1360440" y="3365640"/>
            <a:ext cx="2062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371600" y="4648320"/>
            <a:ext cx="2865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71600" y="4648320"/>
            <a:ext cx="144792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3352680"/>
            <a:ext cx="0" cy="24386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09480" y="22860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uede concluir que cambios en  las variables independientes, tales como ingreso, gusto, precio de otros bienes, otras variables, produce 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46200" y="3753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raslado de la curva de dema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URVA DE DEMANDA DEL MERC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838080" y="1828800"/>
            <a:ext cx="1906560" cy="2211480"/>
          </a:xfrm>
          <a:custGeom>
            <a:avLst/>
            <a:gdLst/>
            <a:ahLst/>
            <a:rect l="l" t="t" r="r" b="b"/>
            <a:pathLst>
              <a:path w="1201" h="1393">
                <a:moveTo>
                  <a:pt x="0" y="0"/>
                </a:moveTo>
                <a:lnTo>
                  <a:pt x="0" y="1392"/>
                </a:lnTo>
                <a:lnTo>
                  <a:pt x="900" y="1392"/>
                </a:lnTo>
                <a:lnTo>
                  <a:pt x="1200" y="139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00400" y="1905120"/>
            <a:ext cx="1906560" cy="2135160"/>
          </a:xfrm>
          <a:custGeom>
            <a:avLst/>
            <a:gdLst/>
            <a:ahLst/>
            <a:rect l="l" t="t" r="r" b="b"/>
            <a:pathLst>
              <a:path w="1201" h="1345">
                <a:moveTo>
                  <a:pt x="0" y="0"/>
                </a:moveTo>
                <a:lnTo>
                  <a:pt x="0" y="1344"/>
                </a:lnTo>
                <a:lnTo>
                  <a:pt x="900" y="1344"/>
                </a:lnTo>
                <a:lnTo>
                  <a:pt x="1200" y="134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791320" y="1905120"/>
            <a:ext cx="2744640" cy="2135160"/>
          </a:xfrm>
          <a:custGeom>
            <a:avLst/>
            <a:gdLst/>
            <a:ahLst/>
            <a:rect l="l" t="t" r="r" b="b"/>
            <a:pathLst>
              <a:path w="1729" h="1345">
                <a:moveTo>
                  <a:pt x="0" y="0"/>
                </a:moveTo>
                <a:lnTo>
                  <a:pt x="0" y="1344"/>
                </a:lnTo>
                <a:lnTo>
                  <a:pt x="1296" y="1344"/>
                </a:lnTo>
                <a:lnTo>
                  <a:pt x="1728" y="134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73720" y="1476360"/>
            <a:ext cx="193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nsumidor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61600" y="1454040"/>
            <a:ext cx="193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nsumido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16400" y="1415880"/>
            <a:ext cx="1643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2440" y="24703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2440" y="30034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2440" y="3460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14040" y="4070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412640" y="40734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66320" y="40766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06640" y="4051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28640" y="4079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14800" y="40384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891120" y="4070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833960" y="4070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57160" y="2629080"/>
            <a:ext cx="1098720" cy="13842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44560" y="2666880"/>
            <a:ext cx="49402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44560" y="3124080"/>
            <a:ext cx="52452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844560" y="3569760"/>
            <a:ext cx="6134040" cy="176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219320" y="3124080"/>
            <a:ext cx="0" cy="901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62040" y="364500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25960" y="3149640"/>
            <a:ext cx="711000" cy="863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91320" y="2666880"/>
            <a:ext cx="2135160" cy="1373400"/>
          </a:xfrm>
          <a:custGeom>
            <a:avLst/>
            <a:gdLst/>
            <a:ahLst/>
            <a:rect l="l" t="t" r="r" b="b"/>
            <a:pathLst>
              <a:path w="1345" h="865">
                <a:moveTo>
                  <a:pt x="0" y="0"/>
                </a:moveTo>
                <a:lnTo>
                  <a:pt x="192" y="288"/>
                </a:lnTo>
                <a:lnTo>
                  <a:pt x="1344" y="864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010280" y="35877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5880" y="3130560"/>
            <a:ext cx="0" cy="901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79880" y="407052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718520" y="407052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319160" y="4451400"/>
            <a:ext cx="114912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+q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9760" y="170820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94960" y="170820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64800" y="172080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35877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33240" y="3238560"/>
            <a:ext cx="5302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442680" y="3184560"/>
            <a:ext cx="53784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624360" y="3097080"/>
            <a:ext cx="10638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354160" y="4022640"/>
            <a:ext cx="37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URVA DE DEMANDA DEL MERC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a horizontal de las demandas individuales a los distintos precios del bi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nde: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09480" y="1730520"/>
            <a:ext cx="627840" cy="752400"/>
            <a:chOff x="1509480" y="1730520"/>
            <a:chExt cx="627840" cy="752400"/>
          </a:xfrm>
        </p:grpSpPr>
        <p:sp>
          <p:nvSpPr>
            <p:cNvPr id="178" name=""/>
            <p:cNvSpPr/>
            <p:nvPr/>
          </p:nvSpPr>
          <p:spPr>
            <a:xfrm>
              <a:off x="1509480" y="1752480"/>
              <a:ext cx="435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814040" y="1730520"/>
              <a:ext cx="323280" cy="752400"/>
              <a:chOff x="1814040" y="1730520"/>
              <a:chExt cx="323280" cy="752400"/>
            </a:xfrm>
          </p:grpSpPr>
          <p:sp>
            <p:nvSpPr>
              <p:cNvPr id="180" name=""/>
              <p:cNvSpPr/>
              <p:nvPr/>
            </p:nvSpPr>
            <p:spPr>
              <a:xfrm>
                <a:off x="1814040" y="2089080"/>
                <a:ext cx="32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814040" y="1730520"/>
                <a:ext cx="321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350440" y="1768320"/>
            <a:ext cx="5574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Cantidad demandada del bien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2438280"/>
            <a:ext cx="6188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48280" y="2530440"/>
            <a:ext cx="3179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Precio del bien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37920" y="3124080"/>
            <a:ext cx="8690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7920" y="3216240"/>
            <a:ext cx="403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Precio de otr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5800" y="3809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8640" y="3978360"/>
            <a:ext cx="419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Ingreso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85800" y="4572000"/>
            <a:ext cx="536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7920" y="4664160"/>
            <a:ext cx="4803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Gusto de los consumi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09840" y="5257800"/>
            <a:ext cx="841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47920" y="5273640"/>
            <a:ext cx="2941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Otras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unción Demand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 cantidad  demandada   de un bien o servici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s una función que depende de  las  siguientes  variables: precio del bi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precio  de otros bienes, ingreso del consumidor, gustos, otras vari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NÁLISIS DE LAS VARIABLES INDEPENDIENT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312408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CIO DEL B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CIO DE OTROS BI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GR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USTO DE L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UMI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6934320" y="32004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3794"/>
                </a:moveTo>
                <a:lnTo>
                  <a:pt x="30136" y="10800"/>
                </a:lnTo>
                <a:lnTo>
                  <a:pt x="16123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6934320" y="3733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6934320" y="42670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3794"/>
                </a:moveTo>
                <a:lnTo>
                  <a:pt x="30136" y="10800"/>
                </a:lnTo>
                <a:lnTo>
                  <a:pt x="16123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6934320" y="48006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3794"/>
                </a:moveTo>
                <a:lnTo>
                  <a:pt x="30136" y="10800"/>
                </a:lnTo>
                <a:lnTo>
                  <a:pt x="16123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ECIO DEL BIE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4720" y="1959120"/>
            <a:ext cx="71452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l variar  el  Precio del bien,  y dejar constantes     las    otras    variables independientes    (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éteris Paribu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, se obtie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579480" y="4105440"/>
            <a:ext cx="1964520" cy="752400"/>
            <a:chOff x="3579480" y="4105440"/>
            <a:chExt cx="1964520" cy="752400"/>
          </a:xfrm>
        </p:grpSpPr>
        <p:grpSp>
          <p:nvGrpSpPr>
            <p:cNvPr id="205" name=""/>
            <p:cNvGrpSpPr/>
            <p:nvPr/>
          </p:nvGrpSpPr>
          <p:grpSpPr>
            <a:xfrm>
              <a:off x="3579480" y="4105440"/>
              <a:ext cx="628200" cy="752400"/>
              <a:chOff x="3579480" y="4105440"/>
              <a:chExt cx="628200" cy="752400"/>
            </a:xfrm>
          </p:grpSpPr>
          <p:sp>
            <p:nvSpPr>
              <p:cNvPr id="206" name=""/>
              <p:cNvSpPr/>
              <p:nvPr/>
            </p:nvSpPr>
            <p:spPr>
              <a:xfrm>
                <a:off x="3579480" y="4127400"/>
                <a:ext cx="435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884400" y="4105440"/>
                <a:ext cx="323280" cy="752400"/>
                <a:chOff x="3884400" y="4105440"/>
                <a:chExt cx="323280" cy="752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884400" y="4464000"/>
                  <a:ext cx="3232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884400" y="4105440"/>
                  <a:ext cx="3214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>
              <a:off x="4198320" y="4127400"/>
              <a:ext cx="134568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ffff"/>
                  </a:solidFill>
                  <a:latin typeface="Arial"/>
                </a:rPr>
                <a:t>= f(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s-ES_tradnl" sz="3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9120" y="6094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mentando el precio del bi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y permaneciendo constante el resto de las variables, obtenem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2438280"/>
            <a:ext cx="3735360" cy="3125880"/>
          </a:xfrm>
          <a:custGeom>
            <a:avLst/>
            <a:gdLst/>
            <a:ahLst/>
            <a:rect l="l" t="t" r="r" b="b"/>
            <a:pathLst>
              <a:path w="2353" h="1969">
                <a:moveTo>
                  <a:pt x="0" y="0"/>
                </a:moveTo>
                <a:lnTo>
                  <a:pt x="0" y="1968"/>
                </a:lnTo>
                <a:lnTo>
                  <a:pt x="2352" y="196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37400" y="239400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65960" y="544212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17240" y="309240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60080" y="44308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2000" y="559440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2200" y="559440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3352680"/>
            <a:ext cx="534960" cy="2211480"/>
          </a:xfrm>
          <a:custGeom>
            <a:avLst/>
            <a:gdLst/>
            <a:ahLst/>
            <a:rect l="l" t="t" r="r" b="b"/>
            <a:pathLst>
              <a:path w="337" h="1393">
                <a:moveTo>
                  <a:pt x="0" y="0"/>
                </a:moveTo>
                <a:lnTo>
                  <a:pt x="336" y="0"/>
                </a:lnTo>
                <a:lnTo>
                  <a:pt x="336" y="13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4648320"/>
            <a:ext cx="2211480" cy="915840"/>
          </a:xfrm>
          <a:custGeom>
            <a:avLst/>
            <a:gdLst/>
            <a:ahLst/>
            <a:rect l="l" t="t" r="r" b="b"/>
            <a:pathLst>
              <a:path w="1393" h="577">
                <a:moveTo>
                  <a:pt x="0" y="0"/>
                </a:moveTo>
                <a:lnTo>
                  <a:pt x="1392" y="0"/>
                </a:lnTo>
                <a:lnTo>
                  <a:pt x="1392" y="57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552760" y="35528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647880" y="5756400"/>
            <a:ext cx="774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73320" y="3149640"/>
            <a:ext cx="2387520" cy="1854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76320" y="460368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10400" y="4336920"/>
            <a:ext cx="280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7720" y="2971800"/>
            <a:ext cx="280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587760" y="3320640"/>
            <a:ext cx="1231920" cy="100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20:43:42Z</dcterms:created>
  <dc:creator>PEDRO VALDES VELOSO</dc:creator>
  <dc:description/>
  <dc:language>en-US</dc:language>
  <cp:lastModifiedBy>Pedro Valdes Veloso</cp:lastModifiedBy>
  <cp:lastPrinted>1997-07-03T20:20:48Z</cp:lastPrinted>
  <dcterms:modified xsi:type="dcterms:W3CDTF">2000-04-10T15:15:22Z</dcterms:modified>
  <cp:revision>81</cp:revision>
  <dc:subject/>
  <dc:title>DEMANDA</dc:title>
</cp:coreProperties>
</file>