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A29-B473-4977-B26A-2059437B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4A7-D0BE-4FDA-97F5-A6BDD1F7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7F7-3A81-4A56-9331-7EDBA9C9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BBD-E9B2-40A3-A1A5-86BD22B2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93B-9A34-49D2-BB38-13BFB99A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5806-DF09-41EF-ABEC-719BF16F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9249-DED9-4612-ABA7-2E28609F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E95-A037-464C-8CBF-F502A15E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DEB4-C2DF-4F96-90FB-8D0A4E1C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FAC0-C724-4997-BC38-41B9BF01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35A8-3B58-4E0E-9C69-6C6E220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069-96D7-4131-8F3F-25CB769A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D2F9-5AB2-405E-A8DA-6A4CE8A5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4ED4-FC8D-472F-9F33-AB1C992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F369-C6F3-41D9-8085-6E0EADD2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6F3C-2FA6-4D3E-BCE9-E6B76D20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C5B2-2C86-4E69-9A15-D0D89B47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459-99AD-4834-BC7F-D15643DB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C21-003A-4F65-A162-C8F522E3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7AB-C327-410C-B3DA-45E27721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45B-5E82-4F30-B2C5-50A5DC81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67B-403D-4FAD-86A6-945ED4EE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C6A-7E67-487E-80E5-E991A885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CC6-21A1-467B-9B6F-18E2E27A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8946-EEC6-4C6F-A5D6-C3258919529F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1391-C11F-44B7-A0CD-2A5D6E07BDCF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75751" r="0" b="2406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88620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Introducción y revi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6600"/>
                </a:solidFill>
                <a:latin typeface="Arial"/>
                <a:ea typeface="Osaka"/>
              </a:rPr>
              <a:t>Algunos métodos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&lt; variadas opciones 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palabra diseño ha sido siempre ligada a términos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dos estos conceptos están ligados a actividades que im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reación de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lementacion proyectual en elementos form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ue deben ser definidos a partir de una estructura ordenada que entendemos hoy por hoy como méto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66760" y="1219320"/>
            <a:ext cx="86104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así como Guillermo González Ruiz, propone cuatro denominadores comunes para el acto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resencia de un plan men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xistencia de un propósito movilizador de ese p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onvivencia en un mismo territorio del saber zonificado en tres campos de acción; el arquitectónico, el objetual y el comunic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pensamiento visual que fusiona lo sensorial y lo racional; y un quinto denominador que es la necesidad de un modo de enseñanza y aprendizaje metodológ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6760" y="12193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lo anterior entendemos que cualquier tipo de metodología aplica necesariamente a un método sea este cual fuere; pero centraremos nuestro análisis a metodológicas que aborden campo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proyect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cre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a función y la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que algunas metodologías, atienden solo parcialmente a algunos de los campos anteri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5200" y="1295280"/>
            <a:ext cx="7470720" cy="499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1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127160"/>
            <a:ext cx="8076960" cy="52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03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6080" y="1228680"/>
            <a:ext cx="670860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60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760" y="1219320"/>
            <a:ext cx="86104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intos métodos -a lo largo de la historia- se han utilizado y complement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de la Edad Media y el Rena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siglo XVII con el inicio de la separación entre arte y técnica culminando en el siglo XIX, aparece el Arts and Craf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l siglo XX, la Bauhaus formaliza los métodos de un manejo más objetivo con el surgimiento del funcional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760" y="1219320"/>
            <a:ext cx="8610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TRUCTURAS FORMALES DE MÉTODOS PARA EL DIS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continuación exponemos un resumen de diferentes estructuras metodológicas que atienden a la actividad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neg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adas, Proceso y sal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transpar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- Divergencia -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vergencia - 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6760" y="1219320"/>
            <a:ext cx="86104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ició las ideas sobre la necesidad de un método, así como los conceptos de caja negra y caja transparente. En el primero se considera que el diseñador es capaz de producir resultados en los que confía y que a menudo tiene éxito, mas no es capaz de explicar cómo llegó ahí. Sus características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iseño final está conformado por experiencia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producción se ve acelerada mediante el relajamiento de las inhibiciones a la crea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pacidad de producir resultados depende de la disponibilidad de tie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pentinamente se percibe una nueva manera de estructurar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ol consciente de las maneras en que se estructura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66760" y="1219320"/>
            <a:ext cx="86104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aracterísticas de la caja transparente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s, variables y criterios fijados de antema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l problema completado antes de iniciar las solu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valuación es verbal y lóg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e establecen 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on lineales y con retroali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6760" y="1219320"/>
            <a:ext cx="86104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abla de fases de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s primaria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ecesidad - Estudio de factibilidad - Proyecto preliminar - Proyecto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 del Ciclo Producción - Consu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laneación de distribución - Planeación del consumo - Planeación del retiro (Análisis, síntesis, evaluación y decisión, optimización, revisión, implementa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6760" y="1219320"/>
            <a:ext cx="861048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ibe el proceso de diseño de manera muy similar al de la información. La actividad proyectual consiste e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"la recolección, manejo y organización creativa de información relevante de la situación del problema (...) tiene carácter iterativo, se dispone de nueva información o se gana una nueva comprensión que requiere se repitan operaciones previas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Asimow plantea las siguientes f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ínt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ptim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1219320"/>
            <a:ext cx="861048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, 196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one como definición de diseñ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"...seleccionar los materiales correctos y darles forma para satisfacer las necesidades de función y estéticas dentro de las limitaciones de los medios de producción disponibles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or lo tanto, el proceso de diseño debe contener las etapas analítica, creativa y de ejecución, que a su vez se subdividen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Definición del problema y preparación del programa detall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Obtener datos relevantes, preparar especificaciones y retroalimentar la fase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Análisis y síntesis de los datos para preparar propuestas de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Desarrollo de prototi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Preparar y ejecutar estudios y experimentos que validen el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Preparar documentos para la prod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Analític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 Ordenamiento. Evaluación. Definición de condicionantes. Estructuración y jerarqu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Creativa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Implicancias. Formulación de ideas rectoras. Toma de partido o idea bás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lización de la idea.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Ejecutiv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ación crítica. Ajuste de la idea. Desarrollo. Proceso iterativo. mater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6760" y="12193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pone una metodología básica para el diseño con base en los principios y fundamentos de la Buena Forma (Gute Form). Las etapas de este métod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formación. Recolección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vestigación. Necesidades del usuario, contexto, funcionalidad, requerimi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iseño. Estudio tipológico, apoyo en conocimientos científicos, no en la inspi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ecisión. Estudios de costo/beneficios, estudio tecnológico fundamen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álculo. Ajuste del diseño a las normas y estándares de materiales y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rucción del prototipo. Pruebas y eval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busca dar solución a una estructura formal que permita defin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imera instancia una visión marco del problema de método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segunda instancia, el problema específico de la estructuración en la creación del dise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66760" y="1219320"/>
            <a:ext cx="8610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resumen sus etapas de diseñ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ción del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l estado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 del problema y de las metas. Creación de alterna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valuación y sele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ificación de la produ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31200" y="1569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676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ALEX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ntexto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undo r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formal de la 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 Ubicación física. Uso. Métodos de fabricación. (no controlados por el Diseñad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760" y="1219320"/>
            <a:ext cx="86104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SCAR OLEA - CARLOS GONZAL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nálisis y diseño lóg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so, Problema, Hipótesis, Proyecto, Re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ULLERMO GONZALEZ R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dentificación. Recopilación. Síntesis. Gestación. Iluminación. Elaboración. Ver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NO MU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, Definición del problema. Definición y reconocimiento de sub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teriales - Tecn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erimentación, Mode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os construc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760" y="1219320"/>
            <a:ext cx="861048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cargo del trabajo por el cliente (primera definición del problema), Recolección de información sobre el cliente, producto, competencia, público, Análi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pretación y organización de la información , (segunda definición del problem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760" y="1219320"/>
            <a:ext cx="86104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terminación de objetivos: Determinación del canal, Estudio de alcance, contexto y mensaje, Análisis de prioridades y jerarquías, Especificaciones para la visualización,(tercera definición del proble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o de anteproyecto, Presentación al cliente, Organización de la producción, Implementación,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760" y="1219320"/>
            <a:ext cx="8610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ACIA UNA ESTRATEGIA METODOLÓGICA PARA DISEÑ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uis Rodríguez Morale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n su libro “teoría del diseño” concluye a partir de las diferentes opciones metodológicas en su critica sobre el método en diseño lo siguie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lta para el diseño un primer nivel de análisis que estudie la adecuación entre los mét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existencia de premisas que conformen una teoría sól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ha confundido técnica con mét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étodos deben acompañarse de un apoyo pedagóg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66760" y="1219320"/>
            <a:ext cx="8610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metodología en diseño debe atender a diferentes parámetros definidos p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evenir de la disciplina desde lo académico, social, económico y político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(contexto disciplinar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actividades y campos de lo proyectual, la creación y la constr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s parámetros deben atender a una didáctica que busque entre otras actividades, activar elementos reflexivos y proyectuales, estimular procesos creativos con elementos perceptivos, afianzar el uso de lo sensorial, lo intelectivo, lo cognitivo y expresivo, y estructurar una forma de abordar los saberes en busca de dar soluciones pertinentes al contex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6760" y="1219320"/>
            <a:ext cx="86104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iendo en cuenta todo lo anterior, una propuesta 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sica propuest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o estrategia metodológica para el diseño. Se basa en una estructura proyectual, sobre un método eminentemente dialéc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usca definir y entender el problema dándole elementos que sustenten el proceso cre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yecto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rategia de procedimiento que busque sistematizar los posibles caminos de solu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sibilitar la implantac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guimient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tapas de producción y evalua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DIVIDUAL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HOOSE A SCOPE OR CONTEXT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Y TO EXPLAIN AN IDEA IN THE SHAPE OF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POSE A DEVELOPMENT OF A PRODUCT 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CRIBE THE STAGES OF WORK IN ACCORDANCE WITH 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LATE THE PROCESS OF DEVELOPMENT OF PRODUCTS TO TQM TOOLS AND EXPLAIN THEY AFFECT IN THE DEFINITION OF SERVICES AND FUNCTIONS OF THE NEW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SEVEN SLIDES, INCLUDING ONE WHERE YOU EXPLAIN THE PURPOSE (LIKE TARGET MARKET)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A MIND-MAP WITH THE SOURCE AND DESTINATION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ADLINE DATE AND PRESENTATION ON SEPTEMBER 23,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04640"/>
            <a:ext cx="91440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6600"/>
                </a:solidFill>
                <a:latin typeface="Arial"/>
              </a:rPr>
              <a:t>TOTAL QUALITY MANAGEMENT TASK (TQMT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Management Seminar II :: Industrial Design:: Universidad of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760" y="1219320"/>
            <a:ext cx="8610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pretende tener claridad sobre el campo de acción en el cual trabaj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er los alcances y/o limitaciones que se pueden presentar en un estudio sobre este tema en las áreas del conocimie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scendiendo así un conocimiento genérico que nos permite acceder a denominaciones claras y precisas para abordar en el problema especifico del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760" y="1219320"/>
            <a:ext cx="8610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fera de la ciencia que estudia los métodos generales y particulares de las investigaciones científicas, así como los principios para abordar diferentes tipos de objetos de la realidad y las distintas clases de teorías científicas (…). Conceptos específicos en la metodología de la ciencia son los métodos, medio, modo de la investigación y procedimiento con que se investi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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procedimiento para conocer, para investigar). Procedimiento para la acción práctica y teórica que define un obje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oducción: procedimiento para elaborar las cosas, para cultivar las plantas o criar animales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760" y="1219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iencia: modo de alcanzar nuevos resultados en el pensamiento (…). Sólo aquel método que se base en el conocimiento acerca de un objeto y de sus leyes puede proporcionar resultados útiles en la teoría y en la práctica. De ahí que la premisa del método sea una teoría cientí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necesidad del método reside en remitir, a través de ciertas reglas, todo conocimiento a la cert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método no es sino un camino seguro para lleg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 la verdad y evitar el err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66760" y="12193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EC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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maestría, art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de objetos creados por el hombre y que son indispensables para la realización de su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écnica es creada con base en el conocimiento y la utilización de las fuerzas y las leyes de la naturaleza y se plasman en ellas las funciones y hábitos de trabajo, la experiencia del homb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resión planificada de un propósito (Joan Cos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diseñar implica supeditar la creación de formas a un propósito, el propósito del diseño es siempre responder a una necesidad del hombre. Su verdadera dimensión y su rol social los adquiere al dar una respuesta formal a una función, es decir al modo de acción en virtud del cual un objeto cumple la finalidad por la cual ha sido creado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09-02T15:03:48Z</dcterms:modified>
  <cp:revision>147</cp:revision>
  <dc:subject/>
  <dc:title>Presentación de PowerPoint</dc:title>
</cp:coreProperties>
</file>