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2D5-0279-4E1F-A31B-3D4F94EA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B49-49D7-4969-861E-013DDCF4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DD5-5215-499F-A07A-028AE286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9F9-9BAE-4944-B165-C349D277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B410-9CEC-4704-BC94-4EC2139D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AF47-19A4-4802-8FEA-5EC88C8D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25A1-A3E6-4B38-8329-4E62334A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A6D0-98C3-4584-BE63-2F0741B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E18C-238C-4AE6-9E64-57C7E265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C728-CBD8-4132-8A7C-E8EB6C47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65DB-B979-4066-9E53-5D3142F7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BFB-405A-49E9-8A59-ABAEAB5D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8C9F-CDB1-47F8-8BA5-1A76886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CFD-FB82-45D9-9C49-80E08A0D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FC31-960B-4F4B-AE3E-75B44E5D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B224-96A0-45F5-8DBD-B00CD7C9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2737-52E8-4ED8-BEAD-363963D4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71A-DC1C-4751-A6A5-6067760A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888-46F0-4D4F-BAFC-8623253D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18F-4514-47A1-8E49-389C5035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5F7-ACB4-4825-984B-D7A8BC4E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2C4-0123-4A35-BFB4-FCA11B1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8A8-C4A5-4996-AB51-9EB0D730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6A5-58E4-48E1-A49B-79415CA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3114-6972-41FE-B763-7A7F5987C242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143A-1D5A-40B5-AB73-F144BC1A71E1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75751" r="0" b="2406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862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Introducción y revi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6600"/>
                </a:solidFill>
                <a:latin typeface="Arial"/>
                <a:ea typeface="Osaka"/>
              </a:rPr>
              <a:t>Algunos métodos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&lt; variadas opciones 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palabra diseño ha sido siempre ligada a términos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dos estos conceptos están ligados a actividades que im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reación de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lementacion proyectual en elementos form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 deben ser definidos a partir de una estructura ordenada que entendemos hoy por hoy como mé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6760" y="1219320"/>
            <a:ext cx="861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sí como Guillermo González Ruiz, propone cuatro denominadores comunes para el acto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esencia de un plan m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xistencia de un propósito movilizador de ese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ivencia en un mismo territorio del saber zonificado en tres campos de acción; el arquitectónico, el objetual y el comunic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pensamiento visual que fusiona lo sensorial y lo racional; y un quinto denominador que es la necesidad de un modo de enseñanza y aprendizaje metod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760" y="12193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lo anterior entendemos que cualquier tipo de metodología aplica necesariamente a un método sea este cual fuere; pero centraremos nuestro análisis a metodológicas que aborden camp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proyec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cre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a función y la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que algunas metodologías, atienden solo parcialmente a algunos de los campos anteri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5200" y="1295280"/>
            <a:ext cx="7470720" cy="499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1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127160"/>
            <a:ext cx="8076960" cy="52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03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6080" y="1228680"/>
            <a:ext cx="670860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60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1219320"/>
            <a:ext cx="86104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intos métodos -a lo largo de la historia- se han utilizado y complement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de la Edad Media y el Rena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siglo XVII con el inicio de la separación entre arte y técnica culminando en el siglo XIX, aparece el Arts and Craf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l siglo XX, la Bauhaus formaliza los métodos de un manejo más objetivo con el surgimiento del funcional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760" y="1219320"/>
            <a:ext cx="8610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TRUCTURAS FORMALES DE MÉTODOS PARA EL DIS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continuación exponemos un resumen de diferentes estructuras metodológicas que atienden a la actividad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neg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adas, Proceso y sal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transpar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- Divergencia -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ergencia - 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6760" y="1219320"/>
            <a:ext cx="86104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ó las ideas sobre la necesidad de un método, así como los conceptos de caja negra y caja transparente. En el primero se considera que el diseñador es capaz de producir resultados en los que confía y que a menudo tiene éxito, mas no es capaz de explicar cómo llegó ahí. Sus característica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seño final está conformado por experiencia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producción se ve acelerada mediante el relajamiento de las inhibiciones a la crea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pacidad de producir resultados depende de la disponibilidad de tie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pentinamente se percibe una nueva manera de estructurar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ol consciente de las maneras en que se estructura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6760" y="1219320"/>
            <a:ext cx="86104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aracterísticas de la caja transparente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, variables y criterios fijados de ante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l problema completado antes de iniciar las solu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valuación es verbal y ló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e establecen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on lineales y con retroali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6760" y="1219320"/>
            <a:ext cx="86104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abla de fases de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s primar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ecesidad - Estudio de factibilidad - Proyecto preliminar - Proyecto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 del Ciclo Producción - Consu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laneación de distribución - Planeación del consumo - Planeación del retiro (Análisis, síntesis, evaluación y decisión, optimización, revisión, implementa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6760" y="1219320"/>
            <a:ext cx="86104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ibe el proceso de diseño de manera muy similar al de la información. La actividad proyectual consiste e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"la recolección, manejo y organización creativa de información relevante de la situación del problema (...) tiene carácter iterativo, se dispone de nueva información o se gana una nueva comprensión que requiere se repitan operaciones previas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Asimow plantea las siguientes f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ptim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1219320"/>
            <a:ext cx="861048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, 196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one como definición de diseñ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"...seleccionar los materiales correctos y darles forma para satisfacer las necesidades de función y estéticas dentro de las limitaciones de los medios de producción disponibles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or lo tanto, el proceso de diseño debe contener las etapas analítica, creativa y de ejecución, que a su vez se subdividen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Definición del problema y preparación del programa detall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Obtener datos relevantes, preparar especificaciones y retroalimentar la fase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Análisis y síntesis de los datos para preparar propuestas de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Desarrollo de prototi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Preparar y ejecutar estudios y experimentos que validen el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Preparar documentos para la p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Analít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 Ordenamiento. Evaluación. Definición de condicionantes. Estructuración y jerarqu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Creativa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Implicancias. Formulación de ideas rectoras. Toma de partido o idea bás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lización de la idea.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Ejecutiv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ación crítica. Ajuste de la idea. Desarrollo. Proceso iterativo. mater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676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pone una metodología básica para el diseño con base en los principios y fundamentos de la Buena Forma (Gute Form). Las etapas de este métod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formación. Recolección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vestigación. Necesidades del usuario, contexto, funcionalidad, requer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seño. Estudio tipológico, apoyo en conocimientos científicos, no en la in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ecisión. Estudios de costo/beneficios, estudio tecnológico fundamen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álculo. Ajuste del diseño a las normas y estándares de materiales y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rucción del prototipo. Pruebas y eval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busca dar solución a una estructura formal que permit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imera instancia una visión marco del problema de método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segunda instancia, el problema específico de la estructuración en la creación del dise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66760" y="1219320"/>
            <a:ext cx="8610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resumen sus etapas de diseñ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ción del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l estado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 del problema y de las metas. Creación de altern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 y sel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ificación de la produ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1200" y="1569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676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ALEX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ntexto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undo r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formal de la 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 Ubicación física. Uso. Métodos de fabricación. (no controlados por el Diseñ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1219320"/>
            <a:ext cx="86104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SCAR OLEA - CARLOS GONZAL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nálisis y diseño lóg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, Problema, Hipótesis, Proyecto, Re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ULLERMO GONZALEZ R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dentificación. Recopilación. Síntesis. Gestación. Iluminación. Elaboración. Ver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NO MU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, Definición del problema. Definición y reconocimiento de sub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es - Tecn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erimentación, Mode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os construc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760" y="1219320"/>
            <a:ext cx="861048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cargo del trabajo por el cliente (primera definición del problema), Recolección de información sobre el cliente, producto, competencia, público, Análi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pretación y organización de la información , (segunda definición del problem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1219320"/>
            <a:ext cx="86104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terminación de objetivos: Determinación del canal, Estudio de alcance, contexto y mensaje, Análisis de prioridades y jerarquías, Especificaciones para la visualización,(tercera definición del proble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o de anteproyecto, Presentación al cliente, Organización de la producción, Implementación,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760" y="1219320"/>
            <a:ext cx="8610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ACIA UNA ESTRATEGIA METODOLÓGICA PARA DISEÑ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uis Rodríguez Morale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n su libro “teoría del diseño” concluye a partir de las diferentes opciones metodológicas en su critica sobre el método en diseño lo siguie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para el diseño un primer nivel de análisis que estudie la adecuación entre los mé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xistencia de premisas que conformen una teoría só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 confundido técnica con mét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étodos deben acompañarse de un apoyo pedagó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6760" y="1219320"/>
            <a:ext cx="8610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metodología en diseño debe atender a diferentes parámetros definidos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evenir de la disciplina desde lo académico, social, económico y político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(contexto disciplinar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actividades y campos de lo proyectual, la creación y la constr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s parámetros deben atender a una didáctica que busque entre otras actividades, activar elementos reflexivos y proyectuales, estimular procesos creativos con elementos perceptivos, afianzar el uso de lo sensorial, lo intelectivo, lo cognitivo y expresivo, y estructurar una forma de abordar los saberes en busca de dar soluciones pertinentes al contex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1219320"/>
            <a:ext cx="86104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iendo en cuenta todo lo anterior, una propuesta 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sica propuest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o estrategia metodológica para el diseño. Se basa en una estructura proyectual, sobre un método eminentemente dialéc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usca definir y entender el problema dándole elementos que sustenten el proceso cre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yecto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ategia de procedimiento que busque sistematizar los posibles caminos de sol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bilitar la implantac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guimient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tapas de producción y evalua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DIVIDUAL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HOOSE A SCOPE OR CONTEXT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Y TO EXPLAIN AN IDEA IN THE SHAPE OF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SE A DEVELOPMENT OF A PRODUCT 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CRIBE THE STAGES OF WORK IN ACCORDANCE WITH 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LATE THE PROCESS OF DEVELOPMENT OF PRODUCTS TO TQM TOOLS AND EXPLAIN THEY AFFECT IN THE DEFINITION OF SERVICES AND FUNCTIONS OF THE NEW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SEVEN SLIDES, INCLUDING ONE WHERE YOU EXPLAIN THE PURPOSE (LIKE TARGET MARKET)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A MIND-MAP WITH THE SOURCE AND DESTINATION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ADLINE DATE AND PRESENTATION ON SEPTEMBER 23,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04640"/>
            <a:ext cx="9144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6600"/>
                </a:solidFill>
                <a:latin typeface="Arial"/>
              </a:rPr>
              <a:t>TOTAL QUALITY MANAGEMENT TASK (TQMT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Management Seminar II :: Industrial Design:: Universidad of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760" y="1219320"/>
            <a:ext cx="8610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retende tener claridad sobre el campo de acción en el cual trabaj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er los alcances y/o limitaciones que se pueden presentar en un estudio sobre este tema en las áreas del conocimie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scendiendo así un conocimiento genérico que nos permite acceder a denominaciones claras y precisas para abordar en el problema especifico del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760" y="12193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fera de la ciencia que estudia los métodos generales y particulares de las investigaciones científicas, así como los principios para abordar diferentes tipos de objetos de la realidad y las distintas clases de teorías científicas (…). Conceptos específicos en la metodología de la ciencia son los métodos, medio, modo de la investigación y procedimiento con que se investi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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procedimiento para conocer, para investigar). Procedimiento para la acción práctica y teórica que defin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oducción: procedimiento para elaborar las cosas, para cultivar las plantas o criar animal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760" y="1219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iencia: modo de alcanzar nuevos resultados en el pensamiento (…). Sólo aquel método que se base en el conocimiento acerca de un objeto y de sus leyes puede proporcionar resultados útiles en la teoría y en la práctica. De ahí que la premisa del método sea una teoría cientí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ecesidad del método reside en remitir, a través de ciertas reglas, todo conocimiento a la cert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método no es sino un camino seguro para lleg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 la verdad y evitar el err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6760" y="12193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C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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maestría, art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objetos creados por el hombre y que son indispensables para la realización de su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écnica es creada con base en el conocimiento y la utilización de las fuerzas y las leyes de la naturaleza y se plasman en ellas las funciones y hábitos de trabajo, la experiencia del homb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resión planificada de un propósito (Joan Co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diseñar implica supeditar la creación de formas a un propósito, el propósito del diseño es siempre responder a una necesidad del hombre. Su verdadera dimensión y su rol social los adquiere al dar una respuesta formal a una función, es decir al modo de acción en virtud del cual un objeto cumple la finalidad por la cual ha sido cread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09-02T15:03:48Z</dcterms:modified>
  <cp:revision>147</cp:revision>
  <dc:subject/>
  <dc:title>Presentación de PowerPoint</dc:title>
</cp:coreProperties>
</file>