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8.jpeg" ContentType="image/jpeg"/>
  <Override PartName="/ppt/media/image2.jpeg" ContentType="image/jpeg"/>
  <Override PartName="/ppt/media/image3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2E7-E652-4E92-8010-776FE599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5580-A2CA-44DB-95D1-C54F1B65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CC0-CB3F-4454-B105-37F94B30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EAFC-8FC8-4F60-B741-6B29B528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D059-2EBA-4637-9EE9-9055D0D8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4DA8-C23F-41CA-B723-C48B9C93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4D90-6BDB-4595-8734-14A13D5B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DB63-8CF2-4C58-9BD4-E8B2F3AE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C751-8AC6-49BC-A062-6B49FBB5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9654-9573-439A-B02C-0723C5E8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186C-B03F-41D2-B9A8-7BCCD62C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393-AE05-4E8E-85D2-D66FB885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AE69-54BD-459C-A493-F3DA39A2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ADE3-6844-40E9-9C2A-59C4F432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92A8-E86B-4E35-BA19-7CA840CA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41F0-D992-4BFD-B258-BCA8786A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BE8E-3AB4-42FC-B3BB-D2D5D917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A64-206D-45B5-96CA-720B62DB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A91-B41F-4D19-88C8-39C7B81A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7830-6902-4D4F-B1FF-9C4D48B4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D91-6CE8-45B2-9B6E-D5FA2AF0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C01-D821-4B66-988B-64D65A73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664C-CE81-4228-9E0F-76138888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19AD-A8A6-4D2B-B283-709862A1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55DB-8CF7-43CC-A222-5A3FBBD43C14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7440" y="5157720"/>
            <a:ext cx="766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90"/>
                </a:solidFill>
                <a:latin typeface="Times New Roman"/>
              </a:rPr>
              <a:t>ISO 9001:2000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8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A750-2051-4F8A-8393-817D8FBEBA93}" type="slidenum"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0" t="75751" r="0" b="2406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3886200"/>
            <a:ext cx="8763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Introducción y revisión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6600"/>
                </a:solidFill>
                <a:latin typeface="Arial"/>
                <a:ea typeface="Osaka"/>
              </a:rPr>
              <a:t>Algunos métodos de diseñ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&lt; variadas opciones 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palabra diseño ha sido siempre ligada a términos co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st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d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ye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odos estos conceptos están ligados a actividades que implic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reación de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mplementacion proyectual en elementos form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Que deben ser definidos a partir de una estructura ordenada que entendemos hoy por hoy como méto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66760" y="1219320"/>
            <a:ext cx="861048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así como Guillermo González Ruiz, propone cuatro denominadores comunes para el acto del diseñ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presencia de un plan ment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existencia de un propósito movilizador de ese pl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convivencia en un mismo territorio del saber zonificado en tres campos de acción; el arquitectónico, el objetual y el comunic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pensamiento visual que fusiona lo sensorial y lo racional; y un quinto denominador que es la necesidad de un modo de enseñanza y aprendizaje metodológ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66760" y="1219320"/>
            <a:ext cx="8610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acuerdo a lo anterior entendemos que cualquier tipo de metodología aplica necesariamente a un método sea este cual fuere; pero centraremos nuestro análisis a metodológicas que aborden campos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o proyectu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o creativ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a función y la for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a que algunas metodologías, atienden solo parcialmente a algunos de los campos anteri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35200" y="1295280"/>
            <a:ext cx="7470720" cy="499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14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127160"/>
            <a:ext cx="8076960" cy="527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35400" y="1600200"/>
            <a:ext cx="427032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216080" y="1228680"/>
            <a:ext cx="6708600" cy="51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76960" cy="3600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66760" y="1219320"/>
            <a:ext cx="861048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stintos métodos -a lo largo de la historia- se han utilizado y complementad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de la Edad Media y el Renaci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el siglo XVII con el inicio de la separación entre arte y técnica culminando en el siglo XIX, aparece el Arts and Craf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partir del siglo XX, la Bauhaus formaliza los métodos de un manejo más objetivo con el surgimiento del funcionalism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ONCEPTOS GENE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446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446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66760" y="1219320"/>
            <a:ext cx="86104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TRUCTURAS FORMALES DE MÉTODOS PARA EL DISE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continuación exponemos un resumen de diferentes estructuras metodológicas que atienden a la actividad del diseñ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ja neg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radas, Proceso y sali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ja transpar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- Divergencia - Trans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vergencia - Evalu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66760" y="1219320"/>
            <a:ext cx="861048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ició las ideas sobre la necesidad de un método, así como los conceptos de caja negra y caja transparente. En el primero se considera que el diseñador es capaz de producir resultados en los que confía y que a menudo tiene éxito, mas no es capaz de explicar cómo llegó ahí. Sus características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diseño final está conformado por experiencias anteri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producción se ve acelerada mediante el relajamiento de las inhibiciones a la creativ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apacidad de producir resultados depende de la disponibilidad de tiemp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pentinamente se percibe una nueva manera de estructurar el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trol consciente de las maneras en que se estructura el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66760" y="1219320"/>
            <a:ext cx="861048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características de la caja transparente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bjetivos, variables y criterios fijados de antema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álisis del problema completado antes de iniciar las solu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evaluación es verbal y lóg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estrategias se establecen 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estrategias son lineales y con retroaliment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66760" y="1219320"/>
            <a:ext cx="861048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ORRIS ASIMOW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habla de fases de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Fases primaria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ecesidad - Estudio de factibilidad - Proyecto preliminar - Proyecto detall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Fase del Ciclo Producción - Consumo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laneación de distribución - Planeación del consumo - Planeación del retiro (Análisis, síntesis, evaluación y decisión, optimización, revisión, implementació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6760" y="1219320"/>
            <a:ext cx="8610480" cy="47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ORRIS ASIMOW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ibe el proceso de diseño de manera muy similar al de la información. La actividad proyectual consiste en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"la recolección, manejo y organización creativa de información relevante de la situación del problema (...) tiene carácter iterativo, se dispone de nueva información o se gana una nueva comprensión que requiere se repitan operaciones previas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Asimow plantea las siguientes fas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ínte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valu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ptim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v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66760" y="1219320"/>
            <a:ext cx="8610480" cy="50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CE ARCHER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Systemic Method For Designers, 1963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pone como definición de diseñ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"...seleccionar los materiales correctos y darles forma para satisfacer las necesidades de función y estéticas dentro de las limitaciones de los medios de producción disponibles"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por lo tanto, el proceso de diseño debe contener las etapas analítica, creativa y de ejecución, que a su vez se subdividen 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. Definición del problema y preparación del programa detall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. Obtener datos relevantes, preparar especificaciones y retroalimentar la fase 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. Análisis y síntesis de los datos para preparar propuestas de diseñ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. Desarrollo de prototip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. Preparar y ejecutar estudios y experimentos que validen el diseñ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. Preparar documentos para la produc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66760" y="1219320"/>
            <a:ext cx="86104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CE ARCHER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Systemic Method For Design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Analítica: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pilación de datos. Ordenamiento. Evaluación. Definición de condicionantes. Estructuración y jerarqu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Creativa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Implicancias. Formulación de ideas rectoras. Toma de partido o idea bás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ormalización de la idea. 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Ejecutiva: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aloración crítica. Ajuste de la idea. Desarrollo. Proceso iterativo. materi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66760" y="12193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ANS GUGUELOT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ropone una metodología básica para el diseño con base en los principios y fundamentos de la Buena Forma (Gute Form). Las etapas de este método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información. Recolección de la inform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investigación. Necesidades del usuario, contexto, funcionalidad, requerimien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diseño. Estudio tipológico, apoyo en conocimientos científicos, no en la inspi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decisión. Estudios de costo/beneficios, estudio tecnológico fundament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cálculo. Ajuste del diseño a las normas y estándares de materiales y produ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trucción del prototipo. Pruebas y evalu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66760" y="121932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busca dar solución a una estructura formal que permita defini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primera instancia una visión marco del problema de método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segunda instancia, el problema específico de la estructuración en la creación del diseñ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ONCEPTOS GENE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66760" y="1219320"/>
            <a:ext cx="861048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ANS GUGUELOT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resumen sus etapas de diseño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entación del probl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nálisis del estado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 del problema y de las metas. Creación de alternativ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valuación y sele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anificación de la produ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331200" y="15699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66760" y="1219320"/>
            <a:ext cx="861048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ALEXA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ontexto for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undo re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magen ment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magen formal de la imagen ment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texto: Ubicación física. Uso. Métodos de fabricación. (no controlados por el Diseñado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66760" y="1219320"/>
            <a:ext cx="86104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SCAR OLEA - CARLOS GONZAL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Análisis y diseño lógic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so, Problema, Hipótesis, Proyecto, Re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GULLERMO GONZALEZ RUI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dentificación. Recopilación. Síntesis. Gestación. Iluminación. Elaboración. Verific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66760" y="1219320"/>
            <a:ext cx="86104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NO MUN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, Definición del problema. Definición y reconocimiento de subproble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pilación de da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álisis de da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rea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ateriales - Tecnolog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erimentación, Mode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bujos constructiv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olu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66760" y="1219320"/>
            <a:ext cx="8610480" cy="47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JORGE FRASCA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Intenta sintetizar los pasos más consta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cargo del trabajo por el cliente (primera definición del problema), Recolección de información sobre el cliente, producto, competencia, público, Análi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rpretación y organización de la información , (segunda definición del problem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66760" y="1219320"/>
            <a:ext cx="8610480" cy="46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JORGE FRASCA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Intenta sintetizar los pasos más consta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terminación de objetivos: Determinación del canal, Estudio de alcance, contexto y mensaje, Análisis de prioridades y jerarquías, Especificaciones para la visualización,(tercera definición del problem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arrollo de anteproyecto, Presentación al cliente, Organización de la producción, Implementación, 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66760" y="1219320"/>
            <a:ext cx="861048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HACIA UNA ESTRATEGIA METODOLÓGICA PARA DISEÑ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uis Rodríguez Morales,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n su libro “teoría del diseño” concluye a partir de las diferentes opciones metodológicas en su critica sobre el método en diseño lo siguien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lta para el diseño un primer nivel de análisis que estudie la adecuación entre los méto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existencia de premisas que conformen una teoría sól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ha confundido técnica con méto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métodos deben acompañarse de un apoyo pedagóg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66760" y="1219320"/>
            <a:ext cx="861048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a metodología en diseño debe atender a diferentes parámetros definidos p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devenir de la disciplina desde lo académico, social, económico y político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 (contexto disciplinar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actividades y campos de lo proyectual, la creación y la construc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os parámetros deben atender a una didáctica que busque entre otras actividades, activar elementos reflexivos y proyectuales, estimular procesos creativos con elementos perceptivos, afianzar el uso de lo sensorial, lo intelectivo, lo cognitivo y expresivo, y estructurar una forma de abordar los saberes en busca de dar soluciones pertinentes al contex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66760" y="1219320"/>
            <a:ext cx="861048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niendo en cuenta todo lo anterior, una propuesta b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ásica propuesta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o estrategia metodológica para el diseño. Se basa en una estructura proyectual, sobre un método eminentemente dialéc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busca definir y entender el problema dándole elementos que sustenten el proceso crea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yecto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rategia de procedimiento que busque sistematizar los posibles caminos de solu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olución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osibilitar la implantación téc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eguimiento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tapas de producción y evaluac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DIVIDUAL TA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HOOSE A SCOPE OR CONTEXT OF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RY TO EXPLAIN AN IDEA IN THE SHAPE OF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POSE A DEVELOPMENT OF A PRODUCT OR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CRIBE THE STAGES OF WORK IN ACCORDANCE WITH I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LATE THE PROCESS OF DEVELOPMENT OF PRODUCTS TO TQM TOOLS AND EXPLAIN THEY AFFECT IN THE DEFINITION OF SERVICES AND FUNCTIONS OF THE NEW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IGN SEVEN SLIDES, INCLUDING ONE WHERE YOU EXPLAIN THE PURPOSE (LIKE TARGET MARKET) OF THE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IGN A MIND-MAP WITH THE SOURCE AND DESTINATION OF THE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ADLINE DATE AND PRESENTATION ON SEPTEMBER 23, 200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404640"/>
            <a:ext cx="914400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ff6600"/>
                </a:solidFill>
                <a:latin typeface="Arial"/>
              </a:rPr>
              <a:t>TOTAL QUALITY MANAGEMENT TASK (TQMT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Management Seminar II :: Industrial Design:: Universidad of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66760" y="1219320"/>
            <a:ext cx="8610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pretende tener claridad sobre el campo de acción en el cual trabajam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ender los alcances y/o limitaciones que se pueden presentar en un estudio sobre este tema en las áreas del conocimien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scendiendo así un conocimiento genérico que nos permite acceder a denominaciones claras y precisas para abordar en el problema especifico del diseñ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66760" y="1219320"/>
            <a:ext cx="86104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ETOD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fera de la ciencia que estudia los métodos generales y particulares de las investigaciones científicas, así como los principios para abordar diferentes tipos de objetos de la realidad y las distintas clases de teorías científicas (…). Conceptos específicos en la metodología de la ciencia son los métodos, medio, modo de la investigación y procedimiento con que se investi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760" y="121932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METO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del griego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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procedimiento para conocer, para investigar). Procedimiento para la acción práctica y teórica que define un obje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producción: procedimiento para elaborar las cosas, para cultivar las plantas o criar animales, etc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66760" y="1219320"/>
            <a:ext cx="8610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ETO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ciencia: modo de alcanzar nuevos resultados en el pensamiento (…). Sólo aquel método que se base en el conocimiento acerca de un objeto y de sus leyes puede proporcionar resultados útiles en la teoría y en la práctica. De ahí que la premisa del método sea una teoría científ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necesidad del método reside en remitir, a través de ciertas reglas, todo conocimiento a la certez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 método no es sino un camino seguro para lleg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 la verdad y evitar el err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66760" y="121932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TECN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del griego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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maestría, arte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stema de objetos creados por el hombre y que son indispensables para la realización de su activ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técnica es creada con base en el conocimiento y la utilización de las fuerzas y las leyes de la naturaleza y se plasman en ellas las funciones y hábitos de trabajo, la experiencia del homb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presión planificada de un propósito (Joan Cos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diseñar implica supeditar la creación de formas a un propósito, el propósito del diseño es siempre responder a una necesidad del hombre. Su verdadera dimensión y su rol social los adquiere al dar una respuesta formal a una función, es decir al modo de acción en virtud del cual un objeto cumple la finalidad por la cual ha sido creado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5:59:51Z</dcterms:created>
  <dc:creator>Laura</dc:creator>
  <dc:description/>
  <dc:language>en-US</dc:language>
  <cp:lastModifiedBy>Félix Maldonado</cp:lastModifiedBy>
  <dcterms:modified xsi:type="dcterms:W3CDTF">2009-09-02T15:03:48Z</dcterms:modified>
  <cp:revision>147</cp:revision>
  <dc:subject/>
  <dc:title>Presentación de PowerPoint</dc:title>
</cp:coreProperties>
</file>