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8.jpeg" ContentType="image/jpeg"/>
  <Override PartName="/ppt/media/image2.jpeg" ContentType="image/jpeg"/>
  <Override PartName="/ppt/media/image3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9D2D-FDC0-4D1C-900A-DA3C4539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8A6E-A7C2-4651-B124-56AFADD8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B067-48D7-4443-B936-FC7D3217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5BC5-D95A-44F7-9BD7-AB06C95B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AAF6-FD17-4972-8F2C-651076A6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B555-14A8-418B-BBB4-665C1A34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7659-46CE-4300-AB59-477FA09E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D67D-0948-4E65-BCA0-5F6D7A08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F38F-C623-47E3-AEF9-57F407A1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FFD3-3DB5-49E7-A9B7-E4ADD5CB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C699-8B48-430B-9E47-9ABBFCB6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CD3B-F547-40B2-8B0E-CDE1841C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8B35-9C8C-4FB5-AFAF-E6D20ABC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B52D-E9FA-449C-824D-29E00516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C420-61CF-470E-AFF4-DE65FC51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BD3B-F955-4751-920D-1EE1FAC6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47E5-6F70-4073-AC22-5BE588D3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7D5A-8782-472A-9414-31286E9B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18D9-A0D2-410C-9CC1-308122D2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932A-7DBD-45C7-85AA-E19FD418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35B3-4B7B-447E-BF8D-79DBBC01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C07A-2D9F-4359-8F2E-D9B5AF04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7B87-72DB-4642-BFF2-0834CB76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EA50-37B0-4041-AA9D-A761827B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4610-2285-4497-B107-F0BDAAAB016B}" type="slidenum"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7440" y="5157720"/>
            <a:ext cx="766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90"/>
                </a:solidFill>
                <a:latin typeface="Times New Roman"/>
              </a:rPr>
              <a:t>ISO 9001:2000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8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5AD7-4783-4CEF-AE49-3183ABC683B1}" type="slidenum"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rcRect l="0" t="75751" r="0" b="2406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0385280" y="5718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ffffff"/>
                </a:solidFill>
                <a:latin typeface="Arial"/>
              </a:rPr>
              <a:t>ISO 9001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3886200"/>
            <a:ext cx="8763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Osaka"/>
              </a:rPr>
              <a:t>Introducción y revisión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6600"/>
                </a:solidFill>
                <a:latin typeface="Arial"/>
                <a:ea typeface="Osaka"/>
              </a:rPr>
              <a:t>Algunos métodos de diseñ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Osaka"/>
              </a:rPr>
              <a:t>&lt; variadas opciones 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66760" y="1219320"/>
            <a:ext cx="8610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palabra diseño ha sido siempre ligada a términos com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r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st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d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ye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gr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66760" y="1219320"/>
            <a:ext cx="8610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odos estos conceptos están ligados a actividades que implic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creación de id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mplementacion proyectual en elementos form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Que deben ser definidos a partir de una estructura ordenada que entendemos hoy por hoy como méto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66760" y="1219320"/>
            <a:ext cx="861048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así como Guillermo González Ruiz, propone cuatro denominadores comunes para el acto del diseñ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presencia de un plan ment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existencia de un propósito movilizador de ese pl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convivencia en un mismo territorio del saber zonificado en tres campos de acción; el arquitectónico, el objetual y el comunic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 pensamiento visual que fusiona lo sensorial y lo racional; y un quinto denominador que es la necesidad de un modo de enseñanza y aprendizaje metodológ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66760" y="1219320"/>
            <a:ext cx="86104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acuerdo a lo anterior entendemos que cualquier tipo de metodología aplica necesariamente a un método sea este cual fuere; pero centraremos nuestro análisis a metodológicas que aborden campos 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lo proyectu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lo creativ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la función y la for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a que algunas metodologías, atienden solo parcialmente a algunos de los campos anteri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35200" y="1295280"/>
            <a:ext cx="7470720" cy="499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514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3520" y="1127160"/>
            <a:ext cx="8076960" cy="527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35400" y="1600200"/>
            <a:ext cx="427032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216080" y="1228680"/>
            <a:ext cx="6708600" cy="517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076960" cy="3600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904480" y="121932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ceso estandar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66760" y="1219320"/>
            <a:ext cx="861048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stintos métodos -a lo largo de la historia- se han utilizado y complementad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de la Edad Media y el Renacimi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el siglo XVII con el inicio de la separación entre arte y técnica culminando en el siglo XIX, aparece el Arts and Craf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partir del siglo XX, la Bauhaus formaliza los métodos de un manejo más objetivo con el surgimiento del funcionalism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CONCEPTOS GENER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04480" y="121932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ceso estandar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553440" cy="446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04480" y="121932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ceso estandar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553440" cy="446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66760" y="1219320"/>
            <a:ext cx="86104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STRUCTURAS FORMALES DE MÉTODOS PARA EL DISE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continuación exponemos un resumen de diferentes estructuras metodológicas que atienden a la actividad del diseñ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HRISTOPHER J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ja negr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tradas, Proceso y sali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ja transparen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 - Divergencia - Trans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vergencia - Evalu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66760" y="1219320"/>
            <a:ext cx="861048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HRISTOPHER J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ició las ideas sobre la necesidad de un método, así como los conceptos de caja negra y caja transparente. En el primero se considera que el diseñador es capaz de producir resultados en los que confía y que a menudo tiene éxito, mas no es capaz de explicar cómo llegó ahí. Sus características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diseño final está conformado por experiencias anteri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 producción se ve acelerada mediante el relajamiento de las inhibiciones a la creativ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apacidad de producir resultados depende de la disponibilidad de tiemp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pentinamente se percibe una nueva manera de estructurar el probl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trol consciente de las maneras en que se estructura el probl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66760" y="1219320"/>
            <a:ext cx="861048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HRISTOPHER J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características de la caja transparente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bjetivos, variables y criterios fijados de antema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álisis del problema completado antes de iniciar las solu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evaluación es verbal y lóg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s estrategias se establecen 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s estrategias son lineales y con retroaliment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66760" y="1219320"/>
            <a:ext cx="861048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ORRIS ASIMOW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habla de fases de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Fases primaria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ecesidad - Estudio de factibilidad - Proyecto preliminar - Proyecto detall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Fase del Ciclo Producción - Consumo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laneación de distribución - Planeación del consumo - Planeación del retiro (Análisis, síntesis, evaluación y decisión, optimización, revisión, implementación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66760" y="1219320"/>
            <a:ext cx="8610480" cy="47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ORRIS ASIMOW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ibe el proceso de diseño de manera muy similar al de la información. La actividad proyectual consiste en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"la recolección, manejo y organización creativa de información relevante de la situación del problema (...) tiene carácter iterativo, se dispone de nueva información o se gana una nueva comprensión que requiere se repitan operaciones previas”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Asimow plantea las siguientes fas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ínte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valu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Optim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vi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mplement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66760" y="1219320"/>
            <a:ext cx="8610480" cy="50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BRUCE ARCHER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Systemic Method For Designers, 1963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pone como definición de diseño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"...seleccionar los materiales correctos y darles forma para satisfacer las necesidades de función y estéticas dentro de las limitaciones de los medios de producción disponibles"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por lo tanto, el proceso de diseño debe contener las etapas analítica, creativa y de ejecución, que a su vez se subdividen 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. Definición del problema y preparación del programa detall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. Obtener datos relevantes, preparar especificaciones y retroalimentar la fase 1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. Análisis y síntesis de los datos para preparar propuestas de diseñ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. Desarrollo de prototip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. Preparar y ejecutar estudios y experimentos que validen el diseñ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6. Preparar documentos para la produc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66760" y="1219320"/>
            <a:ext cx="86104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BRUCE ARCHER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Systemic Method For Design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ase Analítica: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pilación de datos. Ordenamiento. Evaluación. Definición de condicionantes. Estructuración y jerarqu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ase Creativa: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Implicancias. Formulación de ideas rectoras. Toma de partido o idea bás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ormalización de la idea. Verific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ase Ejecutiva: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aloración crítica. Ajuste de la idea. Desarrollo. Proceso iterativo. materi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66760" y="12193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ANS GUGUELOT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ropone una metodología básica para el diseño con base en los principios y fundamentos de la Buena Forma (Gute Form). Las etapas de este método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información. Recolección de la inform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investigación. Necesidades del usuario, contexto, funcionalidad, requerimien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diseño. Estudio tipológico, apoyo en conocimientos científicos, no en la inspir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decisión. Estudios de costo/beneficios, estudio tecnológico fundament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cálculo. Ajuste del diseño a las normas y estándares de materiales y produ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trucción del prototipo. Pruebas y evalu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66760" y="121932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busca dar solución a una estructura formal que permita defini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primera instancia una visión marco del problema de método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segunda instancia, el problema específico de la estructuración en la creación del diseñ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CONCEPTOS GENER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66760" y="1219320"/>
            <a:ext cx="861048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ANS GUGUELOT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resumen sus etapas de diseño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sentación del proble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nálisis del estado actu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finición del problema y de las metas. Creación de alternativ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valuación y selec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lanificación de la produc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331200" y="15699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66760" y="1219320"/>
            <a:ext cx="861048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HRISTOPHER ALEXA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Contexto for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Mundo re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magen ment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magen formal de la imagen ment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texto: Ubicación física. Uso. Métodos de fabricación. (no controlados por el Diseñado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66760" y="1219320"/>
            <a:ext cx="86104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SCAR OLEA - CARLOS GONZALE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Análisis y diseño lógic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aso, Problema, Hipótesis, Proyecto, Re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GULLERMO GONZALEZ RUI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dentificación. Recopilación. Síntesis. Gestación. Iluminación. Elaboración. Verific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266760" y="1219320"/>
            <a:ext cx="86104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BRUNO MUN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, Definición del problema. Definición y reconocimiento de subproble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pilación de da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álisis de da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reativ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ateriales - Tecnolog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erimentación, Model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erific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bujos constructiv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olu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66760" y="1219320"/>
            <a:ext cx="8610480" cy="47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JORGE FRASCA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Intenta sintetizar los pasos más consta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cargo del trabajo por el cliente (primera definición del problema), Recolección de información sobre el cliente, producto, competencia, público, Análi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terpretación y organización de la información , (segunda definición del problema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66760" y="1219320"/>
            <a:ext cx="8610480" cy="46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JORGE FRASCA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Intenta sintetizar los pasos más consta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terminación de objetivos: Determinación del canal, Estudio de alcance, contexto y mensaje, Análisis de prioridades y jerarquías, Especificaciones para la visualización,(tercera definición del problem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arrollo de anteproyecto, Presentación al cliente, Organización de la producción, Implementación, Verific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66760" y="1219320"/>
            <a:ext cx="861048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HACIA UNA ESTRATEGIA METODOLÓGICA PARA DISEÑ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uis Rodríguez Morales,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en su libro “teoría del diseño” concluye a partir de las diferentes opciones metodológicas en su critica sobre el método en diseño lo siguien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lta para el diseño un primer nivel de análisis que estudie la adecuación entre los méto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existencia de premisas que conformen una teoría sól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ha confundido técnica con méto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os métodos deben acompañarse de un apoyo pedagóg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66760" y="1219320"/>
            <a:ext cx="861048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a metodología en diseño debe atender a diferentes parámetros definidos p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devenir de la disciplina desde lo académico, social, económico y político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 (contexto disciplinar)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s actividades y campos de lo proyectual, la creación y la construc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tos parámetros deben atender a una didáctica que busque entre otras actividades, activar elementos reflexivos y proyectuales, estimular procesos creativos con elementos perceptivos, afianzar el uso de lo sensorial, lo intelectivo, lo cognitivo y expresivo, y estructurar una forma de abordar los saberes en busca de dar soluciones pertinentes al contex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66760" y="1219320"/>
            <a:ext cx="8610480" cy="47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niendo en cuenta todo lo anterior, una propuesta b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ásica propuesta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o estrategia metodológica para el diseño. Se basa en una estructura proyectual, sobre un método eminentemente dialéct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busca definir y entender el problema dándole elementos que sustenten el proceso crea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yecto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rategia de procedimiento que busque sistematizar los posibles caminos de solu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olución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osibilitar la implantación técn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eguimiento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tapas de producción y evaluac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DIVIDUAL TA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HOOSE A SCOPE OR CONTEXT OF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RY TO EXPLAIN AN IDEA IN THE SHAPE OF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POSE A DEVELOPMENT OF A PRODUCT OR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SCRIBE THE STAGES OF WORK IN ACCORDANCE WITH I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LATE THE PROCESS OF DEVELOPMENT OF PRODUCTS TO TQM TOOLS AND EXPLAIN THEY AFFECT IN THE DEFINITION OF SERVICES AND FUNCTIONS OF THE NEW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SIGN SEVEN SLIDES, INCLUDING ONE WHERE YOU EXPLAIN THE PURPOSE (LIKE TARGET MARKET) OF THE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SIGN A MIND-MAP WITH THE SOURCE AND DESTINATION OF THE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ADLINE DATE AND PRESENTATION ON SEPTEMBER 23, 2009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404640"/>
            <a:ext cx="914400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ff6600"/>
                </a:solidFill>
                <a:latin typeface="Arial"/>
              </a:rPr>
              <a:t>TOTAL QUALITY MANAGEMENT TASK (TQMT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Management Seminar II :: Industrial Design:: Universidad of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66760" y="1219320"/>
            <a:ext cx="861048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pretende tener claridad sobre el campo de acción en el cual trabajam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tender los alcances y/o limitaciones que se pueden presentar en un estudio sobre este tema en las áreas del conocimient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rascendiendo así un conocimiento genérico que nos permite acceder a denominaciones claras y precisas para abordar en el problema especifico del diseñ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66760" y="1219320"/>
            <a:ext cx="861048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ETODOLO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fera de la ciencia que estudia los métodos generales y particulares de las investigaciones científicas, así como los principios para abordar diferentes tipos de objetos de la realidad y las distintas clases de teorías científicas (…). Conceptos específicos en la metodología de la ciencia son los métodos, medio, modo de la investigación y procedimiento con que se investig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66760" y="121932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METO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del griego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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, procedimiento para conocer, para investigar). Procedimiento para la acción práctica y teórica que define un objet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producción: procedimiento para elaborar las cosas, para cultivar las plantas o criar animales, etc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66760" y="1219320"/>
            <a:ext cx="8610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ETO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ciencia: modo de alcanzar nuevos resultados en el pensamiento (…). Sólo aquel método que se base en el conocimiento acerca de un objeto y de sus leyes puede proporcionar resultados útiles en la teoría y en la práctica. De ahí que la premisa del método sea una teoría científ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necesidad del método reside en remitir, a través de ciertas reglas, todo conocimiento a la certez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 método no es sino un camino seguro para lleg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 la verdad y evitar el err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66760" y="121932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TECN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del griego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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maestría, arte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stema de objetos creados por el hombre y que son indispensables para la realización de su activid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técnica es creada con base en el conocimiento y la utilización de las fuerzas y las leyes de la naturaleza y se plasman en ellas las funciones y hábitos de trabajo, la experiencia del homb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6760" y="1219320"/>
            <a:ext cx="8610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xpresión planificada de un propósito (Joan Cos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 diseñar implica supeditar la creación de formas a un propósito, el propósito del diseño es siempre responder a una necesidad del hombre. Su verdadera dimensión y su rol social los adquiere al dar una respuesta formal a una función, es decir al modo de acción en virtud del cual un objeto cumple la finalidad por la cual ha sido creado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15:59:51Z</dcterms:created>
  <dc:creator>Laura</dc:creator>
  <dc:description/>
  <dc:language>en-US</dc:language>
  <cp:lastModifiedBy>Félix Maldonado</cp:lastModifiedBy>
  <dcterms:modified xsi:type="dcterms:W3CDTF">2009-09-02T15:03:48Z</dcterms:modified>
  <cp:revision>147</cp:revision>
  <dc:subject/>
  <dc:title>Presentación de PowerPoint</dc:title>
</cp:coreProperties>
</file>