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4.png" ContentType="image/png"/>
  <Override PartName="/ppt/media/image8.jpeg" ContentType="image/jpeg"/>
  <Override PartName="/ppt/media/image2.jpeg" ContentType="image/jpeg"/>
  <Override PartName="/ppt/media/image3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F5D-C6D4-4B8E-A0F6-92BAB339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5DD0-6EDC-4173-8B8D-67360049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DC2-F43C-4401-9A81-E49A9488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57F-FD10-4AF6-A7E2-BD78ECA8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B1A4-454A-4226-85B3-0B84DEA9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9EC0-4922-4829-94BF-3D64A2B6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ACBE-F491-4C11-8A57-651824CD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E339-7BA0-437D-9383-15EDD18A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74BA-D6A4-47AD-BE77-360BA2B0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F4C6-ECC4-43C2-846B-CB333397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FAA9-8624-4EA4-8D2E-553B62CD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A31-2AA7-45BF-9F7F-B546BED0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2272-B162-4ACE-A18F-7DFFB4E9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900E-278B-4E91-9DBD-418EFDA6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5A15-EBCF-4A84-B739-6EC41834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D400-D64D-43A7-A5EA-AE9CBBC4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BECA-5583-4329-90A5-C4693ECB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703-512E-4480-83DB-7E9A3171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89C-BE0B-4D35-B39C-7214A770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C6A3-0950-41F0-B117-AE019312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776-97FE-45E2-8D83-87DD5FD1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076B-B0D0-4D0D-B19D-CAF3EFA3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A16-E341-4810-9FAC-EE86C814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0748-702B-48FA-BAB7-8FF790E4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29BA-FEC8-431D-8646-826CCF8805CD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57440" y="5157720"/>
            <a:ext cx="766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600" spc="-1" strike="noStrike">
                <a:solidFill>
                  <a:srgbClr val="000090"/>
                </a:solidFill>
                <a:latin typeface="Times New Roman"/>
              </a:rPr>
              <a:t>ISO 9001:2000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8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B360-9314-4F50-80C5-934D5B09D59C}" type="slidenum">
              <a:rPr b="0" lang="de-DE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rcRect l="0" t="75751" r="0" b="2406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385280" y="57182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388620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Introducción y revisión 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6600"/>
                </a:solidFill>
                <a:latin typeface="Arial"/>
                <a:ea typeface="Osaka"/>
              </a:rPr>
              <a:t>Algunos métodos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Osaka"/>
              </a:rPr>
              <a:t>&lt; variadas opciones 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palabra diseño ha sido siempre ligada a términos co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Or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d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ye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Todos estos conceptos están ligados a actividades que implica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reación de ide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mplementacion proyectual en elementos forma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Que deben ser definidos a partir de una estructura ordenada que entendemos hoy por hoy como méto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66760" y="1219320"/>
            <a:ext cx="861048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así como Guillermo González Ruiz, propone cuatro denominadores comunes para el acto del diseñ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presencia de un plan ment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xistencia de un propósito movilizador de ese pl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convivencia en un mismo territorio del saber zonificado en tres campos de acción; el arquitectónico, el objetual y el comunic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pensamiento visual que fusiona lo sensorial y lo racional; y un quinto denominador que es la necesidad de un modo de enseñanza y aprendizaje metodológ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66760" y="1219320"/>
            <a:ext cx="86104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acuerdo a lo anterior entendemos que cualquier tipo de metodología aplica necesariamente a un método sea este cual fuere; pero centraremos nuestro análisis a metodológicas que aborden campos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o proyectu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o creativ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la función y la for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a que algunas metodologías, atienden solo parcialmente a algunos de los campos anteri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35200" y="1295280"/>
            <a:ext cx="7470720" cy="4994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14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127160"/>
            <a:ext cx="8076960" cy="527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35400" y="1600200"/>
            <a:ext cx="4270320" cy="4267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216080" y="1228680"/>
            <a:ext cx="6708600" cy="5172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8076960" cy="3600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66760" y="1219320"/>
            <a:ext cx="861048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stintos métodos -a lo largo de la historia- se han utilizado y complementad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de la Edad Media y el Renaci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el siglo XVII con el inicio de la separación entre arte y técnica culminando en el siglo XIX, aparece el Arts and Craf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partir del siglo XX, la Bauhaus formaliza los métodos de un manejo más objetivo con el surgimiento del funcionalism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CEPTOS GENE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7040" y="304920"/>
            <a:ext cx="8628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OCESO DE DESARROLLO DE PRODUC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04480" y="121932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ceso estandari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4461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66760" y="1219320"/>
            <a:ext cx="86104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TRUCTURAS FORMALES DE MÉTODOS PARA EL DISE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 continuación exponemos un resumen de diferentes estructuras metodológicas que atienden a la actividad del diseñ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ja neg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radas, Proceso y sali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ja transparen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- Divergencia - Trans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vergencia - Evalu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66760" y="1219320"/>
            <a:ext cx="861048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ició las ideas sobre la necesidad de un método, así como los conceptos de caja negra y caja transparente. En el primero se considera que el diseñador es capaz de producir resultados en los que confía y que a menudo tiene éxito, mas no es capaz de explicar cómo llegó ahí. Sus características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iseño final está conformado por experiencia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u producción se ve acelerada mediante el relajamiento de las inhibiciones a la creativ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apacidad de producir resultados depende de la disponibilidad de tiemp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pentinamente se percibe una nueva manera de estructurar el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trol consciente de las maneras en que se estructura el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66760" y="1219320"/>
            <a:ext cx="861048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J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características de la caja transparente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bjetivos, variables y criterios fijados de antema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l problema completado antes de iniciar las solu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evaluación es verbal y lóg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estrategias se establecen 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s estrategias son lineales y con retroalimen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66760" y="1219320"/>
            <a:ext cx="86104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ORRIS ASIMO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habla de fases de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ses primaria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ecesidad - Estudio de factibilidad - Proyecto preliminar - Proyecto detall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Fase del Ciclo Producción - Consumo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laneación de distribución - Planeación del consumo - Planeación del retiro (Análisis, síntesis, evaluación y decisión, optimización, revisión, implementación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6760" y="1219320"/>
            <a:ext cx="8610480" cy="47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ORRIS ASIMOW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cibe el proceso de diseño de manera muy similar al de la información. La actividad proyectual consiste en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"la recolección, manejo y organización creativa de información relevante de la situación del problema (...) tiene carácter iterativo, se dispone de nueva información o se gana una nueva comprensión que requiere se repitan operaciones previas”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Asimow plantea las siguientes fas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ínte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valu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Optim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66760" y="1219320"/>
            <a:ext cx="8610480" cy="50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CE ARCHER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ystemic Method For Designers, 1963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pone como definición de diseñ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"...seleccionar los materiales correctos y darles forma para satisfacer las necesidades de función y estéticas dentro de las limitaciones de los medios de producción disponibles"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por lo tanto, el proceso de diseño debe contener las etapas analítica, creativa y de ejecución, que a su vez se subdividen 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1. Definición del problema y preparación del programa detall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2. Obtener datos relevantes, preparar especificaciones y retroalimentar la fase 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3. Análisis y síntesis de los datos para preparar propuestas de dis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4. Desarrollo de prototip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5. Preparar y ejecutar estudios y experimentos que validen el dis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6. Preparar documentos para la prod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66760" y="1219320"/>
            <a:ext cx="86104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CE ARCHER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Systemic Method For Design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Analític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pilación de datos. Ordenamiento. Evaluación. Definición de condicionantes. Estructuración y jerarqu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Creativa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Implicancias. Formulación de ideas rectoras. Toma de partido o idea bás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ormalización de la idea. 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Fase Ejecutiv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aloración crítica. Ajuste de la idea. Desarrollo. Proceso iterativo. materi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66760" y="12193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ANS GUGUELOT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ropone una metodología básica para el diseño con base en los principios y fundamentos de la Buena Forma (Gute Form). Las etapas de este método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información. Recolección de la inform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investigación. Necesidades del usuario, contexto, funcionalidad, requerimien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iseño. Estudio tipológico, apoyo en conocimientos científicos, no en la inspir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decisión. Estudios de costo/beneficios, estudio tecnológico fundament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 cálculo. Ajuste del diseño a las normas y estándares de materiales y produ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strucción del prototipo. Pruebas y evalu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6676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busca dar solución a una estructura formal que permita defini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primera instancia una visión marco del problema de método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segunda instancia, el problema específico de la estructuración en la creación del diseñ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CONCEPTOS GENERA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66760" y="1219320"/>
            <a:ext cx="861048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HANS GUGUELOT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resumen sus etapas de diseño s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entación del proble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nálisis del estado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 del problema y de las metas. Creación de alternat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valuación y sele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anificación de la produc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331200" y="15699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6760" y="1219320"/>
            <a:ext cx="861048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HRISTOPHER ALEXA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ontexto for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undo re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n men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magen formal de la imagen ment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exto: Ubicación física. Uso. Métodos de fabricación. (no controlados por el Diseñado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66760" y="1219320"/>
            <a:ext cx="86104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SCAR OLEA - CARLOS GONZAL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nálisis y diseño lógic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aso, Problema, Hipótesis, Proyecto, Re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GULLERMO GONZALEZ RU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dentificación. Recopilación. Síntesis. Gestación. Iluminación. Elaboración. Verific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66760" y="1219320"/>
            <a:ext cx="86104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BRUNO MUN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, Definición del problema. Definición y reconocimiento de subproble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pilación de d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álisis de da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eativ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teriales - Tecnolog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erimentación, Mode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bujos constructiv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olu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66760" y="1219320"/>
            <a:ext cx="8610480" cy="47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JORGE FRASCA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Intenta sintetizar los pasos más cons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cargo del trabajo por el cliente (primera definición del problema), Recolección de información sobre el cliente, producto, competencia, público, Análi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rpretación y organización de la información , (segunda definición del problem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66760" y="1219320"/>
            <a:ext cx="861048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JORGE FRASCA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Intenta sintetizar los pasos más constant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terminación de objetivos: Determinación del canal, Estudio de alcance, contexto y mensaje, Análisis de prioridades y jerarquías, Especificaciones para la visualización,(tercera definición del problem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arrollo de anteproyecto, Presentación al cliente, Organización de la producción, Implementación, Verific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66760" y="1219320"/>
            <a:ext cx="861048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HACIA UNA ESTRATEGIA METODOLÓGICA PARA DISEÑ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uis Rodríguez Morales,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n su libro “teoría del diseño” concluye a partir de las diferentes opciones metodológicas en su critica sobre el método en diseño lo siguien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alta para el diseño un primer nivel de análisis que estudie la adecuación entre los méto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existencia de premisas que conformen una teoría sól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ha confundido técnica con méto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métodos deben acompañarse de un apoyo pedagóg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66760" y="1219320"/>
            <a:ext cx="8610480" cy="42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a metodología en diseño debe atender a diferentes parámetros definidos p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devenir de la disciplina desde lo académico, social, económico y político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 (contexto disciplinar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s actividades y campos de lo proyectual, la creación y la construc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tos parámetros deben atender a una didáctica que busque entre otras actividades, activar elementos reflexivos y proyectuales, estimular procesos creativos con elementos perceptivos, afianzar el uso de lo sensorial, lo intelectivo, lo cognitivo y expresivo, y estructurar una forma de abordar los saberes en busca de dar soluciones pertinentes al contex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6760" y="1219320"/>
            <a:ext cx="861048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eniendo en cuenta todo lo anterior, una propuesta b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ásica propuesta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o estrategia metodológica para el diseño. Se basa en una estructura proyectual, sobre un método eminentemente dialéct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busca definir y entender el problema dándole elementos que sustenten el proceso crea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yecto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rategia de procedimiento que busque sistematizar los posibles caminos de solu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olu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posibilitar la implantación téc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eguimiento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tapas de producción y evaluac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7040" y="304920"/>
            <a:ext cx="8628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APROXIMACION A UN METODO DE 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DIVIDUAL 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HOOSE A SCOPE OR CONTEXT OF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Y TO EXPLAIN AN IDEA IN THE SHAPE OF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POSE A DEVELOPMENT OF A PRODUCT OR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CRIBE THE STAGES OF WORK IN ACCORDANCE WITH I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LATE THE PROCESS OF DEVELOPMENT OF PRODUCTS TO TQM TOOLS AND EXPLAIN THEY AFFECT IN THE DEFINITION OF SERVICES AND FUNCTIONS OF THE NEW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IGN SEVEN SLIDES, INCLUDING ONE WHERE YOU EXPLAIN THE PURPOSE (LIKE TARGET MARKET) OF THE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45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IGN A MIND-MAP WITH THE SOURCE AND DESTINATION OF THE 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44600" indent="-345240">
              <a:lnSpc>
                <a:spcPct val="110000"/>
              </a:lnSpc>
              <a:spcBef>
                <a:spcPts val="601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ADLINE DATE AND PRESENTATION ON SEPTEMBER 23, 2009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404640"/>
            <a:ext cx="914400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ff6600"/>
                </a:solidFill>
                <a:latin typeface="Arial"/>
              </a:rPr>
              <a:t>TOTAL QUALITY MANAGEMENT TASK (TQMT)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Management Seminar II :: Industrial Design:: Universidad of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66760" y="1219320"/>
            <a:ext cx="8610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pretende tener claridad sobre el campo de acción en el cual trabajam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tender los alcances y/o limitaciones que se pueden presentar en un estudio sobre este tema en las áreas del conocimient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scendiendo así un conocimiento genérico que nos permite acceder a denominaciones claras y precisas para abordar en el problema especifico del diseñ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66760" y="1219320"/>
            <a:ext cx="8610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TODOLOG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fera de la ciencia que estudia los métodos generales y particulares de las investigaciones científicas, así como los principios para abordar diferentes tipos de objetos de la realidad y las distintas clases de teorías científicas (…). Conceptos específicos en la metodología de la ciencia son los métodos, medio, modo de la investigación y procedimiento con que se investi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66760" y="121932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METO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del griego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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procedimiento para conocer, para investigar). Procedimiento para la acción práctica y teórica que define un objet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producción: procedimiento para elaborar las cosas, para cultivar las plantas o criar animales, etc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66760" y="1219320"/>
            <a:ext cx="8610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TO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iencia: modo de alcanzar nuevos resultados en el pensamiento (…). Sólo aquel método que se base en el conocimiento acerca de un objeto y de sus leyes puede proporcionar resultados útiles en la teoría y en la práctica. De ahí que la premisa del método sea una teoría cientí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necesidad del método reside en remitir, a través de ciertas reglas, todo conocimiento a la certez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 método no es sino un camino seguro para lleg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 la verdad y evitar el err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66760" y="121932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TECN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del griego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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maestría, arte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stema de objetos creados por el hombre y que son indispensables para la realización de su activ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écnica es creada con base en el conocimiento y la utilización de las fuerzas y las leyes de la naturaleza y se plasman en ellas las funciones y hábitos de trabajo, la experiencia del homb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ACLARACION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6760" y="1219320"/>
            <a:ext cx="8610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resión planificada de un propósito (Joan Cost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diseñar implica supeditar la creación de formas a un propósito, el propósito del diseño es siempre responder a una necesidad del hombre. Su verdadera dimensión y su rol social los adquiere al dar una respuesta formal a una función, es decir al modo de acción en virtud del cual un objeto cumple la finalidad por la cual ha sido creado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06524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7040" y="304920"/>
            <a:ext cx="862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EL “ACTO” DE DISEÑ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4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Osaka"/>
              </a:rPr>
              <a:t>Seminario de gestión II :: Diseño Industrial :: Universidad de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5:59:51Z</dcterms:created>
  <dc:creator>Laura</dc:creator>
  <dc:description/>
  <dc:language>en-US</dc:language>
  <cp:lastModifiedBy>Félix Maldonado</cp:lastModifiedBy>
  <dcterms:modified xsi:type="dcterms:W3CDTF">2009-09-02T15:03:48Z</dcterms:modified>
  <cp:revision>147</cp:revision>
  <dc:subject/>
  <dc:title>Presentación de PowerPoint</dc:title>
</cp:coreProperties>
</file>