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9DC-26E9-4D16-A5EB-3E812239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C04-C5E4-42C7-B946-B12AF74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B1D-02BD-4F24-B780-B8E5BA2C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D5E-AEAF-407A-982E-5F83583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68A0-114F-4A48-AE5B-68A12779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F05-DB8D-4658-ACFE-EE812824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465E-47E3-42EC-A716-C63791F6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C8B4-042B-4C45-9FE9-70F21DD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DD4-0B6C-4AF0-9E50-6250C7E5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8C43-A2B2-428B-BAD0-DFCA140E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361D-3DF3-4870-881E-B7F667E6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2AC-B0A2-4E5C-8A6F-403982B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905-0442-4C5C-A0E7-9F08838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0759-9F66-4748-BE34-A83601F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DE0-FE06-43F6-A203-CDF736E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53E-EB81-4AD5-AEA7-7F784957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6AE0-939C-4FE5-BD1C-30F28C81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5B5-D88F-4D45-9985-A3A5382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224-19BC-43B8-9564-612EBB6F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2FE-CA69-486C-852E-61B3D78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D6A-7348-4368-AF96-890B016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B73-F248-4280-BA28-3F836F7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B14-3FBC-454F-9462-9CE11AD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BE8-9EBC-4140-AA45-3E29304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563-56E7-4171-9F6A-15047DBB8E1F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A96-54E5-41A5-B036-3F6431348425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3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TENDENCI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5486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Breve vis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9101160" cy="6284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RABAJO CALIFIC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1362240"/>
            <a:ext cx="78440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TREGA FINAL :: 19 DE NOVIEMBRE DE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&lt; MAPA Y ENSAYO ESCRITO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termine una tendencia, construya el mapa mental correspondiente al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alice su origen y su proyec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a 10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baje en duplas, para realizar el a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lisis de una ca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utilizar software o hacerlo dibujado 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onga en la clase del 19 de noviembre el map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alice un ensayo para explicar lo analiz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e imágenes, color, tex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rabajo es calificado coeficiente 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 algn="ctr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10-22T12:06:47Z</dcterms:modified>
  <cp:revision>154</cp:revision>
  <dc:subject/>
  <dc:title>Presentación de PowerPoint</dc:title>
</cp:coreProperties>
</file>