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9AD-2795-473D-B82A-1C10CCFC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974-6754-456F-A342-887B1444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6AA-FEB6-461A-9233-4EFF46AA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236-61B6-414D-85E6-B7123881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01FC-B5FA-4EA2-86ED-E620230F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9315-D725-4AF1-AC60-0140C4DB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5515-DB01-4D81-8043-50916E88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FA5D-8C0B-4FF2-99B1-9D8C62E6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F586-6424-4AEB-9057-52C2A858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48FA-1417-4246-94AF-0BBCFFA4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71ED-F986-42E9-8BB0-0DEF334F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BAF-6110-4033-A57F-840522C1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668A-3F11-429F-AE88-7DECC888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9B58-75F1-417B-B4B5-BA6735DD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A253-63A2-4A69-8050-9BC98874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A2BE-ED76-451D-9B02-A2D1E42D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8310-E0CA-465C-8D62-315E69A8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F39-E5C0-4F11-83FD-8C01B2E5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130-3A52-4CC2-A047-CAF07288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B5B-3C05-4638-8C50-DD67C3FE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72D-74AB-487B-BEF4-71DE213A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0C7-1813-43EB-96AB-A5E98C3B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DC5-D849-4869-AEA7-E32CE954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049-446A-47E2-AC7D-99576967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9DF1-0C5D-468E-82A3-25F3B7169D4F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440" y="5157720"/>
            <a:ext cx="76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90"/>
                </a:solidFill>
                <a:latin typeface="Times New Roman"/>
              </a:rPr>
              <a:t>ISO 9001:20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C3D2-317F-42D5-9FAE-D454896CF6E5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3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ff"/>
                </a:solidFill>
                <a:latin typeface="Arial"/>
              </a:rPr>
              <a:t>TENDENCIA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09480" y="54860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Breve vis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4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5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0520" y="0"/>
            <a:ext cx="9101160" cy="6284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TRABAJO CALIFIC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0480" y="1362240"/>
            <a:ext cx="78440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TREGA FINAL :: 19 DE NOVIEMBRE DE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&lt; MAPA Y ENSAYO ESCRITO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termine una tendencia, construya el mapa mental correspondiente al probl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nalice su origen y su proyecc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a 10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baje en duplas, para realizar el a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lisis de una ca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utilizar software o hacerlo dibujado a m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ponga en la clase del 19 de noviembre el map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alice un ensayo para explicar lo analiz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se imágenes, color, tex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rabajo es calificado coeficiente 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 algn="ctr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5:59:51Z</dcterms:created>
  <dc:creator>Laura</dc:creator>
  <dc:description/>
  <dc:language>en-US</dc:language>
  <cp:lastModifiedBy>Félix Maldonado</cp:lastModifiedBy>
  <dcterms:modified xsi:type="dcterms:W3CDTF">2009-10-22T12:06:47Z</dcterms:modified>
  <cp:revision>154</cp:revision>
  <dc:subject/>
  <dc:title>Presentación de PowerPoint</dc:title>
</cp:coreProperties>
</file>