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202-D639-40FF-BE4E-EDB8AB3C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8BD-025C-4D0A-8ABF-5B7B9D84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B65-B0BD-4BAD-B354-8163F621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425-05EA-407E-BB0E-9D825378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B9A-DF11-4278-885F-085076BB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A77-1ED3-4F5E-84F7-59B69E6E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61D-1875-435B-9F5D-7306E357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A27-4A11-41E0-93F5-A931F11A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73A-EB60-43A5-851E-1C88565C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159-742A-4758-A82D-35C14D67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4CA-EE45-4AF3-9872-F1BEB626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4DD-A31D-4708-AB2B-6320AD05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3F1C-A60C-4762-9642-47B2FD4FC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concursocasacentral.uchilefau.cl/video1.htm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0" y="-73080"/>
            <a:ext cx="78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ALLER SUHRCKE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_ LICENCIATURA SEGUNDO SEMEST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24000" y="1673280"/>
            <a:ext cx="32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ONOGRAF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59680" y="65214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14_09_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0000" y="115920"/>
            <a:ext cx="40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Bodegas en La Rio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laceres"/>
          <p:cNvPicPr/>
          <p:nvPr/>
        </p:nvPicPr>
        <p:blipFill>
          <a:blip r:embed="rId1"/>
          <a:stretch/>
        </p:blipFill>
        <p:spPr>
          <a:xfrm>
            <a:off x="755640" y="981000"/>
            <a:ext cx="3095640" cy="201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2924280"/>
            <a:ext cx="35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FRANK GHERY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Bodegas Marqués de Riscal (Elciego, Álav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05264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9680" y="103680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106848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24320" y="1052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97980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5520" y="396396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399564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16400" y="3979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Placeres"/>
          <p:cNvPicPr/>
          <p:nvPr/>
        </p:nvPicPr>
        <p:blipFill>
          <a:blip r:embed="rId2"/>
          <a:stretch/>
        </p:blipFill>
        <p:spPr>
          <a:xfrm>
            <a:off x="5076720" y="981000"/>
            <a:ext cx="3095640" cy="2013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Placeres"/>
          <p:cNvPicPr/>
          <p:nvPr/>
        </p:nvPicPr>
        <p:blipFill>
          <a:blip r:embed="rId3"/>
          <a:stretch/>
        </p:blipFill>
        <p:spPr>
          <a:xfrm>
            <a:off x="755640" y="3973680"/>
            <a:ext cx="3095640" cy="201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laceres"/>
          <p:cNvPicPr/>
          <p:nvPr/>
        </p:nvPicPr>
        <p:blipFill>
          <a:blip r:embed="rId4"/>
          <a:stretch/>
        </p:blipFill>
        <p:spPr>
          <a:xfrm>
            <a:off x="5076720" y="3973680"/>
            <a:ext cx="3095640" cy="2012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71960" y="292428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Bodegas Chivite (Señorío de Arínzano, Navarra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5913360"/>
            <a:ext cx="35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ESÚS MANZANARES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Bodegas Álvaro Palacios (Gratallops, Tarragona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71960" y="5913360"/>
            <a:ext cx="384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OSÉ LUIS SOTA, JAIME GAZTELU y ANA FERNÁNDEZ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Señorío de Otazu (Echauri, Navarra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971960" y="292428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Museo del Prado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8920" y="11592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Los Museos del Eje del P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2924280"/>
            <a:ext cx="35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Museo Thyss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05264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9680" y="103680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106848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24320" y="1052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397980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5520" y="396396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399564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6400" y="3979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913360"/>
            <a:ext cx="35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EAN NOUVEL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 Museo Reina Sofí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913360"/>
            <a:ext cx="38480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ACQUES HERZOG Y PIERRE DE MEURON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CaixaForú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Ampliación del Museo Thyssen Bornemisza, junto a la fachada del Palacio de Villahermosa"/>
          <p:cNvPicPr/>
          <p:nvPr/>
        </p:nvPicPr>
        <p:blipFill>
          <a:blip r:embed="rId1"/>
          <a:srcRect l="0" t="0" r="0" b="2612"/>
          <a:stretch/>
        </p:blipFill>
        <p:spPr>
          <a:xfrm>
            <a:off x="755640" y="981000"/>
            <a:ext cx="3095640" cy="201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Ampliación del Museo del Prado"/>
          <p:cNvPicPr/>
          <p:nvPr/>
        </p:nvPicPr>
        <p:blipFill>
          <a:blip r:embed="rId2"/>
          <a:stretch/>
        </p:blipFill>
        <p:spPr>
          <a:xfrm>
            <a:off x="5076720" y="981000"/>
            <a:ext cx="3095640" cy="1989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Ampliación del Museo Nacional Centro de Arte Reina Sofía"/>
          <p:cNvPicPr/>
          <p:nvPr/>
        </p:nvPicPr>
        <p:blipFill>
          <a:blip r:embed="rId3"/>
          <a:srcRect l="0" t="0" r="0" b="2697"/>
          <a:stretch/>
        </p:blipFill>
        <p:spPr>
          <a:xfrm>
            <a:off x="755640" y="3981600"/>
            <a:ext cx="3095640" cy="199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http://simbiosisgroup.net/wp-content/uploads/2008/02/26.jpg"/>
          <p:cNvPicPr/>
          <p:nvPr/>
        </p:nvPicPr>
        <p:blipFill>
          <a:blip r:embed="rId4"/>
          <a:stretch/>
        </p:blipFill>
        <p:spPr>
          <a:xfrm>
            <a:off x="5084640" y="397980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971960" y="292428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CARLO SCARPA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Museo di Castelvecch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924280"/>
            <a:ext cx="35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Museo Nacional de Arte Romano de Mér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05264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9680" y="103680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106848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24320" y="1052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397980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5520" y="396396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399564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16400" y="3979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913360"/>
            <a:ext cx="35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NORMAN FOSTER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 Reichsta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71960" y="5913360"/>
            <a:ext cx="3632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ODRIGO CHAURIYE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Restauración y Rehabilitación Casa Central U. de Ch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Planta principal del Teatro Romano de Mérida"/>
          <p:cNvPicPr/>
          <p:nvPr/>
        </p:nvPicPr>
        <p:blipFill>
          <a:blip r:embed="rId1"/>
          <a:stretch/>
        </p:blipFill>
        <p:spPr>
          <a:xfrm>
            <a:off x="755640" y="981000"/>
            <a:ext cx="2521080" cy="201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http://farm1.static.flickr.com/8/11427195_18ddc317a3.jpg?v=0"/>
          <p:cNvPicPr/>
          <p:nvPr/>
        </p:nvPicPr>
        <p:blipFill>
          <a:blip r:embed="rId2"/>
          <a:stretch/>
        </p:blipFill>
        <p:spPr>
          <a:xfrm>
            <a:off x="5076720" y="981000"/>
            <a:ext cx="1824120" cy="201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http://www.berlin-info.de/deutsch/sights/big/reichstag_kuppel.jpg"/>
          <p:cNvPicPr/>
          <p:nvPr/>
        </p:nvPicPr>
        <p:blipFill>
          <a:blip r:embed="rId3"/>
          <a:stretch/>
        </p:blipFill>
        <p:spPr>
          <a:xfrm>
            <a:off x="755640" y="3986280"/>
            <a:ext cx="3019320" cy="1995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Ver Vide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397188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971960" y="292428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GAE AULENTI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Gar’d Or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5924520"/>
            <a:ext cx="3600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Estación de Atoc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05264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9680" y="103680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106848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24320" y="1052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397980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5520" y="396396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292428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GAE AULENTI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Palacio Alfonso XI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http://idisk.mac.com/aanino/Public/Paris/Orsay/orsay_int_01.jpg"/>
          <p:cNvPicPr/>
          <p:nvPr/>
        </p:nvPicPr>
        <p:blipFill>
          <a:blip r:embed="rId1"/>
          <a:stretch/>
        </p:blipFill>
        <p:spPr>
          <a:xfrm>
            <a:off x="5076720" y="981000"/>
            <a:ext cx="2664000" cy="1997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4200" y="1000080"/>
            <a:ext cx="3024000" cy="2022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356000" y="399564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16400" y="3979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71960" y="5913360"/>
            <a:ext cx="3632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ORDI GARCÉS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Museo Picas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http://www.arquitectura.com/arquitectura/inter/obras/cultura/garces/picasso/picasso_302.jpg"/>
          <p:cNvPicPr/>
          <p:nvPr/>
        </p:nvPicPr>
        <p:blipFill>
          <a:blip r:embed="rId3"/>
          <a:stretch/>
        </p:blipFill>
        <p:spPr>
          <a:xfrm>
            <a:off x="5076720" y="3965400"/>
            <a:ext cx="3024360" cy="2032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http://faculty-staff.ou.edu/L/A-Robert.R.Lauer-1/atocha"/>
          <p:cNvPicPr/>
          <p:nvPr/>
        </p:nvPicPr>
        <p:blipFill>
          <a:blip r:embed="rId4"/>
          <a:stretch/>
        </p:blipFill>
        <p:spPr>
          <a:xfrm>
            <a:off x="770040" y="3976560"/>
            <a:ext cx="271296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1:25:49Z</dcterms:created>
  <dc:creator>WinuE</dc:creator>
  <dc:description/>
  <dc:language>en-US</dc:language>
  <cp:lastModifiedBy>WinuE</cp:lastModifiedBy>
  <dcterms:modified xsi:type="dcterms:W3CDTF">2009-09-17T00:44:20Z</dcterms:modified>
  <cp:revision>12</cp:revision>
  <dc:subject/>
  <dc:title>Diapositiva 1</dc:title>
</cp:coreProperties>
</file>