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341-9573-4596-BF8D-F6739BB9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FE2-35E3-4597-9956-EDA4BE7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19F-75FA-4D5C-8748-DD7095C9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E17-0FCA-46A1-9B60-D2A6ED77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818-E2C8-46FF-B90D-097BAE3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F26-64D5-4699-B33C-631D50AA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6BB-F806-43CA-8F31-C03B140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C02-FB14-4AFF-8185-7DB751D9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18D-3E42-45E0-A406-AFCC0C32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74-6E99-4F26-BF17-6A6C1BE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63A-90F4-447C-B35B-B2D8178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905-F81A-4788-9001-DC1AB60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4A37-2F62-4835-A61E-61D0009B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concursocasacentral.uchilefau.cl/video1.htm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0" y="-7308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ALLER SUHRCKE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_ LICENCIATURA SEGUNDO SEMEST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000" y="1673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NO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59680" y="6521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14_09_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00" y="1159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odegas en La Ri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laceres"/>
          <p:cNvPicPr/>
          <p:nvPr/>
        </p:nvPicPr>
        <p:blipFill>
          <a:blip r:embed="rId1"/>
          <a:stretch/>
        </p:blipFill>
        <p:spPr>
          <a:xfrm>
            <a:off x="755640" y="981000"/>
            <a:ext cx="3095640" cy="201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2924280"/>
            <a:ext cx="35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FRANK GHERY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Marqués de Riscal (Elciego, Álav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laceres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201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laceres"/>
          <p:cNvPicPr/>
          <p:nvPr/>
        </p:nvPicPr>
        <p:blipFill>
          <a:blip r:embed="rId3"/>
          <a:stretch/>
        </p:blipFill>
        <p:spPr>
          <a:xfrm>
            <a:off x="755640" y="3973680"/>
            <a:ext cx="3095640" cy="20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laceres"/>
          <p:cNvPicPr/>
          <p:nvPr/>
        </p:nvPicPr>
        <p:blipFill>
          <a:blip r:embed="rId4"/>
          <a:stretch/>
        </p:blipFill>
        <p:spPr>
          <a:xfrm>
            <a:off x="5076720" y="3973680"/>
            <a:ext cx="3095640" cy="201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Chivite (Señorío de Arínzano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913360"/>
            <a:ext cx="35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SÚS MANZANARE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Álvaro Palacios (Gratallops, Tarragon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71960" y="5913360"/>
            <a:ext cx="384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SÉ LUIS SOTA, JAIME GAZTELU y ANA FERNÁNDEZ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Señorío de Otazu (Echauri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del Prad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8920" y="1159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os Museos del Eje del P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92428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Thy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AN NOUVEL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Museo Reina Sof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913360"/>
            <a:ext cx="3848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ACQUES HERZOG Y PIERRE DE MEURON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CaixaForú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mpliación del Museo Thyssen Bornemisza, junto a la fachada del Palacio de Villahermosa"/>
          <p:cNvPicPr/>
          <p:nvPr/>
        </p:nvPicPr>
        <p:blipFill>
          <a:blip r:embed="rId1"/>
          <a:srcRect l="0" t="0" r="0" b="2612"/>
          <a:stretch/>
        </p:blipFill>
        <p:spPr>
          <a:xfrm>
            <a:off x="755640" y="98100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Ampliación del Museo del Prado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198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mpliación del Museo Nacional Centro de Arte Reina Sofía"/>
          <p:cNvPicPr/>
          <p:nvPr/>
        </p:nvPicPr>
        <p:blipFill>
          <a:blip r:embed="rId3"/>
          <a:srcRect l="0" t="0" r="0" b="2697"/>
          <a:stretch/>
        </p:blipFill>
        <p:spPr>
          <a:xfrm>
            <a:off x="755640" y="3981600"/>
            <a:ext cx="3095640" cy="199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simbiosisgroup.net/wp-content/uploads/2008/02/26.jpg"/>
          <p:cNvPicPr/>
          <p:nvPr/>
        </p:nvPicPr>
        <p:blipFill>
          <a:blip r:embed="rId4"/>
          <a:stretch/>
        </p:blipFill>
        <p:spPr>
          <a:xfrm>
            <a:off x="5084640" y="39798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CARLO SCARPA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di Castelvecc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924280"/>
            <a:ext cx="35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Nacional de Arte Romano de Mér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NORMAN FOSTER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Reichst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71960" y="5913360"/>
            <a:ext cx="3632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ODRIGO CHAURIYE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Restauración y Rehabilitación Casa Central U. de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lanta principal del Teatro Romano de Mérida"/>
          <p:cNvPicPr/>
          <p:nvPr/>
        </p:nvPicPr>
        <p:blipFill>
          <a:blip r:embed="rId1"/>
          <a:stretch/>
        </p:blipFill>
        <p:spPr>
          <a:xfrm>
            <a:off x="755640" y="981000"/>
            <a:ext cx="252108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farm1.static.flickr.com/8/11427195_18ddc317a3.jpg?v=0"/>
          <p:cNvPicPr/>
          <p:nvPr/>
        </p:nvPicPr>
        <p:blipFill>
          <a:blip r:embed="rId2"/>
          <a:stretch/>
        </p:blipFill>
        <p:spPr>
          <a:xfrm>
            <a:off x="5076720" y="981000"/>
            <a:ext cx="1824120" cy="20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http://www.berlin-info.de/deutsch/sights/big/reichstag_kuppel.jpg"/>
          <p:cNvPicPr/>
          <p:nvPr/>
        </p:nvPicPr>
        <p:blipFill>
          <a:blip r:embed="rId3"/>
          <a:stretch/>
        </p:blipFill>
        <p:spPr>
          <a:xfrm>
            <a:off x="755640" y="3986280"/>
            <a:ext cx="301932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Ver Vide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718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Gar’d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924520"/>
            <a:ext cx="3600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stación de Atoc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Palacio Alfonso XI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http://idisk.mac.com/aanino/Public/Paris/Orsay/orsay_int_01.jpg"/>
          <p:cNvPicPr/>
          <p:nvPr/>
        </p:nvPicPr>
        <p:blipFill>
          <a:blip r:embed="rId1"/>
          <a:stretch/>
        </p:blipFill>
        <p:spPr>
          <a:xfrm>
            <a:off x="5076720" y="98100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200" y="1000080"/>
            <a:ext cx="3024000" cy="202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1960" y="5913360"/>
            <a:ext cx="363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RDI GARCÉ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Pica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www.arquitectura.com/arquitectura/inter/obras/cultura/garces/picasso/picasso_302.jpg"/>
          <p:cNvPicPr/>
          <p:nvPr/>
        </p:nvPicPr>
        <p:blipFill>
          <a:blip r:embed="rId3"/>
          <a:stretch/>
        </p:blipFill>
        <p:spPr>
          <a:xfrm>
            <a:off x="5076720" y="3965400"/>
            <a:ext cx="302436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aculty-staff.ou.edu/L/A-Robert.R.Lauer-1/atocha"/>
          <p:cNvPicPr/>
          <p:nvPr/>
        </p:nvPicPr>
        <p:blipFill>
          <a:blip r:embed="rId4"/>
          <a:stretch/>
        </p:blipFill>
        <p:spPr>
          <a:xfrm>
            <a:off x="770040" y="3976560"/>
            <a:ext cx="27129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25:49Z</dcterms:created>
  <dc:creator>WinuE</dc:creator>
  <dc:description/>
  <dc:language>en-US</dc:language>
  <cp:lastModifiedBy>WinuE</cp:lastModifiedBy>
  <dcterms:modified xsi:type="dcterms:W3CDTF">2009-09-17T00:44:20Z</dcterms:modified>
  <cp:revision>12</cp:revision>
  <dc:subject/>
  <dc:title>Diapositiva 1</dc:title>
</cp:coreProperties>
</file>