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2C6-5228-4352-A125-3A360584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E76-FD20-4D02-AEB7-7E30DB72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171-535F-4B34-83D7-0DAAC743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E2C-2C2E-42A6-897B-D359E487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D53-58DD-4C40-9AA0-2656883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7B4-E418-4304-B0BA-9BEE4749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5A1-6764-4F4F-9BF3-EDFEDA2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398-79A8-41D6-9FAF-9F45463D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0D2-4097-4520-AC3A-3D3A1FA0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75F-6029-4314-A302-A0ACA75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5BB-21A0-40F5-B89F-B6140E0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431-86B4-425C-99FD-1D471680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D9BC-5309-4A19-9855-F23672F8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concursocasacentral.uchilefau.cl/video1.htm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0" y="-73080"/>
            <a:ext cx="78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ALLER SUHRCKE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_ LICENCIATURA SEGUNDO SEMEST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24000" y="167328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ONOGRAF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59680" y="6521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14_09_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000" y="11592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odegas en La Ri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laceres"/>
          <p:cNvPicPr/>
          <p:nvPr/>
        </p:nvPicPr>
        <p:blipFill>
          <a:blip r:embed="rId1"/>
          <a:stretch/>
        </p:blipFill>
        <p:spPr>
          <a:xfrm>
            <a:off x="755640" y="981000"/>
            <a:ext cx="3095640" cy="201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2924280"/>
            <a:ext cx="35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FRANK GHERY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Marqués de Riscal (Elciego, Álav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Placeres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201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laceres"/>
          <p:cNvPicPr/>
          <p:nvPr/>
        </p:nvPicPr>
        <p:blipFill>
          <a:blip r:embed="rId3"/>
          <a:stretch/>
        </p:blipFill>
        <p:spPr>
          <a:xfrm>
            <a:off x="755640" y="3973680"/>
            <a:ext cx="3095640" cy="20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laceres"/>
          <p:cNvPicPr/>
          <p:nvPr/>
        </p:nvPicPr>
        <p:blipFill>
          <a:blip r:embed="rId4"/>
          <a:stretch/>
        </p:blipFill>
        <p:spPr>
          <a:xfrm>
            <a:off x="5076720" y="3973680"/>
            <a:ext cx="3095640" cy="201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Chivite (Señorío de Arínzano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913360"/>
            <a:ext cx="35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SÚS MANZANARE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Bodegas Álvaro Palacios (Gratallops, Tarragon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71960" y="5913360"/>
            <a:ext cx="384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SÉ LUIS SOTA, JAIME GAZTELU y ANA FERNÁNDEZ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Señorío de Otazu (Echauri, Navarra)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del Prado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8920" y="1159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os Museos del Eje del P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292428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Thyss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EAN NOUVEL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Museo Reina Sof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913360"/>
            <a:ext cx="3848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ACQUES HERZOG Y PIERRE DE MEURON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CaixaForú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Ampliación del Museo Thyssen Bornemisza, junto a la fachada del Palacio de Villahermosa"/>
          <p:cNvPicPr/>
          <p:nvPr/>
        </p:nvPicPr>
        <p:blipFill>
          <a:blip r:embed="rId1"/>
          <a:srcRect l="0" t="0" r="0" b="2612"/>
          <a:stretch/>
        </p:blipFill>
        <p:spPr>
          <a:xfrm>
            <a:off x="755640" y="98100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Ampliación del Museo del Prado"/>
          <p:cNvPicPr/>
          <p:nvPr/>
        </p:nvPicPr>
        <p:blipFill>
          <a:blip r:embed="rId2"/>
          <a:stretch/>
        </p:blipFill>
        <p:spPr>
          <a:xfrm>
            <a:off x="5076720" y="981000"/>
            <a:ext cx="3095640" cy="198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Ampliación del Museo Nacional Centro de Arte Reina Sofía"/>
          <p:cNvPicPr/>
          <p:nvPr/>
        </p:nvPicPr>
        <p:blipFill>
          <a:blip r:embed="rId3"/>
          <a:srcRect l="0" t="0" r="0" b="2697"/>
          <a:stretch/>
        </p:blipFill>
        <p:spPr>
          <a:xfrm>
            <a:off x="755640" y="3981600"/>
            <a:ext cx="3095640" cy="199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simbiosisgroup.net/wp-content/uploads/2008/02/26.jpg"/>
          <p:cNvPicPr/>
          <p:nvPr/>
        </p:nvPicPr>
        <p:blipFill>
          <a:blip r:embed="rId4"/>
          <a:stretch/>
        </p:blipFill>
        <p:spPr>
          <a:xfrm>
            <a:off x="5084640" y="397980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971960" y="2924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CARLO SCARPA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di Castelvecc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924280"/>
            <a:ext cx="35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Museo Nacional de Arte Romano de Mér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913360"/>
            <a:ext cx="35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NORMAN FOSTER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 Reichst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71960" y="5913360"/>
            <a:ext cx="3632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ODRIGO CHAURIYE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Restauración y Rehabilitación Casa Central U. de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lanta principal del Teatro Romano de Mérida"/>
          <p:cNvPicPr/>
          <p:nvPr/>
        </p:nvPicPr>
        <p:blipFill>
          <a:blip r:embed="rId1"/>
          <a:stretch/>
        </p:blipFill>
        <p:spPr>
          <a:xfrm>
            <a:off x="755640" y="981000"/>
            <a:ext cx="2521080" cy="201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farm1.static.flickr.com/8/11427195_18ddc317a3.jpg?v=0"/>
          <p:cNvPicPr/>
          <p:nvPr/>
        </p:nvPicPr>
        <p:blipFill>
          <a:blip r:embed="rId2"/>
          <a:stretch/>
        </p:blipFill>
        <p:spPr>
          <a:xfrm>
            <a:off x="5076720" y="981000"/>
            <a:ext cx="1824120" cy="20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http://www.berlin-info.de/deutsch/sights/big/reichstag_kuppel.jpg"/>
          <p:cNvPicPr/>
          <p:nvPr/>
        </p:nvPicPr>
        <p:blipFill>
          <a:blip r:embed="rId3"/>
          <a:stretch/>
        </p:blipFill>
        <p:spPr>
          <a:xfrm>
            <a:off x="755640" y="3986280"/>
            <a:ext cx="301932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Ver Vide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9718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719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Gar’d Or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924520"/>
            <a:ext cx="3600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RAFAEL MONEO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Estación de Atoc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05264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9680" y="103680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1068480"/>
            <a:ext cx="432000" cy="43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24320" y="105264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97980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520" y="396396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2924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GAE AULENTI.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 Palacio Alfonso XI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http://idisk.mac.com/aanino/Public/Paris/Orsay/orsay_int_01.jpg"/>
          <p:cNvPicPr/>
          <p:nvPr/>
        </p:nvPicPr>
        <p:blipFill>
          <a:blip r:embed="rId1"/>
          <a:stretch/>
        </p:blipFill>
        <p:spPr>
          <a:xfrm>
            <a:off x="5076720" y="98100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4200" y="1000080"/>
            <a:ext cx="3024000" cy="2022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56000" y="3995640"/>
            <a:ext cx="432000" cy="43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0" y="397980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1960" y="5913360"/>
            <a:ext cx="3632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99"/>
                </a:solidFill>
                <a:latin typeface="Arial"/>
              </a:rPr>
              <a:t>JORDI GARCÉS.</a:t>
            </a:r>
            <a:r>
              <a:rPr b="0" lang="es-ES_tradnl" sz="1600" spc="-1" strike="noStrike">
                <a:solidFill>
                  <a:srgbClr val="ff3399"/>
                </a:solidFill>
                <a:latin typeface="Arial"/>
              </a:rPr>
              <a:t> Museo Pica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http://www.arquitectura.com/arquitectura/inter/obras/cultura/garces/picasso/picasso_302.jpg"/>
          <p:cNvPicPr/>
          <p:nvPr/>
        </p:nvPicPr>
        <p:blipFill>
          <a:blip r:embed="rId3"/>
          <a:stretch/>
        </p:blipFill>
        <p:spPr>
          <a:xfrm>
            <a:off x="5076720" y="3965400"/>
            <a:ext cx="3024360" cy="203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faculty-staff.ou.edu/L/A-Robert.R.Lauer-1/atocha"/>
          <p:cNvPicPr/>
          <p:nvPr/>
        </p:nvPicPr>
        <p:blipFill>
          <a:blip r:embed="rId4"/>
          <a:stretch/>
        </p:blipFill>
        <p:spPr>
          <a:xfrm>
            <a:off x="770040" y="3976560"/>
            <a:ext cx="27129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1:25:49Z</dcterms:created>
  <dc:creator>WinuE</dc:creator>
  <dc:description/>
  <dc:language>en-US</dc:language>
  <cp:lastModifiedBy>WinuE</cp:lastModifiedBy>
  <dcterms:modified xsi:type="dcterms:W3CDTF">2009-09-17T00:44:20Z</dcterms:modified>
  <cp:revision>12</cp:revision>
  <dc:subject/>
  <dc:title>Diapositiva 1</dc:title>
</cp:coreProperties>
</file>