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571-3B38-4DB2-AB7C-0A95610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2B9-500B-4D6C-8439-A89DE1DF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A28-D4D2-4EEE-AAB9-E5A3DF4D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8CF-1386-41C7-B1A5-49F3633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964-E30D-48D8-AA8C-570C9ED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A03-100A-4DD3-85C2-5465BA2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7E4-0F54-479F-91A6-4220432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6E0-FE50-4195-9FC5-0C353025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584-D38F-4591-9202-9733C32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5D2-F8D2-44AC-9A5F-7A35C78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7CF-902D-43FB-82E8-E348E34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88E-BFE3-4FE7-95F9-83EF94E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6E07-DB5B-4F63-8511-BC4C2957E34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8640" y="578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dd9c3"/>
                </a:solidFill>
                <a:latin typeface="Calibri"/>
              </a:rPr>
              <a:t>SEGUNDA ETAPA ANA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 CuadroTexto"/>
          <p:cNvSpPr/>
          <p:nvPr/>
        </p:nvSpPr>
        <p:spPr>
          <a:xfrm>
            <a:off x="214200" y="2142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Calibri"/>
              </a:rPr>
              <a:t>TALLER SUHRCKE – LICENCIA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ddd9c3"/>
                </a:solidFill>
                <a:latin typeface="Calibri"/>
              </a:rPr>
              <a:t>2° SEMESTRE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Vanessa\Desktop\grupos.jpg"/>
          <p:cNvPicPr/>
          <p:nvPr/>
        </p:nvPicPr>
        <p:blipFill>
          <a:blip r:embed="rId1"/>
          <a:stretch/>
        </p:blipFill>
        <p:spPr>
          <a:xfrm>
            <a:off x="-1440" y="-357120"/>
            <a:ext cx="4002120" cy="742932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4929120" y="642960"/>
            <a:ext cx="285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SEGUNDA ETAPA  ANA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Se dividirá el taller en 10 gru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Cada grupo tomara un sector del área de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La determinación del sector será por sort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Los sectores consideran las fachadas de las manzanas frontales y en el caso de la alameda hasta el eje central del bandej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4 CuadroTexto"/>
          <p:cNvSpPr/>
          <p:nvPr/>
        </p:nvSpPr>
        <p:spPr>
          <a:xfrm>
            <a:off x="571680" y="5000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PAUTA DE ANALISIS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Marcador de contenido"/>
          <p:cNvSpPr/>
          <p:nvPr/>
        </p:nvSpPr>
        <p:spPr>
          <a:xfrm>
            <a:off x="1214280" y="1362240"/>
            <a:ext cx="68979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morfológic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lleno/vací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duro/bla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granulomet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materi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Planta general + estudio de fach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de funcionami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profundización del uso de su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técnico-constru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normativo (ordenanza-ley de monumento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20:53:28Z</dcterms:created>
  <dc:creator>Vanessa</dc:creator>
  <dc:description/>
  <dc:language>en-US</dc:language>
  <cp:lastModifiedBy>Colossus User</cp:lastModifiedBy>
  <dcterms:modified xsi:type="dcterms:W3CDTF">2009-08-21T02:49:23Z</dcterms:modified>
  <cp:revision>3</cp:revision>
  <dc:subject/>
  <dc:title>SEGUNDA ETAPA ANALISIS</dc:title>
</cp:coreProperties>
</file>