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4CE-AFF4-42D4-BD9A-3025680D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661-53B3-4D3F-B350-8BBF1A36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A81-E45C-4045-A901-32064C9D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C0C-638A-4440-BA0F-950761A8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591-97F1-459F-967A-01FFDE54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4A1-42F9-49C8-A745-58BBBF7E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CAF-43CD-45AF-8925-8CEAE25E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213-3361-4AED-8774-7D9EAB01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FB2-7C9D-47A7-97D4-AD78F57C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015-38EF-423B-9A62-6B961518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AEE-79FB-49CF-B7B9-17035E26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C69-4FA0-4C3C-B2E0-DD75AA0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F50A-0DC8-45C8-806E-4733235F200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28640" y="578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dd9c3"/>
                </a:solidFill>
                <a:latin typeface="Calibri"/>
              </a:rPr>
              <a:t>SEGUNDA ETAPA ANA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 CuadroTexto"/>
          <p:cNvSpPr/>
          <p:nvPr/>
        </p:nvSpPr>
        <p:spPr>
          <a:xfrm>
            <a:off x="214200" y="21420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Calibri"/>
              </a:rPr>
              <a:t>TALLER SUHRCKE – LICENCIA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ddd9c3"/>
                </a:solidFill>
                <a:latin typeface="Calibri"/>
              </a:rPr>
              <a:t>2° SEMESTRE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Vanessa\Desktop\grupos.jpg"/>
          <p:cNvPicPr/>
          <p:nvPr/>
        </p:nvPicPr>
        <p:blipFill>
          <a:blip r:embed="rId1"/>
          <a:stretch/>
        </p:blipFill>
        <p:spPr>
          <a:xfrm>
            <a:off x="-1440" y="-357120"/>
            <a:ext cx="4002120" cy="7429320"/>
          </a:xfrm>
          <a:prstGeom prst="rect">
            <a:avLst/>
          </a:prstGeom>
          <a:ln w="0">
            <a:noFill/>
          </a:ln>
        </p:spPr>
      </p:pic>
      <p:sp>
        <p:nvSpPr>
          <p:cNvPr id="44" name="4 CuadroTexto"/>
          <p:cNvSpPr/>
          <p:nvPr/>
        </p:nvSpPr>
        <p:spPr>
          <a:xfrm>
            <a:off x="4929120" y="642960"/>
            <a:ext cx="2857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SEGUNDA ETAPA  ANALI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- Se dividirá el taller en 10 grup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- Cada grupo tomara un sector del área de traba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- La determinación del sector será por sort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- Los sectores consideran las fachadas de las manzanas frontales y en el caso de la alameda hasta el eje central del bandej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4 CuadroTexto"/>
          <p:cNvSpPr/>
          <p:nvPr/>
        </p:nvSpPr>
        <p:spPr>
          <a:xfrm>
            <a:off x="571680" y="5000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ddd9c3"/>
                </a:solidFill>
                <a:latin typeface="Arial"/>
                <a:ea typeface="Arial"/>
              </a:rPr>
              <a:t>PAUTA DE ANALISIS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 Marcador de contenido"/>
          <p:cNvSpPr/>
          <p:nvPr/>
        </p:nvSpPr>
        <p:spPr>
          <a:xfrm>
            <a:off x="1214280" y="1362240"/>
            <a:ext cx="68979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000"/>
                </a:solidFill>
                <a:latin typeface="Arial"/>
                <a:ea typeface="Arial"/>
              </a:rPr>
              <a:t>Análisis morfológic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lleno/vací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duro/bla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granulometr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materi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Planta general + estudio de fach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000"/>
                </a:solidFill>
                <a:latin typeface="Arial"/>
                <a:ea typeface="Arial"/>
              </a:rPr>
              <a:t>Análisis de funcionami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	</a:t>
            </a:r>
            <a:r>
              <a:rPr b="0" lang="es-CL" sz="2000" spc="-1" strike="noStrike">
                <a:solidFill>
                  <a:srgbClr val="ddd9c3"/>
                </a:solidFill>
                <a:latin typeface="Arial"/>
                <a:ea typeface="Arial"/>
              </a:rPr>
              <a:t>profundización del uso de sue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000"/>
                </a:solidFill>
                <a:latin typeface="Arial"/>
                <a:ea typeface="Arial"/>
              </a:rPr>
              <a:t>Análisis técnico-constru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000"/>
                </a:solidFill>
                <a:latin typeface="Arial"/>
                <a:ea typeface="Arial"/>
              </a:rPr>
              <a:t>Análisis normativo (ordenanza-ley de monumento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20:53:28Z</dcterms:created>
  <dc:creator>Vanessa</dc:creator>
  <dc:description/>
  <dc:language>en-US</dc:language>
  <cp:lastModifiedBy>Colossus User</cp:lastModifiedBy>
  <dcterms:modified xsi:type="dcterms:W3CDTF">2009-08-21T02:49:23Z</dcterms:modified>
  <cp:revision>3</cp:revision>
  <dc:subject/>
  <dc:title>SEGUNDA ETAPA ANALISIS</dc:title>
</cp:coreProperties>
</file>