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F38-58C4-49AA-8580-86A0A8B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E7F-1CBB-4915-88E6-F5FE0BA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946-8995-47BE-8227-E6B3FFD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6E7-8E53-4800-A1E3-17D04EDC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6C4-C627-4A3E-89F5-6537E58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14A-A22B-48A3-852B-B1249A1A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78A-C016-4B26-B6A9-D60C2EF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D94-1FCB-48AF-9845-6FA6BE3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8EC-A17F-4022-9B5B-E0A08CF0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E9-D8FC-4392-9316-332B8A9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9FF-BEE7-489C-A2E9-6D37D69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88E-F0B0-4C38-926E-39F0F6E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340F-13DE-47B2-A849-93F2ADF07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838080"/>
            <a:ext cx="5456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572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0120" y="1682640"/>
                <a:ext cx="5033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,5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2954160"/>
                <a:ext cx="4698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5040" y="228600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073400" y="3701880"/>
                <a:ext cx="415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38560" y="4498920"/>
                <a:ext cx="492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CA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14800" y="5229360"/>
                <a:ext cx="4676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24480" y="1371600"/>
                <a:ext cx="1425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8640" y="3159000"/>
                <a:ext cx="3797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13320" y="2209680"/>
                <a:ext cx="3668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kg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45000" y="3809880"/>
                <a:ext cx="216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29160" y="4343400"/>
                <a:ext cx="2328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292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686480" y="1357200"/>
                <a:ext cx="1928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00600" y="2270160"/>
                <a:ext cx="1803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329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914400"/>
            <a:ext cx="2590920" cy="3505320"/>
            <a:chOff x="5181480" y="914400"/>
            <a:chExt cx="2590920" cy="3505320"/>
          </a:xfrm>
        </p:grpSpPr>
        <p:sp>
          <p:nvSpPr>
            <p:cNvPr id="336" name=""/>
            <p:cNvSpPr/>
            <p:nvPr/>
          </p:nvSpPr>
          <p:spPr>
            <a:xfrm>
              <a:off x="5867280" y="1523880"/>
              <a:ext cx="1219320" cy="609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672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866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9432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086600" y="2666880"/>
              <a:ext cx="609480" cy="1708920"/>
              <a:chOff x="7086600" y="2666880"/>
              <a:chExt cx="609480" cy="17089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674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6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019920" y="2254320"/>
              <a:ext cx="1600200" cy="717480"/>
              <a:chOff x="6019920" y="2254320"/>
              <a:chExt cx="1600200" cy="717480"/>
            </a:xfrm>
          </p:grpSpPr>
          <p:sp>
            <p:nvSpPr>
              <p:cNvPr id="350" name=""/>
              <p:cNvSpPr/>
              <p:nvPr/>
            </p:nvSpPr>
            <p:spPr>
              <a:xfrm>
                <a:off x="62485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20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800000">
              <a:off x="6248520" y="2743200"/>
              <a:ext cx="1218960" cy="45720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6400" y="2438280"/>
              <a:ext cx="762120" cy="3049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629400" y="3048120"/>
              <a:ext cx="838080" cy="761760"/>
              <a:chOff x="6629400" y="3048120"/>
              <a:chExt cx="838080" cy="761760"/>
            </a:xfrm>
          </p:grpSpPr>
          <p:sp>
            <p:nvSpPr>
              <p:cNvPr id="356" name=""/>
              <p:cNvSpPr/>
              <p:nvPr/>
            </p:nvSpPr>
            <p:spPr>
              <a:xfrm flipV="1" rot="16200000">
                <a:off x="67809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94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24480" y="2743200"/>
              <a:ext cx="1371600" cy="1632600"/>
              <a:chOff x="6324480" y="2743200"/>
              <a:chExt cx="1371600" cy="1632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24480" y="3962520"/>
                <a:ext cx="1371600" cy="413280"/>
                <a:chOff x="6324480" y="3962520"/>
                <a:chExt cx="1371600" cy="413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3244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057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1629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4571640"/>
            <a:ext cx="4343400" cy="1600200"/>
            <a:chOff x="533520" y="4571640"/>
            <a:chExt cx="4343400" cy="1600200"/>
          </a:xfrm>
        </p:grpSpPr>
        <p:sp>
          <p:nvSpPr>
            <p:cNvPr id="365" name=""/>
            <p:cNvSpPr/>
            <p:nvPr/>
          </p:nvSpPr>
          <p:spPr>
            <a:xfrm>
              <a:off x="533520" y="51195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8960" y="4571640"/>
              <a:ext cx="2971800" cy="1600200"/>
              <a:chOff x="1218960" y="4571640"/>
              <a:chExt cx="2971800" cy="16002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548640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2057400" y="5486040"/>
                <a:ext cx="1981440" cy="6858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71600" y="5257800"/>
                <a:ext cx="685800" cy="228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057400" y="4572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371600" y="4571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38840" y="4572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218960" y="4952880"/>
                <a:ext cx="29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93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50-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909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867280" y="914400"/>
            <a:ext cx="2590920" cy="3505320"/>
            <a:chOff x="5867280" y="914400"/>
            <a:chExt cx="2590920" cy="3505320"/>
          </a:xfrm>
        </p:grpSpPr>
        <p:sp>
          <p:nvSpPr>
            <p:cNvPr id="378" name=""/>
            <p:cNvSpPr/>
            <p:nvPr/>
          </p:nvSpPr>
          <p:spPr>
            <a:xfrm>
              <a:off x="6553080" y="1523880"/>
              <a:ext cx="1219320" cy="60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2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53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772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9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6290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772400" y="2666880"/>
              <a:ext cx="609480" cy="1708920"/>
              <a:chOff x="7772400" y="2666880"/>
              <a:chExt cx="609480" cy="1708920"/>
            </a:xfrm>
          </p:grpSpPr>
          <p:sp>
            <p:nvSpPr>
              <p:cNvPr id="389" name=""/>
              <p:cNvSpPr/>
              <p:nvPr/>
            </p:nvSpPr>
            <p:spPr>
              <a:xfrm>
                <a:off x="81532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724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705720" y="2254320"/>
              <a:ext cx="1600200" cy="717480"/>
              <a:chOff x="6705720" y="2254320"/>
              <a:chExt cx="160020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9343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78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0800000">
              <a:off x="6934320" y="2743200"/>
              <a:ext cx="1218960" cy="4572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2438280"/>
              <a:ext cx="76212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15200" y="3048120"/>
              <a:ext cx="838080" cy="761760"/>
              <a:chOff x="7315200" y="3048120"/>
              <a:chExt cx="838080" cy="761760"/>
            </a:xfrm>
          </p:grpSpPr>
          <p:sp>
            <p:nvSpPr>
              <p:cNvPr id="398" name=""/>
              <p:cNvSpPr/>
              <p:nvPr/>
            </p:nvSpPr>
            <p:spPr>
              <a:xfrm flipV="1" rot="16200000">
                <a:off x="74667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52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010280" y="2743200"/>
              <a:ext cx="1371600" cy="1632600"/>
              <a:chOff x="7010280" y="2743200"/>
              <a:chExt cx="1371600" cy="16326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7010280" y="3962520"/>
                <a:ext cx="1371600" cy="413280"/>
                <a:chOff x="7010280" y="3962520"/>
                <a:chExt cx="1371600" cy="413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0102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915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78487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28840" y="1131840"/>
                <a:ext cx="21589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28840" y="1660680"/>
                <a:ext cx="2033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28840" y="2173320"/>
                <a:ext cx="2766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28840" y="2651040"/>
                <a:ext cx="1614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28840" y="3174840"/>
                <a:ext cx="3752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28840" y="3718080"/>
                <a:ext cx="2997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952880" y="4724280"/>
            <a:ext cx="3429000" cy="1371600"/>
            <a:chOff x="4952880" y="4724280"/>
            <a:chExt cx="3429000" cy="1371600"/>
          </a:xfrm>
        </p:grpSpPr>
        <p:sp>
          <p:nvSpPr>
            <p:cNvPr id="412" name=""/>
            <p:cNvSpPr/>
            <p:nvPr/>
          </p:nvSpPr>
          <p:spPr>
            <a:xfrm>
              <a:off x="61718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9560" y="4876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92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876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5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1840" y="5333760"/>
              <a:ext cx="2057400" cy="609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06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90600" y="594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54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4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5562360"/>
              <a:ext cx="1295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4280" y="1600200"/>
            <a:ext cx="3584520" cy="1057320"/>
            <a:chOff x="4724280" y="1600200"/>
            <a:chExt cx="3584520" cy="105732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290920" y="1600200"/>
                  <a:ext cx="232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SPUESTA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OLCANT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4724280" y="2260800"/>
                  <a:ext cx="3584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4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JERCICIO Nº1 FU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137160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valúe si el </a:t>
            </a: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Respuest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mayor que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Volcant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rminando si la F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a en equilibrio o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80880" y="380880"/>
            <a:ext cx="8001000" cy="5524200"/>
            <a:chOff x="-380880" y="380880"/>
            <a:chExt cx="8001000" cy="5524200"/>
          </a:xfrm>
        </p:grpSpPr>
        <p:sp>
          <p:nvSpPr>
            <p:cNvPr id="44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3960" y="1215000"/>
              <a:ext cx="3983400" cy="45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42720" y="1586160"/>
              <a:ext cx="367920" cy="113832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0840" y="5637600"/>
              <a:ext cx="125136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7040" y="5268960"/>
              <a:ext cx="33868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2560" y="533484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04960" y="2286000"/>
            <a:ext cx="5374080" cy="4264200"/>
            <a:chOff x="3504960" y="2286000"/>
            <a:chExt cx="5374080" cy="4264200"/>
          </a:xfrm>
        </p:grpSpPr>
        <p:grpSp>
          <p:nvGrpSpPr>
            <p:cNvPr id="51" name=""/>
            <p:cNvGrpSpPr/>
            <p:nvPr/>
          </p:nvGrpSpPr>
          <p:grpSpPr>
            <a:xfrm>
              <a:off x="4952880" y="2700360"/>
              <a:ext cx="3926160" cy="3849840"/>
              <a:chOff x="4952880" y="2700360"/>
              <a:chExt cx="3926160" cy="3849840"/>
            </a:xfrm>
          </p:grpSpPr>
          <p:pic>
            <p:nvPicPr>
              <p:cNvPr id="52" name="fund5b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2700360"/>
                <a:ext cx="39261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095880" y="5734080"/>
                <a:ext cx="23623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5734080"/>
                <a:ext cx="2438280" cy="81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Arial Black"/>
                  </a:rPr>
                  <a:t>Sección A - 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</a:rPr>
                  <a:t>Fundación Cént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 flipH="1" flipV="1">
              <a:off x="3504960" y="2286000"/>
              <a:ext cx="2895480" cy="12384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57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80880" y="380880"/>
            <a:ext cx="8001000" cy="5524560"/>
            <a:chOff x="-380880" y="380880"/>
            <a:chExt cx="8001000" cy="5524560"/>
          </a:xfrm>
        </p:grpSpPr>
        <p:sp>
          <p:nvSpPr>
            <p:cNvPr id="60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1466640" y="2139840"/>
              <a:ext cx="393480" cy="129564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38280" y="2629080"/>
            <a:ext cx="6553440" cy="4195440"/>
            <a:chOff x="2438280" y="2629080"/>
            <a:chExt cx="6553440" cy="4195440"/>
          </a:xfrm>
        </p:grpSpPr>
        <p:pic>
          <p:nvPicPr>
            <p:cNvPr id="67" name="fund5c" descr=""/>
            <p:cNvPicPr/>
            <p:nvPr/>
          </p:nvPicPr>
          <p:blipFill>
            <a:blip r:embed="rId2"/>
            <a:stretch/>
          </p:blipFill>
          <p:spPr>
            <a:xfrm>
              <a:off x="5105520" y="2629080"/>
              <a:ext cx="388620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5734080"/>
              <a:ext cx="2438280" cy="109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B - 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Ex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2438280" y="2819160"/>
              <a:ext cx="3810240" cy="6858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72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380880" y="380880"/>
            <a:ext cx="8001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FUNDACION COR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680" y="1216080"/>
            <a:ext cx="5529240" cy="4689360"/>
            <a:chOff x="274680" y="1216080"/>
            <a:chExt cx="5529240" cy="4689360"/>
          </a:xfrm>
        </p:grpSpPr>
        <p:pic>
          <p:nvPicPr>
            <p:cNvPr id="76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09960" y="3822840"/>
              <a:ext cx="368280" cy="113796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04960" y="2362320"/>
            <a:ext cx="5107320" cy="4187880"/>
            <a:chOff x="3504960" y="2362320"/>
            <a:chExt cx="5107320" cy="4187880"/>
          </a:xfrm>
        </p:grpSpPr>
        <p:pic>
          <p:nvPicPr>
            <p:cNvPr id="82" name="fund5f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3125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5734080"/>
              <a:ext cx="2438280" cy="81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C - C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504960" y="3524400"/>
              <a:ext cx="2895480" cy="74268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48240" y="76320"/>
            <a:ext cx="2719440" cy="2418480"/>
            <a:chOff x="6348240" y="76320"/>
            <a:chExt cx="2719440" cy="2418480"/>
          </a:xfrm>
        </p:grpSpPr>
        <p:pic>
          <p:nvPicPr>
            <p:cNvPr id="87" name="fund5e" descr=""/>
            <p:cNvPicPr/>
            <p:nvPr/>
          </p:nvPicPr>
          <p:blipFill>
            <a:blip r:embed="rId3"/>
            <a:srcRect l="0" t="0" r="0" b="18928"/>
            <a:stretch/>
          </p:blipFill>
          <p:spPr>
            <a:xfrm>
              <a:off x="6348240" y="76320"/>
              <a:ext cx="27194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29200" y="2819160"/>
            <a:ext cx="2590920" cy="1219320"/>
            <a:chOff x="5029200" y="281916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5715000" y="2819520"/>
              <a:ext cx="121932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34290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34290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500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343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00600" y="762120"/>
            <a:ext cx="2666880" cy="1371600"/>
            <a:chOff x="4800600" y="762120"/>
            <a:chExt cx="2666880" cy="1371600"/>
          </a:xfrm>
        </p:grpSpPr>
        <p:sp>
          <p:nvSpPr>
            <p:cNvPr id="96" name=""/>
            <p:cNvSpPr/>
            <p:nvPr/>
          </p:nvSpPr>
          <p:spPr>
            <a:xfrm>
              <a:off x="60199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1447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137196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600560"/>
              <a:ext cx="12952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2520" y="137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952520" y="1981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14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1600200"/>
            <a:ext cx="12193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-7632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724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 Flexocompresión o Flexión 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 = Carga Normal Total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incluido peso propio fund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= Área de contacto de la fundación con el terr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 = Momento de volcamiento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en la base de la fundación).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W = Momento resistente de la sección de contact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143000"/>
            <a:ext cx="990720" cy="609480"/>
            <a:chOff x="1371600" y="1143000"/>
            <a:chExt cx="990720" cy="609480"/>
          </a:xfrm>
        </p:grpSpPr>
        <p:sp>
          <p:nvSpPr>
            <p:cNvPr id="111" name=""/>
            <p:cNvSpPr/>
            <p:nvPr/>
          </p:nvSpPr>
          <p:spPr>
            <a:xfrm>
              <a:off x="1371600" y="14475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2840" y="685800"/>
            <a:ext cx="1067040" cy="914400"/>
            <a:chOff x="2742840" y="685800"/>
            <a:chExt cx="1067040" cy="914400"/>
          </a:xfrm>
        </p:grpSpPr>
        <p:sp>
          <p:nvSpPr>
            <p:cNvPr id="114" name=""/>
            <p:cNvSpPr/>
            <p:nvPr/>
          </p:nvSpPr>
          <p:spPr>
            <a:xfrm rot="5400000">
              <a:off x="2437920" y="990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8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71840" y="2209680"/>
            <a:ext cx="1067040" cy="1143000"/>
            <a:chOff x="6171840" y="2209680"/>
            <a:chExt cx="1067040" cy="1143000"/>
          </a:xfrm>
        </p:grpSpPr>
        <p:sp>
          <p:nvSpPr>
            <p:cNvPr id="117" name=""/>
            <p:cNvSpPr/>
            <p:nvPr/>
          </p:nvSpPr>
          <p:spPr>
            <a:xfrm rot="5400000">
              <a:off x="5790960" y="26668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2514600"/>
            <a:ext cx="1143000" cy="1295280"/>
            <a:chOff x="5638680" y="2514600"/>
            <a:chExt cx="1143000" cy="1295280"/>
          </a:xfrm>
        </p:grpSpPr>
        <p:sp>
          <p:nvSpPr>
            <p:cNvPr id="120" name=""/>
            <p:cNvSpPr/>
            <p:nvPr/>
          </p:nvSpPr>
          <p:spPr>
            <a:xfrm>
              <a:off x="5715000" y="2743200"/>
              <a:ext cx="1066680" cy="10666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514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962520"/>
            <a:ext cx="2514600" cy="1320840"/>
            <a:chOff x="5562720" y="3962520"/>
            <a:chExt cx="2514600" cy="1320840"/>
          </a:xfrm>
        </p:grpSpPr>
        <p:sp>
          <p:nvSpPr>
            <p:cNvPr id="123" name=""/>
            <p:cNvSpPr/>
            <p:nvPr/>
          </p:nvSpPr>
          <p:spPr>
            <a:xfrm>
              <a:off x="5562720" y="3962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3760" y="44578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971800"/>
            <a:ext cx="990360" cy="609480"/>
            <a:chOff x="4419720" y="2971800"/>
            <a:chExt cx="990360" cy="609480"/>
          </a:xfrm>
        </p:grpSpPr>
        <p:sp>
          <p:nvSpPr>
            <p:cNvPr id="126" name=""/>
            <p:cNvSpPr/>
            <p:nvPr/>
          </p:nvSpPr>
          <p:spPr>
            <a:xfrm>
              <a:off x="4419720" y="3276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12408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uponiendo una distribución uniforme de las tensiones sobre el terreno y un comportamiento totalmente elástico de éste, se establece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Que las tensiones  en el punto más cargado no sea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la tensión adm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l terreno no admite t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1447920"/>
            <a:ext cx="3124440" cy="1214640"/>
            <a:chOff x="2666880" y="1447920"/>
            <a:chExt cx="3124440" cy="1214640"/>
          </a:xfrm>
        </p:grpSpPr>
        <p:sp>
          <p:nvSpPr>
            <p:cNvPr id="132" name=""/>
            <p:cNvSpPr/>
            <p:nvPr/>
          </p:nvSpPr>
          <p:spPr>
            <a:xfrm>
              <a:off x="2666880" y="1447920"/>
              <a:ext cx="312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2081160"/>
              <a:ext cx="16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50292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siemp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que no pase de la tensión lim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ctr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644480"/>
            <a:ext cx="7619760" cy="3080880"/>
            <a:chOff x="990720" y="1644480"/>
            <a:chExt cx="7619760" cy="3080880"/>
          </a:xfrm>
        </p:grpSpPr>
        <p:grpSp>
          <p:nvGrpSpPr>
            <p:cNvPr id="136" name=""/>
            <p:cNvGrpSpPr/>
            <p:nvPr/>
          </p:nvGrpSpPr>
          <p:grpSpPr>
            <a:xfrm>
              <a:off x="3505320" y="3320640"/>
              <a:ext cx="1828800" cy="761760"/>
              <a:chOff x="3505320" y="3320640"/>
              <a:chExt cx="1828800" cy="761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505320" y="3320640"/>
                <a:ext cx="1828800" cy="761760"/>
                <a:chOff x="3505320" y="3320640"/>
                <a:chExt cx="1828800" cy="761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05320" y="332064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4419720" y="370152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 flipV="1">
                <a:off x="4419360" y="3701160"/>
                <a:ext cx="52236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71800" y="2939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701880"/>
              <a:ext cx="182700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4311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097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48520" y="3854160"/>
              <a:ext cx="2361960" cy="871200"/>
              <a:chOff x="6248520" y="3854160"/>
              <a:chExt cx="2361960" cy="87120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6248520" y="3854160"/>
                <a:ext cx="1828800" cy="4572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08276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6248520" y="3625200"/>
              <a:ext cx="18288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44480"/>
              <a:ext cx="20574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7018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3549240"/>
              <a:ext cx="380880" cy="38124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1320" y="3625560"/>
              <a:ext cx="304560" cy="228600"/>
              <a:chOff x="5791320" y="3625560"/>
              <a:chExt cx="304560" cy="228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1320" y="362556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1320" y="377784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5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1814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Es el caso lími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ya que se está al borde de la aparición de la tr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477120" y="3657240"/>
            <a:ext cx="1828800" cy="7621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15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5320" y="3321000"/>
            <a:ext cx="1828800" cy="761760"/>
            <a:chOff x="3505320" y="3321000"/>
            <a:chExt cx="182880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3505320" y="3321000"/>
              <a:ext cx="1828800" cy="761760"/>
              <a:chOff x="3505320" y="3321000"/>
              <a:chExt cx="1828800" cy="76176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3210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419720" y="37018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4419360" y="37015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971800" y="294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7018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31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9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5496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625920"/>
            <a:ext cx="304560" cy="228600"/>
            <a:chOff x="5791320" y="3625920"/>
            <a:chExt cx="304560" cy="228600"/>
          </a:xfrm>
        </p:grpSpPr>
        <p:sp>
          <p:nvSpPr>
            <p:cNvPr id="174" name=""/>
            <p:cNvSpPr/>
            <p:nvPr/>
          </p:nvSpPr>
          <p:spPr>
            <a:xfrm>
              <a:off x="5791320" y="36259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37782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7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50292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no está en equilibrio, porque el terr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no  tiene capacidad de responder ante las tracciones.</a:t>
            </a:r>
            <a:r>
              <a:rPr b="0" lang="es-ES_tradnl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550"/>
              </a:spcBef>
              <a:buClr>
                <a:srgbClr val="333399"/>
              </a:buClr>
              <a:buSzPct val="120000"/>
              <a:buFont typeface="Times New Roman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352680"/>
            <a:ext cx="457200" cy="152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934320" y="3505320"/>
            <a:ext cx="1371600" cy="380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9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T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3200400"/>
            <a:ext cx="1828800" cy="761760"/>
            <a:chOff x="3505320" y="3200400"/>
            <a:chExt cx="1828800" cy="761760"/>
          </a:xfrm>
        </p:grpSpPr>
        <p:grpSp>
          <p:nvGrpSpPr>
            <p:cNvPr id="186" name=""/>
            <p:cNvGrpSpPr/>
            <p:nvPr/>
          </p:nvGrpSpPr>
          <p:grpSpPr>
            <a:xfrm>
              <a:off x="3505320" y="3200400"/>
              <a:ext cx="1828800" cy="761760"/>
              <a:chOff x="3505320" y="3200400"/>
              <a:chExt cx="1828800" cy="76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5320" y="32004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419720" y="35812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flipV="1">
              <a:off x="4419360" y="35809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976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4290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3505320"/>
            <a:ext cx="304560" cy="228600"/>
            <a:chOff x="5791320" y="3505320"/>
            <a:chExt cx="304560" cy="228600"/>
          </a:xfrm>
        </p:grpSpPr>
        <p:sp>
          <p:nvSpPr>
            <p:cNvPr id="196" name=""/>
            <p:cNvSpPr/>
            <p:nvPr/>
          </p:nvSpPr>
          <p:spPr>
            <a:xfrm>
              <a:off x="5791320" y="35053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36576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99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2:43:29Z</dcterms:created>
  <dc:creator>Loreto</dc:creator>
  <dc:description/>
  <dc:language>en-US</dc:language>
  <cp:lastModifiedBy>portatiluad</cp:lastModifiedBy>
  <dcterms:modified xsi:type="dcterms:W3CDTF">2009-10-05T12:39:10Z</dcterms:modified>
  <cp:revision>5</cp:revision>
  <dc:subject/>
  <dc:title>Presentación de PowerPoint</dc:title>
</cp:coreProperties>
</file>