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D8E-FCBD-4D6D-9AF2-041B7492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7C7-E95D-434C-BFC0-4C670282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244-A080-40E1-8BE9-47DE3EE8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9C3-B502-4520-9777-35F3EE72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842-7822-4B4E-8DE1-424D440D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FDA-624E-4C3C-ADA1-20B0FDF7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F3C-AE29-4CBD-AFFB-BA10D883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861-6623-4CC9-99AA-5393EA6A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6CB-18F8-47AA-8D8F-122852D5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B80-5B3F-49CE-9E6B-BD5C0118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A86-2F8F-4B52-989D-C30521A4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E3B-0A18-405E-8AB5-7538C6EA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2F2A-A203-4FC6-B9C2-7E2F8F235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838080"/>
            <a:ext cx="5456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CURSO</a:t>
            </a:r>
            <a:br>
              <a:rPr sz="4400"/>
            </a:b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ESTRUCTURAS III</a:t>
            </a:r>
            <a:br>
              <a:rPr sz="4400"/>
            </a:br>
            <a:br>
              <a:rPr sz="4400"/>
            </a:br>
            <a:r>
              <a:rPr b="1" lang="es-ES_tradnl" sz="3200" spc="-1" strike="noStrike">
                <a:solidFill>
                  <a:srgbClr val="3366ff"/>
                </a:solidFill>
                <a:latin typeface="Arial Black"/>
              </a:rPr>
              <a:t>UNIDAD II</a:t>
            </a:r>
            <a:br>
              <a:rPr sz="3200"/>
            </a:br>
            <a:r>
              <a:rPr b="1" lang="es-ES_tradnl" sz="3200" spc="-1" strike="noStrike">
                <a:solidFill>
                  <a:srgbClr val="3366ff"/>
                </a:solidFill>
                <a:latin typeface="Arial Black"/>
              </a:rPr>
              <a:t>SUELOS Y FUNDACION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5720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OFESOR: LEOPOLDO DOMINICH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AYUDANTE: NADIA TRONC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110120" y="1682640"/>
                <a:ext cx="5033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UN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4</m:t>
                    </m:r>
                    <m:r>
                      <m:t xml:space="preserve">m</m:t>
                    </m:r>
                    <m:r>
                      <m:t xml:space="preserve">∗</m:t>
                    </m:r>
                    <m:r>
                      <m:t xml:space="preserve">0,8</m:t>
                    </m:r>
                    <m:r>
                      <m:t xml:space="preserve">m</m:t>
                    </m:r>
                    <m:r>
                      <m:t xml:space="preserve">∗</m:t>
                    </m:r>
                    <m:r>
                      <m:t xml:space="preserve">2,5</m:t>
                    </m:r>
                    <m:r>
                      <m:t xml:space="preserve">m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140360" y="2954160"/>
                <a:ext cx="46987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145040" y="2286000"/>
                <a:ext cx="19508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UN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073400" y="3701880"/>
                <a:ext cx="41547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138560" y="4498920"/>
                <a:ext cx="49291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CAN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kg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114800" y="5229360"/>
                <a:ext cx="4676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524480" y="1371600"/>
                <a:ext cx="1425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508640" y="3159000"/>
                <a:ext cx="3797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513320" y="2209680"/>
                <a:ext cx="3668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rPr>
                            <m:lit/>
                            <m:nor/>
                          </m:rPr>
                          <m:t xml:space="preserve">kg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6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545000" y="3809880"/>
                <a:ext cx="2160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29160" y="4343400"/>
                <a:ext cx="23288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181480" y="579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5867280" y="5790960"/>
            <a:ext cx="1981440" cy="6858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5562720"/>
            <a:ext cx="685800" cy="2286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54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1480" y="579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5867280" y="5790960"/>
            <a:ext cx="1981440" cy="6858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5562720"/>
            <a:ext cx="685800" cy="2286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54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4380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028840" y="4876560"/>
            <a:ext cx="2971800" cy="914760"/>
            <a:chOff x="5028840" y="4876560"/>
            <a:chExt cx="2971800" cy="914760"/>
          </a:xfrm>
        </p:grpSpPr>
        <p:sp>
          <p:nvSpPr>
            <p:cNvPr id="292" name=""/>
            <p:cNvSpPr/>
            <p:nvPr/>
          </p:nvSpPr>
          <p:spPr>
            <a:xfrm flipV="1">
              <a:off x="5867280" y="48769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181480" y="48765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7848720" y="4876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028840" y="52578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292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50-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008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686480" y="1357200"/>
                <a:ext cx="19285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800600" y="2270160"/>
                <a:ext cx="18032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1480" y="579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0800000">
            <a:off x="5867280" y="5790960"/>
            <a:ext cx="1981440" cy="6858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1480" y="5562720"/>
            <a:ext cx="685800" cy="2286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3400" y="54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380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028840" y="4876560"/>
            <a:ext cx="2971800" cy="914760"/>
            <a:chOff x="5028840" y="4876560"/>
            <a:chExt cx="2971800" cy="914760"/>
          </a:xfrm>
        </p:grpSpPr>
        <p:sp>
          <p:nvSpPr>
            <p:cNvPr id="329" name=""/>
            <p:cNvSpPr/>
            <p:nvPr/>
          </p:nvSpPr>
          <p:spPr>
            <a:xfrm flipV="1">
              <a:off x="5867280" y="48769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181480" y="48765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848720" y="4876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028840" y="52578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50-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008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181480" y="914400"/>
            <a:ext cx="2590920" cy="3505320"/>
            <a:chOff x="5181480" y="914400"/>
            <a:chExt cx="2590920" cy="3505320"/>
          </a:xfrm>
        </p:grpSpPr>
        <p:sp>
          <p:nvSpPr>
            <p:cNvPr id="336" name=""/>
            <p:cNvSpPr/>
            <p:nvPr/>
          </p:nvSpPr>
          <p:spPr>
            <a:xfrm>
              <a:off x="5867280" y="1523880"/>
              <a:ext cx="1219320" cy="609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6400" y="213372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81480" y="21337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86728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08660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77120" y="19051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5943240" y="137160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914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1447920"/>
              <a:ext cx="1067040" cy="106668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5" y="10896"/>
                  </a:moveTo>
                  <a:arcTo wR="-8036" hR="-8036" stAng="10758933" swAng="-10758933"/>
                  <a:lnTo>
                    <a:pt x="0" y="10800"/>
                  </a:lnTo>
                  <a:arcTo wR="10800" hR="10800" stAng="10800000" swAng="10758933"/>
                  <a:lnTo>
                    <a:pt x="24299" y="10639"/>
                  </a:lnTo>
                  <a:lnTo>
                    <a:pt x="20266" y="14769"/>
                  </a:lnTo>
                  <a:lnTo>
                    <a:pt x="16136" y="107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1320" y="1219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7086600" y="2666880"/>
              <a:ext cx="609480" cy="1708920"/>
              <a:chOff x="7086600" y="2666880"/>
              <a:chExt cx="609480" cy="1708920"/>
            </a:xfrm>
          </p:grpSpPr>
          <p:sp>
            <p:nvSpPr>
              <p:cNvPr id="347" name=""/>
              <p:cNvSpPr/>
              <p:nvPr/>
            </p:nvSpPr>
            <p:spPr>
              <a:xfrm>
                <a:off x="7467480" y="26668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086600" y="40384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019920" y="2254320"/>
              <a:ext cx="1600200" cy="717480"/>
              <a:chOff x="6019920" y="2254320"/>
              <a:chExt cx="1600200" cy="717480"/>
            </a:xfrm>
          </p:grpSpPr>
          <p:sp>
            <p:nvSpPr>
              <p:cNvPr id="350" name=""/>
              <p:cNvSpPr/>
              <p:nvPr/>
            </p:nvSpPr>
            <p:spPr>
              <a:xfrm>
                <a:off x="6248520" y="22860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19920" y="251460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82040" y="225432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 rot="10800000">
              <a:off x="6248520" y="2743200"/>
              <a:ext cx="1218960" cy="45720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86400" y="2438280"/>
              <a:ext cx="762120" cy="3049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629400" y="3048120"/>
              <a:ext cx="838080" cy="761760"/>
              <a:chOff x="6629400" y="3048120"/>
              <a:chExt cx="838080" cy="761760"/>
            </a:xfrm>
          </p:grpSpPr>
          <p:sp>
            <p:nvSpPr>
              <p:cNvPr id="356" name=""/>
              <p:cNvSpPr/>
              <p:nvPr/>
            </p:nvSpPr>
            <p:spPr>
              <a:xfrm flipV="1" rot="16200000">
                <a:off x="6780960" y="3276720"/>
                <a:ext cx="761760" cy="304200"/>
              </a:xfrm>
              <a:prstGeom prst="rightArrow">
                <a:avLst>
                  <a:gd name="adj1" fmla="val 50000"/>
                  <a:gd name="adj2" fmla="val 6260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29400" y="32767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-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24480" y="2743200"/>
              <a:ext cx="1371600" cy="1632600"/>
              <a:chOff x="6324480" y="2743200"/>
              <a:chExt cx="1371600" cy="163260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24480" y="3962520"/>
                <a:ext cx="1371600" cy="413280"/>
                <a:chOff x="6324480" y="3962520"/>
                <a:chExt cx="1371600" cy="4132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324480" y="396252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05720" y="403848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162920" y="274320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3520" y="4571640"/>
            <a:ext cx="4343400" cy="1600200"/>
            <a:chOff x="533520" y="4571640"/>
            <a:chExt cx="4343400" cy="1600200"/>
          </a:xfrm>
        </p:grpSpPr>
        <p:sp>
          <p:nvSpPr>
            <p:cNvPr id="365" name=""/>
            <p:cNvSpPr/>
            <p:nvPr/>
          </p:nvSpPr>
          <p:spPr>
            <a:xfrm>
              <a:off x="533520" y="51195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33920" y="5638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1218960" y="4571640"/>
              <a:ext cx="2971800" cy="1600200"/>
              <a:chOff x="1218960" y="4571640"/>
              <a:chExt cx="2971800" cy="1600200"/>
            </a:xfrm>
          </p:grpSpPr>
          <p:sp>
            <p:nvSpPr>
              <p:cNvPr id="368" name=""/>
              <p:cNvSpPr/>
              <p:nvPr/>
            </p:nvSpPr>
            <p:spPr>
              <a:xfrm>
                <a:off x="1371600" y="5486400"/>
                <a:ext cx="266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0800000">
                <a:off x="2057400" y="5486040"/>
                <a:ext cx="1981440" cy="68580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371600" y="5257800"/>
                <a:ext cx="685800" cy="22860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2057400" y="45720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371600" y="45716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038840" y="457200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1218960" y="4952880"/>
                <a:ext cx="297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219320" y="457200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50-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590920" y="457200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5867280" y="914400"/>
            <a:ext cx="2590920" cy="3505320"/>
            <a:chOff x="5867280" y="914400"/>
            <a:chExt cx="2590920" cy="3505320"/>
          </a:xfrm>
        </p:grpSpPr>
        <p:sp>
          <p:nvSpPr>
            <p:cNvPr id="378" name=""/>
            <p:cNvSpPr/>
            <p:nvPr/>
          </p:nvSpPr>
          <p:spPr>
            <a:xfrm>
              <a:off x="6553080" y="1523880"/>
              <a:ext cx="1219320" cy="609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72200" y="213372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67280" y="21337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55308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77240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2920" y="19051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5400000">
              <a:off x="6629040" y="137160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38880" y="914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53080" y="1447920"/>
              <a:ext cx="1067040" cy="106668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5" y="10896"/>
                  </a:moveTo>
                  <a:arcTo wR="-8036" hR="-8036" stAng="10758933" swAng="-10758933"/>
                  <a:lnTo>
                    <a:pt x="0" y="10800"/>
                  </a:lnTo>
                  <a:arcTo wR="10800" hR="10800" stAng="10800000" swAng="10758933"/>
                  <a:lnTo>
                    <a:pt x="24299" y="10639"/>
                  </a:lnTo>
                  <a:lnTo>
                    <a:pt x="20266" y="14769"/>
                  </a:lnTo>
                  <a:lnTo>
                    <a:pt x="16136" y="107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1219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7772400" y="2666880"/>
              <a:ext cx="609480" cy="1708920"/>
              <a:chOff x="7772400" y="2666880"/>
              <a:chExt cx="609480" cy="1708920"/>
            </a:xfrm>
          </p:grpSpPr>
          <p:sp>
            <p:nvSpPr>
              <p:cNvPr id="389" name=""/>
              <p:cNvSpPr/>
              <p:nvPr/>
            </p:nvSpPr>
            <p:spPr>
              <a:xfrm>
                <a:off x="8153280" y="26668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72400" y="40384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705720" y="2254320"/>
              <a:ext cx="1600200" cy="717480"/>
              <a:chOff x="6705720" y="2254320"/>
              <a:chExt cx="1600200" cy="717480"/>
            </a:xfrm>
          </p:grpSpPr>
          <p:sp>
            <p:nvSpPr>
              <p:cNvPr id="392" name=""/>
              <p:cNvSpPr/>
              <p:nvPr/>
            </p:nvSpPr>
            <p:spPr>
              <a:xfrm>
                <a:off x="6934320" y="22860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251460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467840" y="225432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 rot="10800000">
              <a:off x="6934320" y="2743200"/>
              <a:ext cx="1218960" cy="457200"/>
            </a:xfrm>
            <a:prstGeom prst="rtTriangl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72200" y="2438280"/>
              <a:ext cx="762120" cy="3049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7315200" y="3048120"/>
              <a:ext cx="838080" cy="761760"/>
              <a:chOff x="7315200" y="3048120"/>
              <a:chExt cx="838080" cy="761760"/>
            </a:xfrm>
          </p:grpSpPr>
          <p:sp>
            <p:nvSpPr>
              <p:cNvPr id="398" name=""/>
              <p:cNvSpPr/>
              <p:nvPr/>
            </p:nvSpPr>
            <p:spPr>
              <a:xfrm flipV="1" rot="16200000">
                <a:off x="7466760" y="3276720"/>
                <a:ext cx="761760" cy="304200"/>
              </a:xfrm>
              <a:prstGeom prst="rightArrow">
                <a:avLst>
                  <a:gd name="adj1" fmla="val 50000"/>
                  <a:gd name="adj2" fmla="val 6260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315200" y="32767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-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7010280" y="2743200"/>
              <a:ext cx="1371600" cy="1632600"/>
              <a:chOff x="7010280" y="2743200"/>
              <a:chExt cx="1371600" cy="163260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7010280" y="3962520"/>
                <a:ext cx="1371600" cy="413280"/>
                <a:chOff x="7010280" y="3962520"/>
                <a:chExt cx="1371600" cy="4132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010280" y="396252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391520" y="403848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" name=""/>
              <p:cNvSpPr/>
              <p:nvPr/>
            </p:nvSpPr>
            <p:spPr>
              <a:xfrm>
                <a:off x="7848720" y="274320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428840" y="1131840"/>
                <a:ext cx="21589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UES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428840" y="1660680"/>
                <a:ext cx="20336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/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428840" y="2173320"/>
                <a:ext cx="27669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428840" y="2651040"/>
                <a:ext cx="1614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1428840" y="3174840"/>
                <a:ext cx="37526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UES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428840" y="3718080"/>
                <a:ext cx="2997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UEST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5</m:t>
                    </m:r>
                    <m:r>
                      <m:rPr>
                        <m:lit/>
                        <m:nor/>
                      </m:rPr>
                      <m:t xml:space="preserve">kgc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952880" y="4724280"/>
            <a:ext cx="3429000" cy="1371600"/>
            <a:chOff x="4952880" y="4724280"/>
            <a:chExt cx="3429000" cy="1371600"/>
          </a:xfrm>
        </p:grpSpPr>
        <p:sp>
          <p:nvSpPr>
            <p:cNvPr id="412" name=""/>
            <p:cNvSpPr/>
            <p:nvPr/>
          </p:nvSpPr>
          <p:spPr>
            <a:xfrm>
              <a:off x="617184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19560" y="48765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22924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3080" y="487656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,50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71840" y="5333760"/>
              <a:ext cx="2057400" cy="609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790600" y="5333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790600" y="5943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43240" y="51814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52880" y="54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40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53080" y="5562360"/>
              <a:ext cx="1295280" cy="1526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724280" y="1600200"/>
            <a:ext cx="3584520" cy="1057320"/>
            <a:chOff x="4724280" y="1600200"/>
            <a:chExt cx="3584520" cy="1057320"/>
          </a:xfrm>
        </p:grpSpPr>
        <mc:AlternateContent>
          <mc:Choice xmlns:a14="http://schemas.microsoft.com/office/drawing/2010/main" Requires="a14">
            <p:sp>
              <p:nvSpPr>
                <p:cNvPr id="446" name=""/>
                <p:cNvSpPr txBox="1"/>
                <p:nvPr/>
              </p:nvSpPr>
              <p:spPr>
                <a:xfrm>
                  <a:off x="5290920" y="1600200"/>
                  <a:ext cx="23256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SPUESTA</m:t>
                          </m:r>
                        </m:sub>
                      </m:sSub>
                      <m:r>
                        <m:t xml:space="preserve">&gt;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OLCANT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4724280" y="2260800"/>
                  <a:ext cx="35845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65</m:t>
                      </m:r>
                      <m:r>
                        <m:rPr>
                          <m:lit/>
                          <m:nor/>
                        </m:rPr>
                        <m:t xml:space="preserve">kgcm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14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0</m:t>
                      </m:r>
                      <m:r>
                        <m:rPr>
                          <m:lit/>
                          <m:nor/>
                        </m:rPr>
                        <m:t xml:space="preserve">kgcm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JERCICIO Nº1 FUND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6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0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6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137160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valúe si el </a:t>
            </a:r>
            <a:r>
              <a:rPr b="1" lang="es-ES_tradnl" sz="2000" spc="-1" strike="noStrike">
                <a:solidFill>
                  <a:srgbClr val="333399"/>
                </a:solidFill>
                <a:latin typeface="Arial Black"/>
              </a:rPr>
              <a:t>Moment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 Black"/>
              </a:rPr>
              <a:t>Respuesta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 mayor que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 Black"/>
              </a:rPr>
              <a:t>Momento Volcante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Determinando si la Fun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ta en equilibrio o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80880" y="380880"/>
            <a:ext cx="8001000" cy="5524200"/>
            <a:chOff x="-380880" y="380880"/>
            <a:chExt cx="8001000" cy="5524200"/>
          </a:xfrm>
        </p:grpSpPr>
        <p:sp>
          <p:nvSpPr>
            <p:cNvPr id="44" name=""/>
            <p:cNvSpPr/>
            <p:nvPr/>
          </p:nvSpPr>
          <p:spPr>
            <a:xfrm>
              <a:off x="-380880" y="380880"/>
              <a:ext cx="800100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      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FUNDACION CORRI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fund5a" descr=""/>
            <p:cNvPicPr/>
            <p:nvPr/>
          </p:nvPicPr>
          <p:blipFill>
            <a:blip r:embed="rId1"/>
            <a:srcRect l="1718" t="0" r="5163" b="0"/>
            <a:stretch/>
          </p:blipFill>
          <p:spPr>
            <a:xfrm>
              <a:off x="273960" y="1215000"/>
              <a:ext cx="3983400" cy="459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042720" y="1586160"/>
              <a:ext cx="367920" cy="113832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0"/>
                  </a:moveTo>
                  <a:lnTo>
                    <a:pt x="240" y="0"/>
                  </a:lnTo>
                  <a:lnTo>
                    <a:pt x="240" y="816"/>
                  </a:lnTo>
                  <a:lnTo>
                    <a:pt x="0" y="81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70840" y="5637600"/>
              <a:ext cx="125136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7040" y="5268960"/>
              <a:ext cx="33868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12560" y="5334840"/>
              <a:ext cx="44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Black"/>
                </a:rPr>
                <a:t>Planta Fundación Corr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504960" y="2286000"/>
            <a:ext cx="5374080" cy="4264200"/>
            <a:chOff x="3504960" y="2286000"/>
            <a:chExt cx="5374080" cy="4264200"/>
          </a:xfrm>
        </p:grpSpPr>
        <p:grpSp>
          <p:nvGrpSpPr>
            <p:cNvPr id="51" name=""/>
            <p:cNvGrpSpPr/>
            <p:nvPr/>
          </p:nvGrpSpPr>
          <p:grpSpPr>
            <a:xfrm>
              <a:off x="4952880" y="2700360"/>
              <a:ext cx="3926160" cy="3849840"/>
              <a:chOff x="4952880" y="2700360"/>
              <a:chExt cx="3926160" cy="3849840"/>
            </a:xfrm>
          </p:grpSpPr>
          <p:pic>
            <p:nvPicPr>
              <p:cNvPr id="52" name="fund5b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2880" y="2700360"/>
                <a:ext cx="3926160" cy="36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095880" y="5734080"/>
                <a:ext cx="236232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019920" y="5734080"/>
                <a:ext cx="2438280" cy="816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Arial Black"/>
                  </a:rPr>
                  <a:t>Sección A - A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66ff"/>
                    </a:solidFill>
                    <a:latin typeface="Arial"/>
                  </a:rPr>
                  <a:t>Fundación Céntr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 flipH="1" flipV="1">
              <a:off x="3504960" y="2286000"/>
              <a:ext cx="2895480" cy="1238400"/>
            </a:xfrm>
            <a:prstGeom prst="line">
              <a:avLst/>
            </a:prstGeom>
            <a:ln w="572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248520" y="228600"/>
            <a:ext cx="2666880" cy="2266200"/>
            <a:chOff x="6248520" y="228600"/>
            <a:chExt cx="2666880" cy="2266200"/>
          </a:xfrm>
        </p:grpSpPr>
        <p:pic>
          <p:nvPicPr>
            <p:cNvPr id="57" name="fund5d%20copy" descr=""/>
            <p:cNvPicPr/>
            <p:nvPr/>
          </p:nvPicPr>
          <p:blipFill>
            <a:blip r:embed="rId3"/>
            <a:srcRect l="0" t="0" r="0" b="20489"/>
            <a:stretch/>
          </p:blipFill>
          <p:spPr>
            <a:xfrm>
              <a:off x="6248520" y="228600"/>
              <a:ext cx="26668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165440" y="2157480"/>
              <a:ext cx="14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Elevación E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380880" y="380880"/>
            <a:ext cx="8001000" cy="5524560"/>
            <a:chOff x="-380880" y="380880"/>
            <a:chExt cx="8001000" cy="5524560"/>
          </a:xfrm>
        </p:grpSpPr>
        <p:sp>
          <p:nvSpPr>
            <p:cNvPr id="60" name=""/>
            <p:cNvSpPr/>
            <p:nvPr/>
          </p:nvSpPr>
          <p:spPr>
            <a:xfrm>
              <a:off x="-380880" y="380880"/>
              <a:ext cx="800100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      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FUNDACION CORRI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fund5a" descr=""/>
            <p:cNvPicPr/>
            <p:nvPr/>
          </p:nvPicPr>
          <p:blipFill>
            <a:blip r:embed="rId1"/>
            <a:srcRect l="1718" t="0" r="5163" b="0"/>
            <a:stretch/>
          </p:blipFill>
          <p:spPr>
            <a:xfrm>
              <a:off x="274680" y="1216080"/>
              <a:ext cx="3983040" cy="45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5400000">
              <a:off x="1466640" y="2139840"/>
              <a:ext cx="393480" cy="129564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0"/>
                  </a:moveTo>
                  <a:lnTo>
                    <a:pt x="240" y="0"/>
                  </a:lnTo>
                  <a:lnTo>
                    <a:pt x="240" y="816"/>
                  </a:lnTo>
                  <a:lnTo>
                    <a:pt x="0" y="81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70120" y="5637240"/>
              <a:ext cx="125244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7040" y="5268960"/>
              <a:ext cx="3387600" cy="60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12920" y="5335560"/>
              <a:ext cx="44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Black"/>
                </a:rPr>
                <a:t>Planta Fundación Corr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438280" y="2629080"/>
            <a:ext cx="6553440" cy="4195440"/>
            <a:chOff x="2438280" y="2629080"/>
            <a:chExt cx="6553440" cy="4195440"/>
          </a:xfrm>
        </p:grpSpPr>
        <p:pic>
          <p:nvPicPr>
            <p:cNvPr id="67" name="fund5c" descr=""/>
            <p:cNvPicPr/>
            <p:nvPr/>
          </p:nvPicPr>
          <p:blipFill>
            <a:blip r:embed="rId2"/>
            <a:stretch/>
          </p:blipFill>
          <p:spPr>
            <a:xfrm>
              <a:off x="5105520" y="2629080"/>
              <a:ext cx="3886200" cy="36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5880" y="5734080"/>
              <a:ext cx="23623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19920" y="5734080"/>
              <a:ext cx="2438280" cy="1090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Arial Black"/>
                </a:rPr>
                <a:t>Sección B - B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Fundación Excént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2438280" y="2819160"/>
              <a:ext cx="3810240" cy="685800"/>
            </a:xfrm>
            <a:prstGeom prst="line">
              <a:avLst/>
            </a:prstGeom>
            <a:ln w="572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248520" y="228600"/>
            <a:ext cx="2666880" cy="2266200"/>
            <a:chOff x="6248520" y="228600"/>
            <a:chExt cx="2666880" cy="2266200"/>
          </a:xfrm>
        </p:grpSpPr>
        <p:pic>
          <p:nvPicPr>
            <p:cNvPr id="72" name="fund5d%20copy" descr=""/>
            <p:cNvPicPr/>
            <p:nvPr/>
          </p:nvPicPr>
          <p:blipFill>
            <a:blip r:embed="rId3"/>
            <a:srcRect l="0" t="0" r="0" b="20489"/>
            <a:stretch/>
          </p:blipFill>
          <p:spPr>
            <a:xfrm>
              <a:off x="6248520" y="228600"/>
              <a:ext cx="26668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165440" y="2157480"/>
              <a:ext cx="14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Elevación E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380880" y="380880"/>
            <a:ext cx="80010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FUNDACION CORR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74680" y="1216080"/>
            <a:ext cx="5529240" cy="4689360"/>
            <a:chOff x="274680" y="1216080"/>
            <a:chExt cx="5529240" cy="4689360"/>
          </a:xfrm>
        </p:grpSpPr>
        <p:pic>
          <p:nvPicPr>
            <p:cNvPr id="76" name="fund5a" descr=""/>
            <p:cNvPicPr/>
            <p:nvPr/>
          </p:nvPicPr>
          <p:blipFill>
            <a:blip r:embed="rId1"/>
            <a:srcRect l="1718" t="0" r="5163" b="0"/>
            <a:stretch/>
          </p:blipFill>
          <p:spPr>
            <a:xfrm>
              <a:off x="274680" y="1216080"/>
              <a:ext cx="3983040" cy="45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009960" y="3822840"/>
              <a:ext cx="368280" cy="113796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0"/>
                  </a:moveTo>
                  <a:lnTo>
                    <a:pt x="240" y="0"/>
                  </a:lnTo>
                  <a:lnTo>
                    <a:pt x="240" y="816"/>
                  </a:lnTo>
                  <a:lnTo>
                    <a:pt x="0" y="81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70120" y="5637240"/>
              <a:ext cx="125244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7040" y="5268960"/>
              <a:ext cx="3387600" cy="60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2920" y="5335560"/>
              <a:ext cx="44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Black"/>
                </a:rPr>
                <a:t>Planta Fundación Corr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504960" y="2362320"/>
            <a:ext cx="5107320" cy="4187880"/>
            <a:chOff x="3504960" y="2362320"/>
            <a:chExt cx="5107320" cy="4187880"/>
          </a:xfrm>
        </p:grpSpPr>
        <p:pic>
          <p:nvPicPr>
            <p:cNvPr id="82" name="fund5f" descr=""/>
            <p:cNvPicPr/>
            <p:nvPr/>
          </p:nvPicPr>
          <p:blipFill>
            <a:blip r:embed="rId2"/>
            <a:stretch/>
          </p:blipFill>
          <p:spPr>
            <a:xfrm>
              <a:off x="5486400" y="2362320"/>
              <a:ext cx="31258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095880" y="5734080"/>
              <a:ext cx="23623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19920" y="5734080"/>
              <a:ext cx="2438280" cy="816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Arial Black"/>
                </a:rPr>
                <a:t>Sección C - C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Fundación Cént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504960" y="3524400"/>
              <a:ext cx="2895480" cy="742680"/>
            </a:xfrm>
            <a:prstGeom prst="line">
              <a:avLst/>
            </a:prstGeom>
            <a:ln w="572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348240" y="76320"/>
            <a:ext cx="2719440" cy="2418480"/>
            <a:chOff x="6348240" y="76320"/>
            <a:chExt cx="2719440" cy="2418480"/>
          </a:xfrm>
        </p:grpSpPr>
        <p:pic>
          <p:nvPicPr>
            <p:cNvPr id="87" name="fund5e" descr=""/>
            <p:cNvPicPr/>
            <p:nvPr/>
          </p:nvPicPr>
          <p:blipFill>
            <a:blip r:embed="rId3"/>
            <a:srcRect l="0" t="0" r="0" b="18928"/>
            <a:stretch/>
          </p:blipFill>
          <p:spPr>
            <a:xfrm>
              <a:off x="6348240" y="76320"/>
              <a:ext cx="27194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165440" y="2157480"/>
              <a:ext cx="14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Elevación E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5029200" y="2819160"/>
            <a:ext cx="2590920" cy="1219320"/>
            <a:chOff x="5029200" y="2819160"/>
            <a:chExt cx="2590920" cy="1219320"/>
          </a:xfrm>
        </p:grpSpPr>
        <p:sp>
          <p:nvSpPr>
            <p:cNvPr id="90" name=""/>
            <p:cNvSpPr/>
            <p:nvPr/>
          </p:nvSpPr>
          <p:spPr>
            <a:xfrm>
              <a:off x="5715000" y="2819520"/>
              <a:ext cx="1219320" cy="609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4120" y="342900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29200" y="34290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15000" y="2819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6934320" y="2819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800600" y="762120"/>
            <a:ext cx="2666880" cy="1371600"/>
            <a:chOff x="4800600" y="762120"/>
            <a:chExt cx="2666880" cy="1371600"/>
          </a:xfrm>
        </p:grpSpPr>
        <p:sp>
          <p:nvSpPr>
            <p:cNvPr id="96" name=""/>
            <p:cNvSpPr/>
            <p:nvPr/>
          </p:nvSpPr>
          <p:spPr>
            <a:xfrm>
              <a:off x="6019920" y="762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00600" y="1447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4120" y="137196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5000" y="1600560"/>
              <a:ext cx="129528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952520" y="1371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1219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952520" y="1981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4120" y="914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81480" y="114336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15200" y="914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286000" y="1600200"/>
            <a:ext cx="1219320" cy="182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4290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-7632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724280"/>
            <a:ext cx="6781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= Flexocompresión o Flexión Comp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N = Carga Normal Total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(incluido peso propio funda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 = Área de contacto de la fundación con el terre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M = Momento de volcamiento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(en la base de la fundación).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W = Momento resistente de la sección de contact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71600" y="1143000"/>
            <a:ext cx="990720" cy="609480"/>
            <a:chOff x="1371600" y="1143000"/>
            <a:chExt cx="990720" cy="609480"/>
          </a:xfrm>
        </p:grpSpPr>
        <p:sp>
          <p:nvSpPr>
            <p:cNvPr id="111" name=""/>
            <p:cNvSpPr/>
            <p:nvPr/>
          </p:nvSpPr>
          <p:spPr>
            <a:xfrm>
              <a:off x="1371600" y="144756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3880" y="11430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Arial Black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742840" y="685800"/>
            <a:ext cx="1067040" cy="914400"/>
            <a:chOff x="2742840" y="685800"/>
            <a:chExt cx="1067040" cy="914400"/>
          </a:xfrm>
        </p:grpSpPr>
        <p:sp>
          <p:nvSpPr>
            <p:cNvPr id="114" name=""/>
            <p:cNvSpPr/>
            <p:nvPr/>
          </p:nvSpPr>
          <p:spPr>
            <a:xfrm rot="5400000">
              <a:off x="2437920" y="99036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1800" y="685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 Black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171840" y="2209680"/>
            <a:ext cx="1067040" cy="1143000"/>
            <a:chOff x="6171840" y="2209680"/>
            <a:chExt cx="1067040" cy="1143000"/>
          </a:xfrm>
        </p:grpSpPr>
        <p:sp>
          <p:nvSpPr>
            <p:cNvPr id="117" name=""/>
            <p:cNvSpPr/>
            <p:nvPr/>
          </p:nvSpPr>
          <p:spPr>
            <a:xfrm rot="5400000">
              <a:off x="5790960" y="266688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2209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 Black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638680" y="2514600"/>
            <a:ext cx="1143000" cy="1295280"/>
            <a:chOff x="5638680" y="2514600"/>
            <a:chExt cx="1143000" cy="1295280"/>
          </a:xfrm>
        </p:grpSpPr>
        <p:sp>
          <p:nvSpPr>
            <p:cNvPr id="120" name=""/>
            <p:cNvSpPr/>
            <p:nvPr/>
          </p:nvSpPr>
          <p:spPr>
            <a:xfrm>
              <a:off x="5715000" y="2743200"/>
              <a:ext cx="1066680" cy="10666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5" y="10896"/>
                  </a:moveTo>
                  <a:arcTo wR="-8036" hR="-8036" stAng="10758933" swAng="-10758933"/>
                  <a:lnTo>
                    <a:pt x="0" y="10800"/>
                  </a:lnTo>
                  <a:arcTo wR="10800" hR="10800" stAng="10800000" swAng="10758933"/>
                  <a:lnTo>
                    <a:pt x="24299" y="10639"/>
                  </a:lnTo>
                  <a:lnTo>
                    <a:pt x="20266" y="14769"/>
                  </a:lnTo>
                  <a:lnTo>
                    <a:pt x="16136" y="107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8680" y="2514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562720" y="3962520"/>
            <a:ext cx="2514600" cy="1320840"/>
            <a:chOff x="5562720" y="3962520"/>
            <a:chExt cx="2514600" cy="1320840"/>
          </a:xfrm>
        </p:grpSpPr>
        <p:sp>
          <p:nvSpPr>
            <p:cNvPr id="123" name=""/>
            <p:cNvSpPr/>
            <p:nvPr/>
          </p:nvSpPr>
          <p:spPr>
            <a:xfrm>
              <a:off x="5562720" y="39625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24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13760" y="445788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</a:t>
              </a: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19720" y="2971800"/>
            <a:ext cx="990360" cy="609480"/>
            <a:chOff x="4419720" y="2971800"/>
            <a:chExt cx="990360" cy="609480"/>
          </a:xfrm>
        </p:grpSpPr>
        <p:sp>
          <p:nvSpPr>
            <p:cNvPr id="126" name=""/>
            <p:cNvSpPr/>
            <p:nvPr/>
          </p:nvSpPr>
          <p:spPr>
            <a:xfrm>
              <a:off x="4419720" y="327636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0" y="2971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Arial Black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3124080"/>
            <a:ext cx="7467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Suponiendo una distribución uniforme de las tensiones sobre el terreno y un comportamiento totalmente elástico de éste, se establecen las siguientes condi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191120"/>
            <a:ext cx="74674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Que las tensiones  en el punto más cargado no sea superi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 la tensión admi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l terreno no admite tr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666880" y="1447920"/>
            <a:ext cx="3124440" cy="1214640"/>
            <a:chOff x="2666880" y="1447920"/>
            <a:chExt cx="3124440" cy="1214640"/>
          </a:xfrm>
        </p:grpSpPr>
        <p:sp>
          <p:nvSpPr>
            <p:cNvPr id="132" name=""/>
            <p:cNvSpPr/>
            <p:nvPr/>
          </p:nvSpPr>
          <p:spPr>
            <a:xfrm>
              <a:off x="2666880" y="1447920"/>
              <a:ext cx="3124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2081160"/>
              <a:ext cx="16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57400" y="5029200"/>
            <a:ext cx="594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La fundación está en equilibrio, siemp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que no pase de la tensión limi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ctr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1241280"/>
                <a:tab algn="l" pos="5137200"/>
                <a:tab algn="l" pos="10274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90720" y="1644480"/>
            <a:ext cx="7619760" cy="3080880"/>
            <a:chOff x="990720" y="1644480"/>
            <a:chExt cx="7619760" cy="3080880"/>
          </a:xfrm>
        </p:grpSpPr>
        <p:grpSp>
          <p:nvGrpSpPr>
            <p:cNvPr id="136" name=""/>
            <p:cNvGrpSpPr/>
            <p:nvPr/>
          </p:nvGrpSpPr>
          <p:grpSpPr>
            <a:xfrm>
              <a:off x="3505320" y="3320640"/>
              <a:ext cx="1828800" cy="761760"/>
              <a:chOff x="3505320" y="3320640"/>
              <a:chExt cx="1828800" cy="76176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3505320" y="3320640"/>
                <a:ext cx="1828800" cy="761760"/>
                <a:chOff x="3505320" y="3320640"/>
                <a:chExt cx="1828800" cy="7617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505320" y="3320640"/>
                  <a:ext cx="914400" cy="3808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0800000">
                  <a:off x="4419720" y="3701520"/>
                  <a:ext cx="914400" cy="3808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 flipH="1" flipV="1">
                <a:off x="4419360" y="3701160"/>
                <a:ext cx="522360" cy="21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971800" y="29397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90720" y="3701880"/>
              <a:ext cx="1827000" cy="547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7920" y="43113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0600" y="40971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248520" y="3854160"/>
              <a:ext cx="2361960" cy="871200"/>
              <a:chOff x="6248520" y="3854160"/>
              <a:chExt cx="2361960" cy="871200"/>
            </a:xfrm>
          </p:grpSpPr>
          <p:sp>
            <p:nvSpPr>
              <p:cNvPr id="146" name=""/>
              <p:cNvSpPr/>
              <p:nvPr/>
            </p:nvSpPr>
            <p:spPr>
              <a:xfrm rot="10800000">
                <a:off x="6248520" y="3854160"/>
                <a:ext cx="1828800" cy="45720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082760"/>
                <a:ext cx="152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(+) Compres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10800000">
              <a:off x="6248520" y="3625200"/>
              <a:ext cx="18288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1644480"/>
              <a:ext cx="205740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70188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8120" y="3549240"/>
              <a:ext cx="380880" cy="38124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791320" y="3625560"/>
              <a:ext cx="304560" cy="228600"/>
              <a:chOff x="5791320" y="3625560"/>
              <a:chExt cx="304560" cy="228600"/>
            </a:xfrm>
          </p:grpSpPr>
          <p:sp>
            <p:nvSpPr>
              <p:cNvPr id="153" name=""/>
              <p:cNvSpPr/>
              <p:nvPr/>
            </p:nvSpPr>
            <p:spPr>
              <a:xfrm>
                <a:off x="5791320" y="3625560"/>
                <a:ext cx="3045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91320" y="3777840"/>
                <a:ext cx="3045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048120" y="1143000"/>
            <a:ext cx="3124080" cy="1214640"/>
            <a:chOff x="3048120" y="1143000"/>
            <a:chExt cx="3124080" cy="1214640"/>
          </a:xfrm>
        </p:grpSpPr>
        <p:sp>
          <p:nvSpPr>
            <p:cNvPr id="157" name=""/>
            <p:cNvSpPr/>
            <p:nvPr/>
          </p:nvSpPr>
          <p:spPr>
            <a:xfrm>
              <a:off x="3048120" y="114300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1776240"/>
              <a:ext cx="16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5181480"/>
            <a:ext cx="7848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La fundación está en equilibrio, Es el caso límit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ya que se está al borde de la aparición de la tr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1241280"/>
                <a:tab algn="l" pos="5137200"/>
                <a:tab algn="l" pos="10274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6477120" y="3657240"/>
            <a:ext cx="1828800" cy="7621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4159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Com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505320" y="3321000"/>
            <a:ext cx="1828800" cy="761760"/>
            <a:chOff x="3505320" y="3321000"/>
            <a:chExt cx="1828800" cy="761760"/>
          </a:xfrm>
        </p:grpSpPr>
        <p:grpSp>
          <p:nvGrpSpPr>
            <p:cNvPr id="164" name=""/>
            <p:cNvGrpSpPr/>
            <p:nvPr/>
          </p:nvGrpSpPr>
          <p:grpSpPr>
            <a:xfrm>
              <a:off x="3505320" y="3321000"/>
              <a:ext cx="1828800" cy="761760"/>
              <a:chOff x="3505320" y="3321000"/>
              <a:chExt cx="1828800" cy="761760"/>
            </a:xfrm>
          </p:grpSpPr>
          <p:sp>
            <p:nvSpPr>
              <p:cNvPr id="165" name=""/>
              <p:cNvSpPr/>
              <p:nvPr/>
            </p:nvSpPr>
            <p:spPr>
              <a:xfrm>
                <a:off x="3505320" y="332100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0800000">
                <a:off x="4419720" y="370188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 flipV="1">
              <a:off x="4419360" y="3701520"/>
              <a:ext cx="52236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971800" y="2940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-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701880"/>
            <a:ext cx="1827000" cy="5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311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N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4097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3549600"/>
            <a:ext cx="380880" cy="380880"/>
          </a:xfrm>
          <a:prstGeom prst="plus">
            <a:avLst>
              <a:gd name="adj" fmla="val 388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791320" y="3625920"/>
            <a:ext cx="304560" cy="228600"/>
            <a:chOff x="5791320" y="3625920"/>
            <a:chExt cx="304560" cy="228600"/>
          </a:xfrm>
        </p:grpSpPr>
        <p:sp>
          <p:nvSpPr>
            <p:cNvPr id="174" name=""/>
            <p:cNvSpPr/>
            <p:nvPr/>
          </p:nvSpPr>
          <p:spPr>
            <a:xfrm>
              <a:off x="5791320" y="362592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377820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048120" y="1143000"/>
            <a:ext cx="3124080" cy="1214640"/>
            <a:chOff x="3048120" y="1143000"/>
            <a:chExt cx="3124080" cy="1214640"/>
          </a:xfrm>
        </p:grpSpPr>
        <p:sp>
          <p:nvSpPr>
            <p:cNvPr id="177" name=""/>
            <p:cNvSpPr/>
            <p:nvPr/>
          </p:nvSpPr>
          <p:spPr>
            <a:xfrm>
              <a:off x="3048120" y="114300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480" y="1776240"/>
              <a:ext cx="16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50292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La fundación no está en equilibrio, porque el terre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no  tiene capacidad de responder ante las tracciones.</a:t>
            </a:r>
            <a:r>
              <a:rPr b="0" lang="es-ES_tradnl" sz="22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550"/>
              </a:spcBef>
              <a:buClr>
                <a:srgbClr val="333399"/>
              </a:buClr>
              <a:buSzPct val="120000"/>
              <a:buFont typeface="Times New Roman"/>
              <a:buChar char="•"/>
              <a:tabLst>
                <a:tab algn="l" pos="1241280"/>
                <a:tab algn="l" pos="5137200"/>
                <a:tab algn="l" pos="10274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3352680"/>
            <a:ext cx="457200" cy="15264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934320" y="3505320"/>
            <a:ext cx="1371600" cy="3808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38862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Com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2909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-) Tr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05320" y="3200400"/>
            <a:ext cx="1828800" cy="761760"/>
            <a:chOff x="3505320" y="3200400"/>
            <a:chExt cx="1828800" cy="761760"/>
          </a:xfrm>
        </p:grpSpPr>
        <p:grpSp>
          <p:nvGrpSpPr>
            <p:cNvPr id="186" name=""/>
            <p:cNvGrpSpPr/>
            <p:nvPr/>
          </p:nvGrpSpPr>
          <p:grpSpPr>
            <a:xfrm>
              <a:off x="3505320" y="3200400"/>
              <a:ext cx="1828800" cy="761760"/>
              <a:chOff x="3505320" y="3200400"/>
              <a:chExt cx="1828800" cy="761760"/>
            </a:xfrm>
          </p:grpSpPr>
          <p:sp>
            <p:nvSpPr>
              <p:cNvPr id="187" name=""/>
              <p:cNvSpPr/>
              <p:nvPr/>
            </p:nvSpPr>
            <p:spPr>
              <a:xfrm>
                <a:off x="3505320" y="320040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4419720" y="358128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 flipH="1" flipV="1">
              <a:off x="4419360" y="3580920"/>
              <a:ext cx="52236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971800" y="2819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-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581280"/>
            <a:ext cx="1827000" cy="5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4191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N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39765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3429000"/>
            <a:ext cx="380880" cy="380880"/>
          </a:xfrm>
          <a:prstGeom prst="plus">
            <a:avLst>
              <a:gd name="adj" fmla="val 388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791320" y="3505320"/>
            <a:ext cx="304560" cy="228600"/>
            <a:chOff x="5791320" y="3505320"/>
            <a:chExt cx="304560" cy="228600"/>
          </a:xfrm>
        </p:grpSpPr>
        <p:sp>
          <p:nvSpPr>
            <p:cNvPr id="196" name=""/>
            <p:cNvSpPr/>
            <p:nvPr/>
          </p:nvSpPr>
          <p:spPr>
            <a:xfrm>
              <a:off x="5791320" y="350532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365760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048120" y="1143000"/>
            <a:ext cx="3124080" cy="1214640"/>
            <a:chOff x="3048120" y="1143000"/>
            <a:chExt cx="3124080" cy="1214640"/>
          </a:xfrm>
        </p:grpSpPr>
        <p:sp>
          <p:nvSpPr>
            <p:cNvPr id="199" name=""/>
            <p:cNvSpPr/>
            <p:nvPr/>
          </p:nvSpPr>
          <p:spPr>
            <a:xfrm>
              <a:off x="3048120" y="114300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38480" y="1776240"/>
              <a:ext cx="16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22:43:29Z</dcterms:created>
  <dc:creator>Loreto</dc:creator>
  <dc:description/>
  <dc:language>en-US</dc:language>
  <cp:lastModifiedBy>portatiluad</cp:lastModifiedBy>
  <dcterms:modified xsi:type="dcterms:W3CDTF">2009-10-05T12:39:10Z</dcterms:modified>
  <cp:revision>5</cp:revision>
  <dc:subject/>
  <dc:title>Presentación de PowerPoint</dc:title>
</cp:coreProperties>
</file>