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80E-A0E3-451A-BA89-EE3593B5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331-3E58-413A-B87D-F2E99D18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B66-DCFE-4CC6-870B-6D527315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6D4-AA12-4042-B865-B868F530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8DD-1CCB-4180-80D7-700AC81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A4D-42CF-4AC0-A703-CADE6C3F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FD3-C086-4F4D-AED9-E2FC5791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197-59A9-4A49-9CA3-58AADC60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B70-9CDC-4FFC-9A74-6E499725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75C-10E2-412D-A38B-FA888F3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29A-07FB-4A8D-9225-FB6AA27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5A6-327E-4E3F-8B6A-C1AA73F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4B5-F2D0-4BBE-84BB-372156583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838080"/>
            <a:ext cx="5456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1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1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5720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0120" y="1682640"/>
                <a:ext cx="5033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0,8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,5</m:t>
                    </m:r>
                    <m:r>
                      <m:t xml:space="preserve">m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2954160"/>
                <a:ext cx="4698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45040" y="2286000"/>
                <a:ext cx="19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U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073400" y="3701880"/>
                <a:ext cx="415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138560" y="4498920"/>
                <a:ext cx="492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CAN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30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14800" y="5229360"/>
                <a:ext cx="4676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24480" y="1371600"/>
                <a:ext cx="1425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08640" y="3159000"/>
                <a:ext cx="3797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13320" y="2209680"/>
                <a:ext cx="3668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kgc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545000" y="3809880"/>
                <a:ext cx="216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29160" y="4343400"/>
                <a:ext cx="2328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/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292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686480" y="1357200"/>
                <a:ext cx="1928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800600" y="2270160"/>
                <a:ext cx="1803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579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5867280" y="5790960"/>
            <a:ext cx="198144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5562720"/>
            <a:ext cx="685800" cy="2286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028840" y="4876560"/>
            <a:ext cx="2971800" cy="914760"/>
            <a:chOff x="5028840" y="4876560"/>
            <a:chExt cx="2971800" cy="914760"/>
          </a:xfrm>
        </p:grpSpPr>
        <p:sp>
          <p:nvSpPr>
            <p:cNvPr id="329" name=""/>
            <p:cNvSpPr/>
            <p:nvPr/>
          </p:nvSpPr>
          <p:spPr>
            <a:xfrm flipV="1">
              <a:off x="5867280" y="48769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181480" y="487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848720" y="4876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028840" y="52578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50-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0800" y="4876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181480" y="914400"/>
            <a:ext cx="2590920" cy="3505320"/>
            <a:chOff x="5181480" y="914400"/>
            <a:chExt cx="2590920" cy="3505320"/>
          </a:xfrm>
        </p:grpSpPr>
        <p:sp>
          <p:nvSpPr>
            <p:cNvPr id="336" name=""/>
            <p:cNvSpPr/>
            <p:nvPr/>
          </p:nvSpPr>
          <p:spPr>
            <a:xfrm>
              <a:off x="5867280" y="1523880"/>
              <a:ext cx="1219320" cy="609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64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672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866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71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59432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7086600" y="2666880"/>
              <a:ext cx="609480" cy="1708920"/>
              <a:chOff x="7086600" y="2666880"/>
              <a:chExt cx="609480" cy="1708920"/>
            </a:xfrm>
          </p:grpSpPr>
          <p:sp>
            <p:nvSpPr>
              <p:cNvPr id="347" name=""/>
              <p:cNvSpPr/>
              <p:nvPr/>
            </p:nvSpPr>
            <p:spPr>
              <a:xfrm>
                <a:off x="74674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6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019920" y="2254320"/>
              <a:ext cx="1600200" cy="717480"/>
              <a:chOff x="6019920" y="2254320"/>
              <a:chExt cx="1600200" cy="717480"/>
            </a:xfrm>
          </p:grpSpPr>
          <p:sp>
            <p:nvSpPr>
              <p:cNvPr id="350" name=""/>
              <p:cNvSpPr/>
              <p:nvPr/>
            </p:nvSpPr>
            <p:spPr>
              <a:xfrm>
                <a:off x="62485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820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10800000">
              <a:off x="6248520" y="2743200"/>
              <a:ext cx="1218960" cy="45720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86400" y="2438280"/>
              <a:ext cx="762120" cy="30492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629400" y="3048120"/>
              <a:ext cx="838080" cy="761760"/>
              <a:chOff x="6629400" y="3048120"/>
              <a:chExt cx="838080" cy="761760"/>
            </a:xfrm>
          </p:grpSpPr>
          <p:sp>
            <p:nvSpPr>
              <p:cNvPr id="356" name=""/>
              <p:cNvSpPr/>
              <p:nvPr/>
            </p:nvSpPr>
            <p:spPr>
              <a:xfrm flipV="1" rot="16200000">
                <a:off x="67809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294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24480" y="2743200"/>
              <a:ext cx="1371600" cy="1632600"/>
              <a:chOff x="6324480" y="2743200"/>
              <a:chExt cx="1371600" cy="1632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24480" y="3962520"/>
                <a:ext cx="1371600" cy="413280"/>
                <a:chOff x="6324480" y="3962520"/>
                <a:chExt cx="1371600" cy="413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3244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057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1629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520" y="4571640"/>
            <a:ext cx="4343400" cy="1600200"/>
            <a:chOff x="533520" y="4571640"/>
            <a:chExt cx="4343400" cy="1600200"/>
          </a:xfrm>
        </p:grpSpPr>
        <p:sp>
          <p:nvSpPr>
            <p:cNvPr id="365" name=""/>
            <p:cNvSpPr/>
            <p:nvPr/>
          </p:nvSpPr>
          <p:spPr>
            <a:xfrm>
              <a:off x="533520" y="51195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218960" y="4571640"/>
              <a:ext cx="2971800" cy="1600200"/>
              <a:chOff x="1218960" y="4571640"/>
              <a:chExt cx="2971800" cy="16002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548640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0800000">
                <a:off x="2057400" y="5486040"/>
                <a:ext cx="1981440" cy="68580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71600" y="5257800"/>
                <a:ext cx="685800" cy="2286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057400" y="45720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371600" y="45716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038840" y="45720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218960" y="4952880"/>
                <a:ext cx="29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193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50-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590920" y="457200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5867280" y="914400"/>
            <a:ext cx="2590920" cy="3505320"/>
            <a:chOff x="5867280" y="914400"/>
            <a:chExt cx="2590920" cy="3505320"/>
          </a:xfrm>
        </p:grpSpPr>
        <p:sp>
          <p:nvSpPr>
            <p:cNvPr id="378" name=""/>
            <p:cNvSpPr/>
            <p:nvPr/>
          </p:nvSpPr>
          <p:spPr>
            <a:xfrm>
              <a:off x="6553080" y="1523880"/>
              <a:ext cx="1219320" cy="60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21337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67280" y="2133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55308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772400" y="1523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920" y="19051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5400000">
              <a:off x="6629040" y="13716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9144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3080" y="1447920"/>
              <a:ext cx="1067040" cy="106668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219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772400" y="2666880"/>
              <a:ext cx="609480" cy="1708920"/>
              <a:chOff x="7772400" y="2666880"/>
              <a:chExt cx="609480" cy="1708920"/>
            </a:xfrm>
          </p:grpSpPr>
          <p:sp>
            <p:nvSpPr>
              <p:cNvPr id="389" name=""/>
              <p:cNvSpPr/>
              <p:nvPr/>
            </p:nvSpPr>
            <p:spPr>
              <a:xfrm>
                <a:off x="8153280" y="2666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72400" y="40384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705720" y="2254320"/>
              <a:ext cx="1600200" cy="717480"/>
              <a:chOff x="6705720" y="2254320"/>
              <a:chExt cx="1600200" cy="717480"/>
            </a:xfrm>
          </p:grpSpPr>
          <p:sp>
            <p:nvSpPr>
              <p:cNvPr id="392" name=""/>
              <p:cNvSpPr/>
              <p:nvPr/>
            </p:nvSpPr>
            <p:spPr>
              <a:xfrm>
                <a:off x="6934320" y="22860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251460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67840" y="225432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rot="10800000">
              <a:off x="6934320" y="2743200"/>
              <a:ext cx="1218960" cy="45720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2200" y="2438280"/>
              <a:ext cx="762120" cy="304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7315200" y="3048120"/>
              <a:ext cx="838080" cy="761760"/>
              <a:chOff x="7315200" y="3048120"/>
              <a:chExt cx="838080" cy="761760"/>
            </a:xfrm>
          </p:grpSpPr>
          <p:sp>
            <p:nvSpPr>
              <p:cNvPr id="398" name=""/>
              <p:cNvSpPr/>
              <p:nvPr/>
            </p:nvSpPr>
            <p:spPr>
              <a:xfrm flipV="1" rot="16200000">
                <a:off x="7466760" y="327672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15200" y="327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010280" y="2743200"/>
              <a:ext cx="1371600" cy="1632600"/>
              <a:chOff x="7010280" y="2743200"/>
              <a:chExt cx="1371600" cy="16326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7010280" y="3962520"/>
                <a:ext cx="1371600" cy="413280"/>
                <a:chOff x="7010280" y="3962520"/>
                <a:chExt cx="1371600" cy="4132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010280" y="396252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391520" y="403848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7848720" y="2743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428840" y="1131840"/>
                <a:ext cx="21589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28840" y="1660680"/>
                <a:ext cx="2033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/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428840" y="2173320"/>
                <a:ext cx="27669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428840" y="2651040"/>
                <a:ext cx="1614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428840" y="3174840"/>
                <a:ext cx="37526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428840" y="3718080"/>
                <a:ext cx="2997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PUEST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kg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952880" y="4724280"/>
            <a:ext cx="3429000" cy="1371600"/>
            <a:chOff x="4952880" y="4724280"/>
            <a:chExt cx="3429000" cy="1371600"/>
          </a:xfrm>
        </p:grpSpPr>
        <p:sp>
          <p:nvSpPr>
            <p:cNvPr id="412" name=""/>
            <p:cNvSpPr/>
            <p:nvPr/>
          </p:nvSpPr>
          <p:spPr>
            <a:xfrm>
              <a:off x="61718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19560" y="4876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2924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3080" y="4876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5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1840" y="5333760"/>
              <a:ext cx="2057400" cy="609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790600" y="5333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790600" y="594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43240" y="51814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2880" y="54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40 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5562360"/>
              <a:ext cx="1295280" cy="152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45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5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724280" y="1600200"/>
            <a:ext cx="3584520" cy="1057320"/>
            <a:chOff x="4724280" y="1600200"/>
            <a:chExt cx="3584520" cy="1057320"/>
          </a:xfrm>
        </p:grpSpPr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290920" y="1600200"/>
                  <a:ext cx="232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SPUESTA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OLCANT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4724280" y="2260800"/>
                  <a:ext cx="35845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5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14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0</m:t>
                      </m:r>
                      <m:r>
                        <m:rPr>
                          <m:lit/>
                          <m:nor/>
                        </m:rPr>
                        <m:t xml:space="preserve">kgc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JERCICIO Nº1 FU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6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5400000">
            <a:off x="2437920" y="137124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7180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000 k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1981080"/>
            <a:ext cx="121932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05120" y="3809880"/>
            <a:ext cx="20574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24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4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3886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8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18288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23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5235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05120" y="5029200"/>
            <a:ext cx="20574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5235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257800"/>
            <a:ext cx="1295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137160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valúe si el </a:t>
            </a: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Respuesta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 mayor que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 Black"/>
              </a:rPr>
              <a:t>Momento Volcante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terminando si la F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a en equilibrio o 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80880" y="380880"/>
            <a:ext cx="8001000" cy="5524200"/>
            <a:chOff x="-380880" y="380880"/>
            <a:chExt cx="8001000" cy="5524200"/>
          </a:xfrm>
        </p:grpSpPr>
        <p:sp>
          <p:nvSpPr>
            <p:cNvPr id="44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3960" y="1215000"/>
              <a:ext cx="3983400" cy="45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42720" y="1586160"/>
              <a:ext cx="367920" cy="113832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70840" y="5637600"/>
              <a:ext cx="125136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7040" y="5268960"/>
              <a:ext cx="338688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12560" y="533484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504960" y="2286000"/>
            <a:ext cx="5374080" cy="4264200"/>
            <a:chOff x="3504960" y="2286000"/>
            <a:chExt cx="5374080" cy="4264200"/>
          </a:xfrm>
        </p:grpSpPr>
        <p:grpSp>
          <p:nvGrpSpPr>
            <p:cNvPr id="51" name=""/>
            <p:cNvGrpSpPr/>
            <p:nvPr/>
          </p:nvGrpSpPr>
          <p:grpSpPr>
            <a:xfrm>
              <a:off x="4952880" y="2700360"/>
              <a:ext cx="3926160" cy="3849840"/>
              <a:chOff x="4952880" y="2700360"/>
              <a:chExt cx="3926160" cy="3849840"/>
            </a:xfrm>
          </p:grpSpPr>
          <p:pic>
            <p:nvPicPr>
              <p:cNvPr id="52" name="fund5b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2700360"/>
                <a:ext cx="39261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095880" y="5734080"/>
                <a:ext cx="236232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19920" y="5734080"/>
                <a:ext cx="2438280" cy="816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ff"/>
                    </a:solidFill>
                    <a:latin typeface="Arial Black"/>
                  </a:rPr>
                  <a:t>Sección A - A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</a:rPr>
                  <a:t>Fundación Céntr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 flipH="1" flipV="1">
              <a:off x="3504960" y="2286000"/>
              <a:ext cx="2895480" cy="12384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57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380880" y="380880"/>
            <a:ext cx="8001000" cy="5524560"/>
            <a:chOff x="-380880" y="380880"/>
            <a:chExt cx="8001000" cy="5524560"/>
          </a:xfrm>
        </p:grpSpPr>
        <p:sp>
          <p:nvSpPr>
            <p:cNvPr id="60" name=""/>
            <p:cNvSpPr/>
            <p:nvPr/>
          </p:nvSpPr>
          <p:spPr>
            <a:xfrm>
              <a:off x="-380880" y="380880"/>
              <a:ext cx="800100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      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 Black"/>
                </a:rPr>
                <a:t>FUNDACION CORRI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400000">
              <a:off x="1466640" y="2139840"/>
              <a:ext cx="393480" cy="129564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438280" y="2629080"/>
            <a:ext cx="6553440" cy="4195440"/>
            <a:chOff x="2438280" y="2629080"/>
            <a:chExt cx="6553440" cy="4195440"/>
          </a:xfrm>
        </p:grpSpPr>
        <p:pic>
          <p:nvPicPr>
            <p:cNvPr id="67" name="fund5c" descr=""/>
            <p:cNvPicPr/>
            <p:nvPr/>
          </p:nvPicPr>
          <p:blipFill>
            <a:blip r:embed="rId2"/>
            <a:stretch/>
          </p:blipFill>
          <p:spPr>
            <a:xfrm>
              <a:off x="5105520" y="2629080"/>
              <a:ext cx="3886200" cy="36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5734080"/>
              <a:ext cx="2438280" cy="109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B - B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Ex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2438280" y="2819160"/>
              <a:ext cx="3810240" cy="68580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48520" y="228600"/>
            <a:ext cx="2666880" cy="2266200"/>
            <a:chOff x="6248520" y="228600"/>
            <a:chExt cx="2666880" cy="2266200"/>
          </a:xfrm>
        </p:grpSpPr>
        <p:pic>
          <p:nvPicPr>
            <p:cNvPr id="72" name="fund5d%20copy" descr=""/>
            <p:cNvPicPr/>
            <p:nvPr/>
          </p:nvPicPr>
          <p:blipFill>
            <a:blip r:embed="rId3"/>
            <a:srcRect l="0" t="0" r="0" b="20489"/>
            <a:stretch/>
          </p:blipFill>
          <p:spPr>
            <a:xfrm>
              <a:off x="6248520" y="228600"/>
              <a:ext cx="26668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380880" y="380880"/>
            <a:ext cx="8001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FUNDACION CORR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4680" y="1216080"/>
            <a:ext cx="5529240" cy="4689360"/>
            <a:chOff x="274680" y="1216080"/>
            <a:chExt cx="5529240" cy="4689360"/>
          </a:xfrm>
        </p:grpSpPr>
        <p:pic>
          <p:nvPicPr>
            <p:cNvPr id="76" name="fund5a" descr=""/>
            <p:cNvPicPr/>
            <p:nvPr/>
          </p:nvPicPr>
          <p:blipFill>
            <a:blip r:embed="rId1"/>
            <a:srcRect l="1718" t="0" r="5163" b="0"/>
            <a:stretch/>
          </p:blipFill>
          <p:spPr>
            <a:xfrm>
              <a:off x="274680" y="1216080"/>
              <a:ext cx="3983040" cy="45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09960" y="3822840"/>
              <a:ext cx="368280" cy="1137960"/>
            </a:xfrm>
            <a:custGeom>
              <a:avLst/>
              <a:gdLst/>
              <a:ahLst/>
              <a:rect l="l" t="t" r="r" b="b"/>
              <a:pathLst>
                <a:path w="240" h="816">
                  <a:moveTo>
                    <a:pt x="0" y="0"/>
                  </a:moveTo>
                  <a:lnTo>
                    <a:pt x="240" y="0"/>
                  </a:lnTo>
                  <a:lnTo>
                    <a:pt x="240" y="816"/>
                  </a:lnTo>
                  <a:lnTo>
                    <a:pt x="0" y="816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0120" y="5637240"/>
              <a:ext cx="125244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7040" y="5268960"/>
              <a:ext cx="3387600" cy="60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2920" y="5335560"/>
              <a:ext cx="44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Black"/>
                </a:rPr>
                <a:t>Planta Fundación Corr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504960" y="2362320"/>
            <a:ext cx="5107320" cy="4187880"/>
            <a:chOff x="3504960" y="2362320"/>
            <a:chExt cx="5107320" cy="4187880"/>
          </a:xfrm>
        </p:grpSpPr>
        <p:pic>
          <p:nvPicPr>
            <p:cNvPr id="82" name="fund5f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31258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095880" y="5734080"/>
              <a:ext cx="23623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5734080"/>
              <a:ext cx="2438280" cy="81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Arial Black"/>
                </a:rPr>
                <a:t>Sección C - C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</a:rPr>
                <a:t>Fundación Cént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504960" y="3524400"/>
              <a:ext cx="2895480" cy="742680"/>
            </a:xfrm>
            <a:prstGeom prst="line">
              <a:avLst/>
            </a:prstGeom>
            <a:ln w="5724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348240" y="76320"/>
            <a:ext cx="2719440" cy="2418480"/>
            <a:chOff x="6348240" y="76320"/>
            <a:chExt cx="2719440" cy="2418480"/>
          </a:xfrm>
        </p:grpSpPr>
        <p:pic>
          <p:nvPicPr>
            <p:cNvPr id="87" name="fund5e" descr=""/>
            <p:cNvPicPr/>
            <p:nvPr/>
          </p:nvPicPr>
          <p:blipFill>
            <a:blip r:embed="rId3"/>
            <a:srcRect l="0" t="0" r="0" b="18928"/>
            <a:stretch/>
          </p:blipFill>
          <p:spPr>
            <a:xfrm>
              <a:off x="6348240" y="76320"/>
              <a:ext cx="27194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165440" y="21574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Elevación E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5029200" y="2819160"/>
            <a:ext cx="2590920" cy="1219320"/>
            <a:chOff x="5029200" y="2819160"/>
            <a:chExt cx="2590920" cy="1219320"/>
          </a:xfrm>
        </p:grpSpPr>
        <p:sp>
          <p:nvSpPr>
            <p:cNvPr id="90" name=""/>
            <p:cNvSpPr/>
            <p:nvPr/>
          </p:nvSpPr>
          <p:spPr>
            <a:xfrm>
              <a:off x="5715000" y="2819520"/>
              <a:ext cx="121932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34290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34290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1500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934320" y="28191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800600" y="762120"/>
            <a:ext cx="2666880" cy="1371600"/>
            <a:chOff x="4800600" y="762120"/>
            <a:chExt cx="2666880" cy="1371600"/>
          </a:xfrm>
        </p:grpSpPr>
        <p:sp>
          <p:nvSpPr>
            <p:cNvPr id="96" name=""/>
            <p:cNvSpPr/>
            <p:nvPr/>
          </p:nvSpPr>
          <p:spPr>
            <a:xfrm>
              <a:off x="6019920" y="762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1447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4120" y="137196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1600560"/>
              <a:ext cx="129528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952520" y="1371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1219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952520" y="1981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1433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914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286000" y="1600200"/>
            <a:ext cx="12193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-7632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724280"/>
            <a:ext cx="6781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= Flexocompresión o Flexión Com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N = Carga Normal Total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incluido peso propio funda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= Área de contacto de la fundación con el terr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 = Momento de volcamiento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(en la base de la fundación).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W = Momento resistente de la sección de contact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143000"/>
            <a:ext cx="990720" cy="609480"/>
            <a:chOff x="1371600" y="1143000"/>
            <a:chExt cx="990720" cy="609480"/>
          </a:xfrm>
        </p:grpSpPr>
        <p:sp>
          <p:nvSpPr>
            <p:cNvPr id="111" name=""/>
            <p:cNvSpPr/>
            <p:nvPr/>
          </p:nvSpPr>
          <p:spPr>
            <a:xfrm>
              <a:off x="1371600" y="14475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1143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742840" y="685800"/>
            <a:ext cx="1067040" cy="914400"/>
            <a:chOff x="2742840" y="685800"/>
            <a:chExt cx="1067040" cy="914400"/>
          </a:xfrm>
        </p:grpSpPr>
        <p:sp>
          <p:nvSpPr>
            <p:cNvPr id="114" name=""/>
            <p:cNvSpPr/>
            <p:nvPr/>
          </p:nvSpPr>
          <p:spPr>
            <a:xfrm rot="5400000">
              <a:off x="2437920" y="990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685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71840" y="2209680"/>
            <a:ext cx="1067040" cy="1143000"/>
            <a:chOff x="6171840" y="2209680"/>
            <a:chExt cx="1067040" cy="1143000"/>
          </a:xfrm>
        </p:grpSpPr>
        <p:sp>
          <p:nvSpPr>
            <p:cNvPr id="117" name=""/>
            <p:cNvSpPr/>
            <p:nvPr/>
          </p:nvSpPr>
          <p:spPr>
            <a:xfrm rot="5400000">
              <a:off x="5790960" y="26668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 Black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638680" y="2514600"/>
            <a:ext cx="1143000" cy="1295280"/>
            <a:chOff x="5638680" y="2514600"/>
            <a:chExt cx="1143000" cy="1295280"/>
          </a:xfrm>
        </p:grpSpPr>
        <p:sp>
          <p:nvSpPr>
            <p:cNvPr id="120" name=""/>
            <p:cNvSpPr/>
            <p:nvPr/>
          </p:nvSpPr>
          <p:spPr>
            <a:xfrm>
              <a:off x="5715000" y="2743200"/>
              <a:ext cx="1066680" cy="10666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65" y="10896"/>
                  </a:moveTo>
                  <a:arcTo wR="-8036" hR="-8036" stAng="10758933" swAng="-10758933"/>
                  <a:lnTo>
                    <a:pt x="0" y="10800"/>
                  </a:lnTo>
                  <a:arcTo wR="10800" hR="10800" stAng="10800000" swAng="10758933"/>
                  <a:lnTo>
                    <a:pt x="24299" y="10639"/>
                  </a:lnTo>
                  <a:lnTo>
                    <a:pt x="20266" y="14769"/>
                  </a:lnTo>
                  <a:lnTo>
                    <a:pt x="16136" y="107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514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62720" y="3962520"/>
            <a:ext cx="2514600" cy="1320840"/>
            <a:chOff x="5562720" y="3962520"/>
            <a:chExt cx="2514600" cy="1320840"/>
          </a:xfrm>
        </p:grpSpPr>
        <p:sp>
          <p:nvSpPr>
            <p:cNvPr id="123" name=""/>
            <p:cNvSpPr/>
            <p:nvPr/>
          </p:nvSpPr>
          <p:spPr>
            <a:xfrm>
              <a:off x="5562720" y="3962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3760" y="44578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971800"/>
            <a:ext cx="990360" cy="609480"/>
            <a:chOff x="4419720" y="2971800"/>
            <a:chExt cx="990360" cy="609480"/>
          </a:xfrm>
        </p:grpSpPr>
        <p:sp>
          <p:nvSpPr>
            <p:cNvPr id="126" name=""/>
            <p:cNvSpPr/>
            <p:nvPr/>
          </p:nvSpPr>
          <p:spPr>
            <a:xfrm>
              <a:off x="4419720" y="327636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Arial Black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12408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Suponiendo una distribución uniforme de las tensiones sobre el terreno y un comportamiento totalmente elástico de éste, se establecen las siguientes condi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191120"/>
            <a:ext cx="7467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Que las tensiones  en el punto más cargado no sea sup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 la tensión admi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0880"/>
                <a:tab algn="l" pos="1241280"/>
                <a:tab algn="l" pos="5137200"/>
                <a:tab algn="l" pos="10274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l terreno no admite tr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66880" y="1447920"/>
            <a:ext cx="3124440" cy="1214640"/>
            <a:chOff x="2666880" y="1447920"/>
            <a:chExt cx="3124440" cy="1214640"/>
          </a:xfrm>
        </p:grpSpPr>
        <p:sp>
          <p:nvSpPr>
            <p:cNvPr id="132" name=""/>
            <p:cNvSpPr/>
            <p:nvPr/>
          </p:nvSpPr>
          <p:spPr>
            <a:xfrm>
              <a:off x="2666880" y="1447920"/>
              <a:ext cx="312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2081160"/>
              <a:ext cx="16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57400" y="50292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siemp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que no pase de la tensión limi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ctr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644480"/>
            <a:ext cx="7619760" cy="3080880"/>
            <a:chOff x="990720" y="1644480"/>
            <a:chExt cx="7619760" cy="3080880"/>
          </a:xfrm>
        </p:grpSpPr>
        <p:grpSp>
          <p:nvGrpSpPr>
            <p:cNvPr id="136" name=""/>
            <p:cNvGrpSpPr/>
            <p:nvPr/>
          </p:nvGrpSpPr>
          <p:grpSpPr>
            <a:xfrm>
              <a:off x="3505320" y="3320640"/>
              <a:ext cx="1828800" cy="761760"/>
              <a:chOff x="3505320" y="3320640"/>
              <a:chExt cx="1828800" cy="7617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505320" y="3320640"/>
                <a:ext cx="1828800" cy="761760"/>
                <a:chOff x="3505320" y="3320640"/>
                <a:chExt cx="1828800" cy="761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505320" y="332064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0800000">
                  <a:off x="4419720" y="3701520"/>
                  <a:ext cx="914400" cy="3808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flipH="1" flipV="1">
                <a:off x="4419360" y="3701160"/>
                <a:ext cx="522360" cy="2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971800" y="29397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3701880"/>
              <a:ext cx="182700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4311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0600" y="4097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48520" y="3854160"/>
              <a:ext cx="2361960" cy="871200"/>
              <a:chOff x="6248520" y="3854160"/>
              <a:chExt cx="2361960" cy="871200"/>
            </a:xfrm>
          </p:grpSpPr>
          <p:sp>
            <p:nvSpPr>
              <p:cNvPr id="146" name=""/>
              <p:cNvSpPr/>
              <p:nvPr/>
            </p:nvSpPr>
            <p:spPr>
              <a:xfrm rot="10800000">
                <a:off x="6248520" y="3854160"/>
                <a:ext cx="1828800" cy="45720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082760"/>
                <a:ext cx="152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0800000">
              <a:off x="6248520" y="3625200"/>
              <a:ext cx="18288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1644480"/>
              <a:ext cx="20574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7018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3549240"/>
              <a:ext cx="380880" cy="38124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91320" y="3625560"/>
              <a:ext cx="304560" cy="228600"/>
              <a:chOff x="5791320" y="3625560"/>
              <a:chExt cx="304560" cy="228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791320" y="362556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1320" y="377784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5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181480"/>
            <a:ext cx="7848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está en equilibrio, Es el caso límit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ya que se está al borde de la aparición de la tr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477120" y="3657240"/>
            <a:ext cx="1828800" cy="7621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159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505320" y="3321000"/>
            <a:ext cx="1828800" cy="761760"/>
            <a:chOff x="3505320" y="3321000"/>
            <a:chExt cx="1828800" cy="761760"/>
          </a:xfrm>
        </p:grpSpPr>
        <p:grpSp>
          <p:nvGrpSpPr>
            <p:cNvPr id="164" name=""/>
            <p:cNvGrpSpPr/>
            <p:nvPr/>
          </p:nvGrpSpPr>
          <p:grpSpPr>
            <a:xfrm>
              <a:off x="3505320" y="3321000"/>
              <a:ext cx="1828800" cy="761760"/>
              <a:chOff x="3505320" y="3321000"/>
              <a:chExt cx="1828800" cy="761760"/>
            </a:xfrm>
          </p:grpSpPr>
          <p:sp>
            <p:nvSpPr>
              <p:cNvPr id="165" name=""/>
              <p:cNvSpPr/>
              <p:nvPr/>
            </p:nvSpPr>
            <p:spPr>
              <a:xfrm>
                <a:off x="3505320" y="33210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0800000">
                <a:off x="4419720" y="37018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4419360" y="37015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971800" y="2940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7018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311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09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5496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91320" y="3625920"/>
            <a:ext cx="304560" cy="228600"/>
            <a:chOff x="5791320" y="3625920"/>
            <a:chExt cx="304560" cy="228600"/>
          </a:xfrm>
        </p:grpSpPr>
        <p:sp>
          <p:nvSpPr>
            <p:cNvPr id="174" name=""/>
            <p:cNvSpPr/>
            <p:nvPr/>
          </p:nvSpPr>
          <p:spPr>
            <a:xfrm>
              <a:off x="5791320" y="36259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37782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77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50292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La fundación no está en equilibrio, porque el terr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241280"/>
                <a:tab algn="l" pos="5137200"/>
                <a:tab algn="l" pos="10274400"/>
              </a:tabLst>
            </a:pP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no  tiene capacidad de responder ante las tracciones.</a:t>
            </a:r>
            <a:r>
              <a:rPr b="0" lang="es-ES_tradnl" sz="22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550"/>
              </a:spcBef>
              <a:buClr>
                <a:srgbClr val="333399"/>
              </a:buClr>
              <a:buSzPct val="120000"/>
              <a:buFont typeface="Times New Roman"/>
              <a:buChar char="•"/>
              <a:tabLst>
                <a:tab algn="l" pos="1241280"/>
                <a:tab algn="l" pos="5137200"/>
                <a:tab algn="l" pos="10274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352680"/>
            <a:ext cx="457200" cy="152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934320" y="3505320"/>
            <a:ext cx="1371600" cy="3808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Com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2909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T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05320" y="3200400"/>
            <a:ext cx="1828800" cy="761760"/>
            <a:chOff x="3505320" y="3200400"/>
            <a:chExt cx="1828800" cy="761760"/>
          </a:xfrm>
        </p:grpSpPr>
        <p:grpSp>
          <p:nvGrpSpPr>
            <p:cNvPr id="186" name=""/>
            <p:cNvGrpSpPr/>
            <p:nvPr/>
          </p:nvGrpSpPr>
          <p:grpSpPr>
            <a:xfrm>
              <a:off x="3505320" y="3200400"/>
              <a:ext cx="1828800" cy="761760"/>
              <a:chOff x="3505320" y="3200400"/>
              <a:chExt cx="1828800" cy="761760"/>
            </a:xfrm>
          </p:grpSpPr>
          <p:sp>
            <p:nvSpPr>
              <p:cNvPr id="187" name=""/>
              <p:cNvSpPr/>
              <p:nvPr/>
            </p:nvSpPr>
            <p:spPr>
              <a:xfrm>
                <a:off x="3505320" y="320040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4419720" y="3581280"/>
                <a:ext cx="914400" cy="38088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 flipH="1" flipV="1">
              <a:off x="4419360" y="3580920"/>
              <a:ext cx="522360" cy="21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97180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-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1827000" cy="5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191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N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976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+) M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429000"/>
            <a:ext cx="380880" cy="380880"/>
          </a:xfrm>
          <a:prstGeom prst="plus">
            <a:avLst>
              <a:gd name="adj" fmla="val 388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91320" y="3505320"/>
            <a:ext cx="304560" cy="228600"/>
            <a:chOff x="5791320" y="3505320"/>
            <a:chExt cx="304560" cy="228600"/>
          </a:xfrm>
        </p:grpSpPr>
        <p:sp>
          <p:nvSpPr>
            <p:cNvPr id="196" name=""/>
            <p:cNvSpPr/>
            <p:nvPr/>
          </p:nvSpPr>
          <p:spPr>
            <a:xfrm>
              <a:off x="5791320" y="350532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3657600"/>
              <a:ext cx="30456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8120" y="1143000"/>
            <a:ext cx="3124080" cy="1214640"/>
            <a:chOff x="3048120" y="1143000"/>
            <a:chExt cx="3124080" cy="1214640"/>
          </a:xfrm>
        </p:grpSpPr>
        <p:sp>
          <p:nvSpPr>
            <p:cNvPr id="199" name=""/>
            <p:cNvSpPr/>
            <p:nvPr/>
          </p:nvSpPr>
          <p:spPr>
            <a:xfrm>
              <a:off x="3048120" y="114300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n-US" sz="32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n-U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</a:t>
              </a: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1776240"/>
              <a:ext cx="168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32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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2:43:29Z</dcterms:created>
  <dc:creator>Loreto</dc:creator>
  <dc:description/>
  <dc:language>en-US</dc:language>
  <cp:lastModifiedBy>portatiluad</cp:lastModifiedBy>
  <dcterms:modified xsi:type="dcterms:W3CDTF">2009-10-05T12:39:10Z</dcterms:modified>
  <cp:revision>5</cp:revision>
  <dc:subject/>
  <dc:title>Presentación de PowerPoint</dc:title>
</cp:coreProperties>
</file>