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A2D5-CD91-413A-9FE0-38E74B88F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863F-B526-41F8-B365-704ECD40B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FF20-777F-42BE-90AC-3C7D65BD8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8E10-2006-457C-97CE-5896B3A26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3A97-5FA2-4DE6-820A-0EAAE381B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42B2-8502-4351-8472-5802B283D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ED55-3FDB-4278-8E18-908963C8B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EB4B-1C5E-414F-9B86-BCB3CE2D1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7F60-C76B-44DE-BC7B-EFE6FA2AC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9EE6-7A7A-42C9-9D91-557B3388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1AB3-A886-43C1-91B1-5C3CB2F5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B282-576F-4E76-B960-6CF48B85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01EA8-C628-4B17-8D1F-90C40AF0A8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14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81080" y="838080"/>
            <a:ext cx="54565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 Black"/>
              </a:rPr>
              <a:t>CURSO</a:t>
            </a:r>
            <a:br>
              <a:rPr sz="4400"/>
            </a:br>
            <a:r>
              <a:rPr b="1" lang="es-ES_tradnl" sz="4000" spc="-1" strike="noStrike">
                <a:solidFill>
                  <a:srgbClr val="333399"/>
                </a:solidFill>
                <a:latin typeface="Arial Black"/>
              </a:rPr>
              <a:t>ESTRUCTURAS III</a:t>
            </a:r>
            <a:br>
              <a:rPr sz="4400"/>
            </a:br>
            <a:br>
              <a:rPr sz="4400"/>
            </a:br>
            <a:r>
              <a:rPr b="1" lang="es-ES_tradnl" sz="3200" spc="-1" strike="noStrike">
                <a:solidFill>
                  <a:srgbClr val="3366ff"/>
                </a:solidFill>
                <a:latin typeface="Arial Black"/>
              </a:rPr>
              <a:t>UNIDAD II</a:t>
            </a:r>
            <a:br>
              <a:rPr sz="3200"/>
            </a:br>
            <a:r>
              <a:rPr b="1" lang="es-ES_tradnl" sz="3200" spc="-1" strike="noStrike">
                <a:solidFill>
                  <a:srgbClr val="3366ff"/>
                </a:solidFill>
                <a:latin typeface="Arial Black"/>
              </a:rPr>
              <a:t>SUELOS Y FUNDACIONES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09680" y="4572000"/>
            <a:ext cx="5715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"/>
              </a:rPr>
              <a:t>PROFESOR: LEOPOLDO DOMINICHET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"/>
              </a:rPr>
              <a:t>AYUDANTE: NADIA TRONCO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33520" y="152280"/>
            <a:ext cx="8280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 Black"/>
              </a:rPr>
              <a:t>EVALUACION FUND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71600" y="182880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19320" y="1523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450 k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2437920" y="137124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1066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1500 k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1981080"/>
            <a:ext cx="121932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00200" y="3809880"/>
            <a:ext cx="2590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905120" y="3809880"/>
            <a:ext cx="205740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0512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752480" y="45720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252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0" y="45720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,5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2120" y="38862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8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76520" y="18288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1523520" y="1981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1523520" y="4343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2120" y="26668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,5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905120" y="5029200"/>
            <a:ext cx="2057400" cy="609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1523520" y="5029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1523520" y="5638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7652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5181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4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0" y="5257800"/>
            <a:ext cx="129528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4110120" y="1682640"/>
                <a:ext cx="50338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UN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,4</m:t>
                    </m:r>
                    <m:r>
                      <m:t xml:space="preserve">m</m:t>
                    </m:r>
                    <m:r>
                      <m:t xml:space="preserve">∗</m:t>
                    </m:r>
                    <m:r>
                      <m:t xml:space="preserve">0,8</m:t>
                    </m:r>
                    <m:r>
                      <m:t xml:space="preserve">m</m:t>
                    </m:r>
                    <m:r>
                      <m:t xml:space="preserve">∗</m:t>
                    </m:r>
                    <m:r>
                      <m:t xml:space="preserve">2,5</m:t>
                    </m:r>
                    <m:r>
                      <m:t xml:space="preserve">m</m:t>
                    </m:r>
                    <m:r>
                      <m:t xml:space="preserve">∗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  <m:r>
                      <m:t xml:space="preserve">/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4140360" y="2954160"/>
                <a:ext cx="469872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00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0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4145040" y="2286000"/>
                <a:ext cx="195084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UN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00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4073400" y="3701880"/>
                <a:ext cx="415476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e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250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138560" y="4498920"/>
                <a:ext cx="49291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OLCANTE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0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330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0</m:t>
                    </m:r>
                    <m:r>
                      <m:rPr>
                        <m:lit/>
                        <m:nor/>
                      </m:rPr>
                      <m:t xml:space="preserve">kgc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4114800" y="5229360"/>
                <a:ext cx="46767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  <m:r>
                          <m:t xml:space="preserve">∗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6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533520" y="152280"/>
            <a:ext cx="8280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 Black"/>
              </a:rPr>
              <a:t>EVALUACION FUND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71600" y="182880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219320" y="1523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450 k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2437920" y="137124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971800" y="1066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1500 k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86000" y="1981080"/>
            <a:ext cx="121932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0200" y="3809880"/>
            <a:ext cx="2590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905120" y="3809880"/>
            <a:ext cx="205740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90512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52480" y="45720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96252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286000" y="45720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,5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2120" y="38862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8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76520" y="18288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1523520" y="1981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1523520" y="4343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2120" y="26668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,5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05120" y="5029200"/>
            <a:ext cx="2057400" cy="609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1523520" y="5029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1523520" y="5638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7652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" y="5181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4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286000" y="5257800"/>
            <a:ext cx="129528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4524480" y="1371600"/>
                <a:ext cx="142560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±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4508640" y="3159000"/>
                <a:ext cx="379728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  <m:r>
                      <m:t xml:space="preserve">/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±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  <m:r>
                      <m:t xml:space="preserve">/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4513320" y="2209680"/>
                <a:ext cx="366876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±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0</m:t>
                        </m:r>
                        <m:r>
                          <m:rPr>
                            <m:lit/>
                            <m:nor/>
                          </m:rPr>
                          <m:t xml:space="preserve">kgc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6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4545000" y="3809880"/>
                <a:ext cx="216072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  <m:r>
                      <m:t xml:space="preserve">/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4529160" y="4343400"/>
                <a:ext cx="23288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  <m:r>
                      <m:t xml:space="preserve">/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5181480" y="57913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rot="10800000">
            <a:off x="5867280" y="5790960"/>
            <a:ext cx="1981440" cy="685800"/>
          </a:xfrm>
          <a:prstGeom prst="rtTriangl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81480" y="5562720"/>
            <a:ext cx="685800" cy="228600"/>
          </a:xfrm>
          <a:prstGeom prst="rtTriangl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343400" y="5424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543800" y="5943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6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533520" y="152280"/>
            <a:ext cx="8280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 Black"/>
              </a:rPr>
              <a:t>EVALUACION FUND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371600" y="182880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219320" y="1523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450 k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rot="5400000">
            <a:off x="2437920" y="137124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971800" y="1066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1500 k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0" y="1981080"/>
            <a:ext cx="121932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600200" y="3809880"/>
            <a:ext cx="2590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905120" y="3809880"/>
            <a:ext cx="205740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90512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752480" y="45720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96252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286000" y="45720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,5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2120" y="38862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8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676520" y="18288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1523520" y="1981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1523520" y="4343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62120" y="26668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,5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905120" y="5029200"/>
            <a:ext cx="2057400" cy="609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1523520" y="5029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1523520" y="5638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7652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85800" y="5181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4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286000" y="5257800"/>
            <a:ext cx="129528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181480" y="57913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10800000">
            <a:off x="5867280" y="5790960"/>
            <a:ext cx="1981440" cy="685800"/>
          </a:xfrm>
          <a:prstGeom prst="rtTriangl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81480" y="5562720"/>
            <a:ext cx="685800" cy="228600"/>
          </a:xfrm>
          <a:prstGeom prst="rtTriangl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343400" y="5424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543800" y="5943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6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5028840" y="4876560"/>
            <a:ext cx="2971800" cy="914760"/>
            <a:chOff x="5028840" y="4876560"/>
            <a:chExt cx="2971800" cy="914760"/>
          </a:xfrm>
        </p:grpSpPr>
        <p:sp>
          <p:nvSpPr>
            <p:cNvPr id="292" name=""/>
            <p:cNvSpPr/>
            <p:nvPr/>
          </p:nvSpPr>
          <p:spPr>
            <a:xfrm flipV="1">
              <a:off x="5867280" y="48769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5181480" y="48765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7848720" y="48769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5028840" y="5257800"/>
              <a:ext cx="2971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029200" y="4876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50-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00800" y="4876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4686480" y="1357200"/>
                <a:ext cx="192852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0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4800600" y="2270160"/>
                <a:ext cx="180324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533520" y="152280"/>
            <a:ext cx="8280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 Black"/>
              </a:rPr>
              <a:t>EVALUACION FUND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371600" y="182880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19320" y="1523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450 k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rot="5400000">
            <a:off x="2437920" y="137124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971800" y="1066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1500 k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286000" y="1981080"/>
            <a:ext cx="121932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600200" y="3809880"/>
            <a:ext cx="2590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905120" y="3809880"/>
            <a:ext cx="205740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0512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52480" y="45720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6252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286000" y="45720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,5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2120" y="38862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8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676520" y="18288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1523520" y="1981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1523520" y="4343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26668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,5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905120" y="5029200"/>
            <a:ext cx="2057400" cy="609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1523520" y="5029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1523520" y="5638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67652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5800" y="5181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4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0" y="5257800"/>
            <a:ext cx="129528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181480" y="57913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rot="10800000">
            <a:off x="5867280" y="5790960"/>
            <a:ext cx="1981440" cy="685800"/>
          </a:xfrm>
          <a:prstGeom prst="rtTriangl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181480" y="5562720"/>
            <a:ext cx="685800" cy="228600"/>
          </a:xfrm>
          <a:prstGeom prst="rtTriangl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343400" y="5424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43800" y="5943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6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5028840" y="4876560"/>
            <a:ext cx="2971800" cy="914760"/>
            <a:chOff x="5028840" y="4876560"/>
            <a:chExt cx="2971800" cy="914760"/>
          </a:xfrm>
        </p:grpSpPr>
        <p:sp>
          <p:nvSpPr>
            <p:cNvPr id="329" name=""/>
            <p:cNvSpPr/>
            <p:nvPr/>
          </p:nvSpPr>
          <p:spPr>
            <a:xfrm flipV="1">
              <a:off x="5867280" y="48769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5181480" y="48765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7848720" y="48769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5028840" y="5257800"/>
              <a:ext cx="2971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4876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50-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400800" y="4876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5181480" y="914400"/>
            <a:ext cx="2590920" cy="3505320"/>
            <a:chOff x="5181480" y="914400"/>
            <a:chExt cx="2590920" cy="3505320"/>
          </a:xfrm>
        </p:grpSpPr>
        <p:sp>
          <p:nvSpPr>
            <p:cNvPr id="336" name=""/>
            <p:cNvSpPr/>
            <p:nvPr/>
          </p:nvSpPr>
          <p:spPr>
            <a:xfrm>
              <a:off x="5867280" y="1523880"/>
              <a:ext cx="1219320" cy="6098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486400" y="2133720"/>
              <a:ext cx="198108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181480" y="2133720"/>
              <a:ext cx="2590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5867280" y="15238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7086600" y="15238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477120" y="1905120"/>
              <a:ext cx="0" cy="25146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rot="5400000">
              <a:off x="5943240" y="1371600"/>
              <a:ext cx="1066680" cy="304920"/>
            </a:xfrm>
            <a:prstGeom prst="rightArrow">
              <a:avLst>
                <a:gd name="adj1" fmla="val 50000"/>
                <a:gd name="adj2" fmla="val 87456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553080" y="91440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867280" y="1447920"/>
              <a:ext cx="1067040" cy="1066680"/>
            </a:xfrm>
            <a:custGeom>
              <a:avLst/>
              <a:gdLst>
                <a:gd name="textAreaLeft" fmla="*/ 0 w 1067040"/>
                <a:gd name="textAreaRight" fmla="*/ 1067400 w 1067040"/>
                <a:gd name="textAreaTop" fmla="*/ 0 h 1066680"/>
                <a:gd name="textAreaBottom" fmla="*/ 106704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765" y="10896"/>
                  </a:moveTo>
                  <a:arcTo wR="-8036" hR="-8036" stAng="10758933" swAng="-10758933"/>
                  <a:lnTo>
                    <a:pt x="0" y="10800"/>
                  </a:lnTo>
                  <a:arcTo wR="10800" hR="10800" stAng="10800000" swAng="10758933"/>
                  <a:lnTo>
                    <a:pt x="24299" y="10639"/>
                  </a:lnTo>
                  <a:lnTo>
                    <a:pt x="20266" y="14769"/>
                  </a:lnTo>
                  <a:lnTo>
                    <a:pt x="16136" y="10736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1320" y="12193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6" name=""/>
            <p:cNvGrpSpPr/>
            <p:nvPr/>
          </p:nvGrpSpPr>
          <p:grpSpPr>
            <a:xfrm>
              <a:off x="7086600" y="2666880"/>
              <a:ext cx="609480" cy="1708920"/>
              <a:chOff x="7086600" y="2666880"/>
              <a:chExt cx="609480" cy="1708920"/>
            </a:xfrm>
          </p:grpSpPr>
          <p:sp>
            <p:nvSpPr>
              <p:cNvPr id="347" name=""/>
              <p:cNvSpPr/>
              <p:nvPr/>
            </p:nvSpPr>
            <p:spPr>
              <a:xfrm>
                <a:off x="7467480" y="2666880"/>
                <a:ext cx="0" cy="144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086600" y="403848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X/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6019920" y="2254320"/>
              <a:ext cx="1600200" cy="717480"/>
              <a:chOff x="6019920" y="2254320"/>
              <a:chExt cx="1600200" cy="717480"/>
            </a:xfrm>
          </p:grpSpPr>
          <p:sp>
            <p:nvSpPr>
              <p:cNvPr id="350" name=""/>
              <p:cNvSpPr/>
              <p:nvPr/>
            </p:nvSpPr>
            <p:spPr>
              <a:xfrm>
                <a:off x="6248520" y="228600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019920" y="2514600"/>
                <a:ext cx="1600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782040" y="2254320"/>
                <a:ext cx="30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3" name=""/>
            <p:cNvSpPr/>
            <p:nvPr/>
          </p:nvSpPr>
          <p:spPr>
            <a:xfrm rot="10800000">
              <a:off x="6248520" y="2743200"/>
              <a:ext cx="1218960" cy="457200"/>
            </a:xfrm>
            <a:prstGeom prst="rtTriangl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486400" y="2438280"/>
              <a:ext cx="762120" cy="304920"/>
            </a:xfrm>
            <a:prstGeom prst="rtTriangl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6629400" y="3048120"/>
              <a:ext cx="838080" cy="761760"/>
              <a:chOff x="6629400" y="3048120"/>
              <a:chExt cx="838080" cy="761760"/>
            </a:xfrm>
          </p:grpSpPr>
          <p:sp>
            <p:nvSpPr>
              <p:cNvPr id="356" name=""/>
              <p:cNvSpPr/>
              <p:nvPr/>
            </p:nvSpPr>
            <p:spPr>
              <a:xfrm flipV="1" rot="16200000">
                <a:off x="6780960" y="3276720"/>
                <a:ext cx="761760" cy="304200"/>
              </a:xfrm>
              <a:prstGeom prst="rightArrow">
                <a:avLst>
                  <a:gd name="adj1" fmla="val 50000"/>
                  <a:gd name="adj2" fmla="val 62604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629400" y="327672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-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6324480" y="2743200"/>
              <a:ext cx="1371600" cy="1632600"/>
              <a:chOff x="6324480" y="2743200"/>
              <a:chExt cx="1371600" cy="1632600"/>
            </a:xfrm>
          </p:grpSpPr>
          <p:grpSp>
            <p:nvGrpSpPr>
              <p:cNvPr id="359" name=""/>
              <p:cNvGrpSpPr/>
              <p:nvPr/>
            </p:nvGrpSpPr>
            <p:grpSpPr>
              <a:xfrm>
                <a:off x="6324480" y="3962520"/>
                <a:ext cx="1371600" cy="413280"/>
                <a:chOff x="6324480" y="3962520"/>
                <a:chExt cx="1371600" cy="41328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6324480" y="3962520"/>
                  <a:ext cx="1295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6705720" y="4038480"/>
                  <a:ext cx="990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2" name=""/>
              <p:cNvSpPr/>
              <p:nvPr/>
            </p:nvSpPr>
            <p:spPr>
              <a:xfrm>
                <a:off x="7162920" y="2743200"/>
                <a:ext cx="0" cy="137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533520" y="152280"/>
            <a:ext cx="8280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 Black"/>
              </a:rPr>
              <a:t>EVALUACION FUND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533520" y="4571640"/>
            <a:ext cx="4343400" cy="1600200"/>
            <a:chOff x="533520" y="4571640"/>
            <a:chExt cx="4343400" cy="1600200"/>
          </a:xfrm>
        </p:grpSpPr>
        <p:sp>
          <p:nvSpPr>
            <p:cNvPr id="365" name=""/>
            <p:cNvSpPr/>
            <p:nvPr/>
          </p:nvSpPr>
          <p:spPr>
            <a:xfrm>
              <a:off x="533520" y="511956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,0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733920" y="56386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,6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1218960" y="4571640"/>
              <a:ext cx="2971800" cy="1600200"/>
              <a:chOff x="1218960" y="4571640"/>
              <a:chExt cx="2971800" cy="1600200"/>
            </a:xfrm>
          </p:grpSpPr>
          <p:sp>
            <p:nvSpPr>
              <p:cNvPr id="368" name=""/>
              <p:cNvSpPr/>
              <p:nvPr/>
            </p:nvSpPr>
            <p:spPr>
              <a:xfrm>
                <a:off x="1371600" y="5486400"/>
                <a:ext cx="2667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rot="10800000">
                <a:off x="2057400" y="5486040"/>
                <a:ext cx="1981440" cy="685800"/>
              </a:xfrm>
              <a:prstGeom prst="rtTriangl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371600" y="5257800"/>
                <a:ext cx="685800" cy="228600"/>
              </a:xfrm>
              <a:prstGeom prst="rtTriangl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V="1">
                <a:off x="2057400" y="457200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V="1">
                <a:off x="1371600" y="457164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V="1">
                <a:off x="4038840" y="4572000"/>
                <a:ext cx="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>
                <a:off x="1218960" y="4952880"/>
                <a:ext cx="2971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219320" y="457200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250-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2590920" y="457200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7" name=""/>
          <p:cNvGrpSpPr/>
          <p:nvPr/>
        </p:nvGrpSpPr>
        <p:grpSpPr>
          <a:xfrm>
            <a:off x="5867280" y="914400"/>
            <a:ext cx="2590920" cy="3505320"/>
            <a:chOff x="5867280" y="914400"/>
            <a:chExt cx="2590920" cy="3505320"/>
          </a:xfrm>
        </p:grpSpPr>
        <p:sp>
          <p:nvSpPr>
            <p:cNvPr id="378" name=""/>
            <p:cNvSpPr/>
            <p:nvPr/>
          </p:nvSpPr>
          <p:spPr>
            <a:xfrm>
              <a:off x="6553080" y="1523880"/>
              <a:ext cx="1219320" cy="609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172200" y="2133720"/>
              <a:ext cx="198108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867280" y="2133720"/>
              <a:ext cx="2590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6553080" y="15238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7772400" y="15238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162920" y="1905120"/>
              <a:ext cx="0" cy="25146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rot="5400000">
              <a:off x="6629040" y="1371600"/>
              <a:ext cx="1066680" cy="304920"/>
            </a:xfrm>
            <a:prstGeom prst="rightArrow">
              <a:avLst>
                <a:gd name="adj1" fmla="val 50000"/>
                <a:gd name="adj2" fmla="val 87456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238880" y="91440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553080" y="1447920"/>
              <a:ext cx="1067040" cy="1066680"/>
            </a:xfrm>
            <a:custGeom>
              <a:avLst/>
              <a:gdLst>
                <a:gd name="textAreaLeft" fmla="*/ 0 w 1067040"/>
                <a:gd name="textAreaRight" fmla="*/ 1067400 w 1067040"/>
                <a:gd name="textAreaTop" fmla="*/ 0 h 1066680"/>
                <a:gd name="textAreaBottom" fmla="*/ 106704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765" y="10896"/>
                  </a:moveTo>
                  <a:arcTo wR="-8036" hR="-8036" stAng="10758933" swAng="-10758933"/>
                  <a:lnTo>
                    <a:pt x="0" y="10800"/>
                  </a:lnTo>
                  <a:arcTo wR="10800" hR="10800" stAng="10800000" swAng="10758933"/>
                  <a:lnTo>
                    <a:pt x="24299" y="10639"/>
                  </a:lnTo>
                  <a:lnTo>
                    <a:pt x="20266" y="14769"/>
                  </a:lnTo>
                  <a:lnTo>
                    <a:pt x="16136" y="10736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477120" y="12193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7772400" y="2666880"/>
              <a:ext cx="609480" cy="1708920"/>
              <a:chOff x="7772400" y="2666880"/>
              <a:chExt cx="609480" cy="1708920"/>
            </a:xfrm>
          </p:grpSpPr>
          <p:sp>
            <p:nvSpPr>
              <p:cNvPr id="389" name=""/>
              <p:cNvSpPr/>
              <p:nvPr/>
            </p:nvSpPr>
            <p:spPr>
              <a:xfrm>
                <a:off x="8153280" y="2666880"/>
                <a:ext cx="0" cy="144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772400" y="403848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X/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6705720" y="2254320"/>
              <a:ext cx="1600200" cy="717480"/>
              <a:chOff x="6705720" y="2254320"/>
              <a:chExt cx="1600200" cy="717480"/>
            </a:xfrm>
          </p:grpSpPr>
          <p:sp>
            <p:nvSpPr>
              <p:cNvPr id="392" name=""/>
              <p:cNvSpPr/>
              <p:nvPr/>
            </p:nvSpPr>
            <p:spPr>
              <a:xfrm>
                <a:off x="6934320" y="228600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705720" y="2514600"/>
                <a:ext cx="1600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467840" y="2254320"/>
                <a:ext cx="30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5" name=""/>
            <p:cNvSpPr/>
            <p:nvPr/>
          </p:nvSpPr>
          <p:spPr>
            <a:xfrm rot="10800000">
              <a:off x="6934320" y="2743200"/>
              <a:ext cx="1218960" cy="457200"/>
            </a:xfrm>
            <a:prstGeom prst="rtTriangl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172200" y="2438280"/>
              <a:ext cx="762120" cy="304920"/>
            </a:xfrm>
            <a:prstGeom prst="rtTriangl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7" name=""/>
            <p:cNvGrpSpPr/>
            <p:nvPr/>
          </p:nvGrpSpPr>
          <p:grpSpPr>
            <a:xfrm>
              <a:off x="7315200" y="3048120"/>
              <a:ext cx="838080" cy="761760"/>
              <a:chOff x="7315200" y="3048120"/>
              <a:chExt cx="838080" cy="761760"/>
            </a:xfrm>
          </p:grpSpPr>
          <p:sp>
            <p:nvSpPr>
              <p:cNvPr id="398" name=""/>
              <p:cNvSpPr/>
              <p:nvPr/>
            </p:nvSpPr>
            <p:spPr>
              <a:xfrm flipV="1" rot="16200000">
                <a:off x="7466760" y="3276720"/>
                <a:ext cx="761760" cy="304200"/>
              </a:xfrm>
              <a:prstGeom prst="rightArrow">
                <a:avLst>
                  <a:gd name="adj1" fmla="val 50000"/>
                  <a:gd name="adj2" fmla="val 62604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315200" y="327672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-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0" name=""/>
            <p:cNvGrpSpPr/>
            <p:nvPr/>
          </p:nvGrpSpPr>
          <p:grpSpPr>
            <a:xfrm>
              <a:off x="7010280" y="2743200"/>
              <a:ext cx="1371600" cy="1632600"/>
              <a:chOff x="7010280" y="2743200"/>
              <a:chExt cx="1371600" cy="1632600"/>
            </a:xfrm>
          </p:grpSpPr>
          <p:grpSp>
            <p:nvGrpSpPr>
              <p:cNvPr id="401" name=""/>
              <p:cNvGrpSpPr/>
              <p:nvPr/>
            </p:nvGrpSpPr>
            <p:grpSpPr>
              <a:xfrm>
                <a:off x="7010280" y="3962520"/>
                <a:ext cx="1371600" cy="413280"/>
                <a:chOff x="7010280" y="3962520"/>
                <a:chExt cx="1371600" cy="41328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7010280" y="3962520"/>
                  <a:ext cx="1295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7391520" y="4038480"/>
                  <a:ext cx="990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4" name=""/>
              <p:cNvSpPr/>
              <p:nvPr/>
            </p:nvSpPr>
            <p:spPr>
              <a:xfrm>
                <a:off x="7848720" y="2743200"/>
                <a:ext cx="0" cy="137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1428840" y="1131840"/>
                <a:ext cx="215892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SPUEST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N</m:t>
                    </m:r>
                    <m:r>
                      <m:t xml:space="preserve">∗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1428840" y="1660680"/>
                <a:ext cx="203364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/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/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1428840" y="2173320"/>
                <a:ext cx="276696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5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1428840" y="2651040"/>
                <a:ext cx="161424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1428840" y="3174840"/>
                <a:ext cx="375264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SPUEST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1428840" y="3718080"/>
                <a:ext cx="299700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SPUEST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5</m:t>
                    </m:r>
                    <m:r>
                      <m:rPr>
                        <m:lit/>
                        <m:nor/>
                      </m:rPr>
                      <m:t xml:space="preserve">kgcm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11" name=""/>
          <p:cNvGrpSpPr/>
          <p:nvPr/>
        </p:nvGrpSpPr>
        <p:grpSpPr>
          <a:xfrm>
            <a:off x="4952880" y="4724280"/>
            <a:ext cx="3429000" cy="1371600"/>
            <a:chOff x="4952880" y="4724280"/>
            <a:chExt cx="3429000" cy="1371600"/>
          </a:xfrm>
        </p:grpSpPr>
        <p:sp>
          <p:nvSpPr>
            <p:cNvPr id="412" name=""/>
            <p:cNvSpPr/>
            <p:nvPr/>
          </p:nvSpPr>
          <p:spPr>
            <a:xfrm>
              <a:off x="617184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019560" y="487656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22924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553080" y="487656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,50 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171840" y="5333760"/>
              <a:ext cx="2057400" cy="609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5790600" y="53337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5790600" y="59436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943240" y="51814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952880" y="548640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,40 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553080" y="5562360"/>
              <a:ext cx="1295280" cy="15264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533520" y="152280"/>
            <a:ext cx="8280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 Black"/>
              </a:rPr>
              <a:t>EVALUACION FUND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371600" y="182880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219320" y="1523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450 k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rot="5400000">
            <a:off x="2437920" y="137124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971800" y="1066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1500 k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286000" y="1981080"/>
            <a:ext cx="121932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600200" y="3809880"/>
            <a:ext cx="2590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905120" y="3809880"/>
            <a:ext cx="205740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90512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752480" y="45720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96252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286000" y="45720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,5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62120" y="38862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8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676520" y="18288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1523520" y="1981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1523520" y="4343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62120" y="26668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,5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905120" y="5029200"/>
            <a:ext cx="2057400" cy="609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1523520" y="5029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1523520" y="5638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67652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85800" y="5181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4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286000" y="5257800"/>
            <a:ext cx="129528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4724280" y="1600200"/>
            <a:ext cx="3584520" cy="1057320"/>
            <a:chOff x="4724280" y="1600200"/>
            <a:chExt cx="3584520" cy="1057320"/>
          </a:xfrm>
        </p:grpSpPr>
        <mc:AlternateContent>
          <mc:Choice xmlns:a14="http://schemas.microsoft.com/office/drawing/2010/main" Requires="a14">
            <p:sp>
              <p:nvSpPr>
                <p:cNvPr id="446" name=""/>
                <p:cNvSpPr txBox="1"/>
                <p:nvPr/>
              </p:nvSpPr>
              <p:spPr>
                <a:xfrm>
                  <a:off x="5290920" y="1600200"/>
                  <a:ext cx="2325600" cy="37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ESPUESTA</m:t>
                          </m:r>
                        </m:sub>
                      </m:sSub>
                      <m:r>
                        <m:t xml:space="preserve">&gt;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VOLCANTE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7" name=""/>
                <p:cNvSpPr txBox="1"/>
                <p:nvPr/>
              </p:nvSpPr>
              <p:spPr>
                <a:xfrm>
                  <a:off x="4724280" y="2260800"/>
                  <a:ext cx="3584520" cy="39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5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365</m:t>
                      </m:r>
                      <m:r>
                        <m:rPr>
                          <m:lit/>
                          <m:nor/>
                        </m:rPr>
                        <m:t xml:space="preserve">kgcm</m:t>
                      </m:r>
                      <m:r>
                        <m:t xml:space="preserve">&gt;</m:t>
                      </m:r>
                      <m:r>
                        <m:rPr>
                          <m:lit/>
                          <m:nor/>
                        </m:rPr>
                        <m:t xml:space="preserve">148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500</m:t>
                      </m:r>
                      <m:r>
                        <m:rPr>
                          <m:lit/>
                          <m:nor/>
                        </m:rPr>
                        <m:t xml:space="preserve">kgcm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533520" y="152280"/>
            <a:ext cx="8280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 Black"/>
              </a:rPr>
              <a:t>EJERCICIO Nº1 FUND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371600" y="182880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219320" y="1523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600 k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rot="5400000">
            <a:off x="2437920" y="137124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971800" y="1066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2000 k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86000" y="1981080"/>
            <a:ext cx="121932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600200" y="3809880"/>
            <a:ext cx="2590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905120" y="3809880"/>
            <a:ext cx="205740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90512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752480" y="45720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96252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286000" y="45720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,4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62120" y="38862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8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676520" y="18288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1523520" y="1981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1523520" y="4343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62120" y="26668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,6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05120" y="5029200"/>
            <a:ext cx="2057400" cy="609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1523520" y="5029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1523520" y="5638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67652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" y="5181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6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286000" y="5257800"/>
            <a:ext cx="129528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876920" y="1371600"/>
            <a:ext cx="38098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7800" indent="-577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41280"/>
                <a:tab algn="l" pos="5137200"/>
                <a:tab algn="l" pos="10274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Evalúe si el </a:t>
            </a:r>
            <a:r>
              <a:rPr b="1" lang="es-ES_tradnl" sz="2000" spc="-1" strike="noStrike">
                <a:solidFill>
                  <a:srgbClr val="333399"/>
                </a:solidFill>
                <a:latin typeface="Arial Black"/>
              </a:rPr>
              <a:t>Momento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41280"/>
                <a:tab algn="l" pos="5137200"/>
                <a:tab algn="l" pos="10274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 Black"/>
              </a:rPr>
              <a:t>Respuesta </a:t>
            </a: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es mayor que 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41280"/>
                <a:tab algn="l" pos="5137200"/>
                <a:tab algn="l" pos="10274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 Black"/>
              </a:rPr>
              <a:t>Momento Volcante</a:t>
            </a: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41280"/>
                <a:tab algn="l" pos="5137200"/>
                <a:tab algn="l" pos="10274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41280"/>
                <a:tab algn="l" pos="5137200"/>
                <a:tab algn="l" pos="10274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Determinando si la Fund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41280"/>
                <a:tab algn="l" pos="5137200"/>
                <a:tab algn="l" pos="10274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esta en equilibrio o 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41280"/>
                <a:tab algn="l" pos="5137200"/>
                <a:tab algn="l" pos="10274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-380880" y="380880"/>
            <a:ext cx="8001000" cy="5524200"/>
            <a:chOff x="-380880" y="380880"/>
            <a:chExt cx="8001000" cy="5524200"/>
          </a:xfrm>
        </p:grpSpPr>
        <p:sp>
          <p:nvSpPr>
            <p:cNvPr id="44" name=""/>
            <p:cNvSpPr/>
            <p:nvPr/>
          </p:nvSpPr>
          <p:spPr>
            <a:xfrm>
              <a:off x="-380880" y="380880"/>
              <a:ext cx="8001000" cy="80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333399"/>
                  </a:solidFill>
                  <a:latin typeface="Arial Black"/>
                </a:rPr>
                <a:t>      </a:t>
              </a:r>
              <a:r>
                <a:rPr b="1" lang="es-ES_tradnl" sz="3200" spc="-1" strike="noStrike">
                  <a:solidFill>
                    <a:srgbClr val="333399"/>
                  </a:solidFill>
                  <a:latin typeface="Arial Black"/>
                </a:rPr>
                <a:t>FUNDACION CORRID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" name="fund5a" descr=""/>
            <p:cNvPicPr/>
            <p:nvPr/>
          </p:nvPicPr>
          <p:blipFill>
            <a:blip r:embed="rId1"/>
            <a:srcRect l="1718" t="0" r="5163" b="0"/>
            <a:stretch/>
          </p:blipFill>
          <p:spPr>
            <a:xfrm>
              <a:off x="273960" y="1215000"/>
              <a:ext cx="3983400" cy="459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3042720" y="1586160"/>
              <a:ext cx="367920" cy="1138320"/>
            </a:xfrm>
            <a:custGeom>
              <a:avLst/>
              <a:gdLst/>
              <a:ahLst/>
              <a:rect l="l" t="t" r="r" b="b"/>
              <a:pathLst>
                <a:path w="240" h="816">
                  <a:moveTo>
                    <a:pt x="0" y="0"/>
                  </a:moveTo>
                  <a:lnTo>
                    <a:pt x="240" y="0"/>
                  </a:lnTo>
                  <a:lnTo>
                    <a:pt x="240" y="816"/>
                  </a:lnTo>
                  <a:lnTo>
                    <a:pt x="0" y="816"/>
                  </a:lnTo>
                </a:path>
              </a:pathLst>
            </a:custGeom>
            <a:noFill/>
            <a:ln w="381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70840" y="5637600"/>
              <a:ext cx="1251360" cy="26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97040" y="5268960"/>
              <a:ext cx="3386880" cy="60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312560" y="5334840"/>
              <a:ext cx="449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 Black"/>
                </a:rPr>
                <a:t>Planta Fundación Corri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504960" y="2286000"/>
            <a:ext cx="5374080" cy="4264200"/>
            <a:chOff x="3504960" y="2286000"/>
            <a:chExt cx="5374080" cy="4264200"/>
          </a:xfrm>
        </p:grpSpPr>
        <p:grpSp>
          <p:nvGrpSpPr>
            <p:cNvPr id="51" name=""/>
            <p:cNvGrpSpPr/>
            <p:nvPr/>
          </p:nvGrpSpPr>
          <p:grpSpPr>
            <a:xfrm>
              <a:off x="4952880" y="2700360"/>
              <a:ext cx="3926160" cy="3849840"/>
              <a:chOff x="4952880" y="2700360"/>
              <a:chExt cx="3926160" cy="3849840"/>
            </a:xfrm>
          </p:grpSpPr>
          <p:pic>
            <p:nvPicPr>
              <p:cNvPr id="52" name="fund5b" descr=""/>
              <p:cNvPicPr/>
              <p:nvPr/>
            </p:nvPicPr>
            <p:blipFill>
              <a:blip r:embed="rId2"/>
              <a:stretch/>
            </p:blipFill>
            <p:spPr>
              <a:xfrm>
                <a:off x="4952880" y="2700360"/>
                <a:ext cx="3926160" cy="3643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6095880" y="5734080"/>
                <a:ext cx="2362320" cy="533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019920" y="5734080"/>
                <a:ext cx="2438280" cy="8161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66ff"/>
                    </a:solidFill>
                    <a:latin typeface="Arial Black"/>
                  </a:rPr>
                  <a:t>Sección A - A’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66ff"/>
                    </a:solidFill>
                    <a:latin typeface="Arial"/>
                  </a:rPr>
                  <a:t>Fundación Céntric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 flipH="1" flipV="1">
              <a:off x="3504960" y="2286000"/>
              <a:ext cx="2895480" cy="1238400"/>
            </a:xfrm>
            <a:prstGeom prst="line">
              <a:avLst/>
            </a:prstGeom>
            <a:ln w="57240">
              <a:solidFill>
                <a:srgbClr val="33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6248520" y="228600"/>
            <a:ext cx="2666880" cy="2266200"/>
            <a:chOff x="6248520" y="228600"/>
            <a:chExt cx="2666880" cy="2266200"/>
          </a:xfrm>
        </p:grpSpPr>
        <p:pic>
          <p:nvPicPr>
            <p:cNvPr id="57" name="fund5d%20copy" descr=""/>
            <p:cNvPicPr/>
            <p:nvPr/>
          </p:nvPicPr>
          <p:blipFill>
            <a:blip r:embed="rId3"/>
            <a:srcRect l="0" t="0" r="0" b="20489"/>
            <a:stretch/>
          </p:blipFill>
          <p:spPr>
            <a:xfrm>
              <a:off x="6248520" y="228600"/>
              <a:ext cx="266688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7165440" y="2157480"/>
              <a:ext cx="1488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66ff"/>
                  </a:solidFill>
                  <a:latin typeface="Arial"/>
                </a:rPr>
                <a:t>Elevación Ej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-380880" y="380880"/>
            <a:ext cx="8001000" cy="5524560"/>
            <a:chOff x="-380880" y="380880"/>
            <a:chExt cx="8001000" cy="5524560"/>
          </a:xfrm>
        </p:grpSpPr>
        <p:sp>
          <p:nvSpPr>
            <p:cNvPr id="60" name=""/>
            <p:cNvSpPr/>
            <p:nvPr/>
          </p:nvSpPr>
          <p:spPr>
            <a:xfrm>
              <a:off x="-380880" y="380880"/>
              <a:ext cx="8001000" cy="80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333399"/>
                  </a:solidFill>
                  <a:latin typeface="Arial Black"/>
                </a:rPr>
                <a:t>      </a:t>
              </a:r>
              <a:r>
                <a:rPr b="1" lang="es-ES_tradnl" sz="3200" spc="-1" strike="noStrike">
                  <a:solidFill>
                    <a:srgbClr val="333399"/>
                  </a:solidFill>
                  <a:latin typeface="Arial Black"/>
                </a:rPr>
                <a:t>FUNDACION CORRID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" name="fund5a" descr=""/>
            <p:cNvPicPr/>
            <p:nvPr/>
          </p:nvPicPr>
          <p:blipFill>
            <a:blip r:embed="rId1"/>
            <a:srcRect l="1718" t="0" r="5163" b="0"/>
            <a:stretch/>
          </p:blipFill>
          <p:spPr>
            <a:xfrm>
              <a:off x="274680" y="1216080"/>
              <a:ext cx="3983040" cy="458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 rot="5400000">
              <a:off x="1466640" y="2139840"/>
              <a:ext cx="393480" cy="1295640"/>
            </a:xfrm>
            <a:custGeom>
              <a:avLst/>
              <a:gdLst/>
              <a:ahLst/>
              <a:rect l="l" t="t" r="r" b="b"/>
              <a:pathLst>
                <a:path w="240" h="816">
                  <a:moveTo>
                    <a:pt x="0" y="0"/>
                  </a:moveTo>
                  <a:lnTo>
                    <a:pt x="240" y="0"/>
                  </a:lnTo>
                  <a:lnTo>
                    <a:pt x="240" y="816"/>
                  </a:lnTo>
                  <a:lnTo>
                    <a:pt x="0" y="816"/>
                  </a:lnTo>
                </a:path>
              </a:pathLst>
            </a:custGeom>
            <a:noFill/>
            <a:ln w="381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70120" y="5637240"/>
              <a:ext cx="1252440" cy="268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97040" y="5268960"/>
              <a:ext cx="3387600" cy="60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312920" y="5335560"/>
              <a:ext cx="449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 Black"/>
                </a:rPr>
                <a:t>Planta Fundación Corri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2438280" y="2629080"/>
            <a:ext cx="6553440" cy="4195440"/>
            <a:chOff x="2438280" y="2629080"/>
            <a:chExt cx="6553440" cy="4195440"/>
          </a:xfrm>
        </p:grpSpPr>
        <p:pic>
          <p:nvPicPr>
            <p:cNvPr id="67" name="fund5c" descr=""/>
            <p:cNvPicPr/>
            <p:nvPr/>
          </p:nvPicPr>
          <p:blipFill>
            <a:blip r:embed="rId2"/>
            <a:stretch/>
          </p:blipFill>
          <p:spPr>
            <a:xfrm>
              <a:off x="5105520" y="2629080"/>
              <a:ext cx="3886200" cy="36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095880" y="5734080"/>
              <a:ext cx="236232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19920" y="5734080"/>
              <a:ext cx="2438280" cy="10904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ff"/>
                  </a:solidFill>
                  <a:latin typeface="Arial Black"/>
                </a:rPr>
                <a:t>Sección B - B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ff"/>
                  </a:solidFill>
                  <a:latin typeface="Arial"/>
                </a:rPr>
                <a:t>Fundación Excént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flipV="1">
              <a:off x="2438280" y="2819160"/>
              <a:ext cx="3810240" cy="685800"/>
            </a:xfrm>
            <a:prstGeom prst="line">
              <a:avLst/>
            </a:prstGeom>
            <a:ln w="57240">
              <a:solidFill>
                <a:srgbClr val="33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6248520" y="228600"/>
            <a:ext cx="2666880" cy="2266200"/>
            <a:chOff x="6248520" y="228600"/>
            <a:chExt cx="2666880" cy="2266200"/>
          </a:xfrm>
        </p:grpSpPr>
        <p:pic>
          <p:nvPicPr>
            <p:cNvPr id="72" name="fund5d%20copy" descr=""/>
            <p:cNvPicPr/>
            <p:nvPr/>
          </p:nvPicPr>
          <p:blipFill>
            <a:blip r:embed="rId3"/>
            <a:srcRect l="0" t="0" r="0" b="20489"/>
            <a:stretch/>
          </p:blipFill>
          <p:spPr>
            <a:xfrm>
              <a:off x="6248520" y="228600"/>
              <a:ext cx="266688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7165440" y="2157480"/>
              <a:ext cx="1488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66ff"/>
                  </a:solidFill>
                  <a:latin typeface="Arial"/>
                </a:rPr>
                <a:t>Elevación Ej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-380880" y="380880"/>
            <a:ext cx="800100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1" lang="es-ES_tradnl" sz="3200" spc="-1" strike="noStrike">
                <a:solidFill>
                  <a:srgbClr val="333399"/>
                </a:solidFill>
                <a:latin typeface="Arial Black"/>
              </a:rPr>
              <a:t>FUNDACION CORR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274680" y="1216080"/>
            <a:ext cx="5529240" cy="4689360"/>
            <a:chOff x="274680" y="1216080"/>
            <a:chExt cx="5529240" cy="4689360"/>
          </a:xfrm>
        </p:grpSpPr>
        <p:pic>
          <p:nvPicPr>
            <p:cNvPr id="76" name="fund5a" descr=""/>
            <p:cNvPicPr/>
            <p:nvPr/>
          </p:nvPicPr>
          <p:blipFill>
            <a:blip r:embed="rId1"/>
            <a:srcRect l="1718" t="0" r="5163" b="0"/>
            <a:stretch/>
          </p:blipFill>
          <p:spPr>
            <a:xfrm>
              <a:off x="274680" y="1216080"/>
              <a:ext cx="3983040" cy="458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3009960" y="3822840"/>
              <a:ext cx="368280" cy="1137960"/>
            </a:xfrm>
            <a:custGeom>
              <a:avLst/>
              <a:gdLst/>
              <a:ahLst/>
              <a:rect l="l" t="t" r="r" b="b"/>
              <a:pathLst>
                <a:path w="240" h="816">
                  <a:moveTo>
                    <a:pt x="0" y="0"/>
                  </a:moveTo>
                  <a:lnTo>
                    <a:pt x="240" y="0"/>
                  </a:lnTo>
                  <a:lnTo>
                    <a:pt x="240" y="816"/>
                  </a:lnTo>
                  <a:lnTo>
                    <a:pt x="0" y="816"/>
                  </a:lnTo>
                </a:path>
              </a:pathLst>
            </a:custGeom>
            <a:noFill/>
            <a:ln w="381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70120" y="5637240"/>
              <a:ext cx="1252440" cy="268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97040" y="5268960"/>
              <a:ext cx="3387600" cy="60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312920" y="5335560"/>
              <a:ext cx="449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 Black"/>
                </a:rPr>
                <a:t>Planta Fundación Corri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3504960" y="2362320"/>
            <a:ext cx="5107320" cy="4187880"/>
            <a:chOff x="3504960" y="2362320"/>
            <a:chExt cx="5107320" cy="4187880"/>
          </a:xfrm>
        </p:grpSpPr>
        <p:pic>
          <p:nvPicPr>
            <p:cNvPr id="82" name="fund5f" descr=""/>
            <p:cNvPicPr/>
            <p:nvPr/>
          </p:nvPicPr>
          <p:blipFill>
            <a:blip r:embed="rId2"/>
            <a:stretch/>
          </p:blipFill>
          <p:spPr>
            <a:xfrm>
              <a:off x="5486400" y="2362320"/>
              <a:ext cx="3125880" cy="38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6095880" y="5734080"/>
              <a:ext cx="236232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19920" y="5734080"/>
              <a:ext cx="2438280" cy="8161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ff"/>
                  </a:solidFill>
                  <a:latin typeface="Arial Black"/>
                </a:rPr>
                <a:t>Sección C - C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ff"/>
                  </a:solidFill>
                  <a:latin typeface="Arial"/>
                </a:rPr>
                <a:t>Fundación Cént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3504960" y="3524400"/>
              <a:ext cx="2895480" cy="742680"/>
            </a:xfrm>
            <a:prstGeom prst="line">
              <a:avLst/>
            </a:prstGeom>
            <a:ln w="57240">
              <a:solidFill>
                <a:srgbClr val="33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6348240" y="76320"/>
            <a:ext cx="2719440" cy="2418480"/>
            <a:chOff x="6348240" y="76320"/>
            <a:chExt cx="2719440" cy="2418480"/>
          </a:xfrm>
        </p:grpSpPr>
        <p:pic>
          <p:nvPicPr>
            <p:cNvPr id="87" name="fund5e" descr=""/>
            <p:cNvPicPr/>
            <p:nvPr/>
          </p:nvPicPr>
          <p:blipFill>
            <a:blip r:embed="rId3"/>
            <a:srcRect l="0" t="0" r="0" b="18928"/>
            <a:stretch/>
          </p:blipFill>
          <p:spPr>
            <a:xfrm>
              <a:off x="6348240" y="76320"/>
              <a:ext cx="271944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7165440" y="2157480"/>
              <a:ext cx="1488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66ff"/>
                  </a:solidFill>
                  <a:latin typeface="Arial"/>
                </a:rPr>
                <a:t>Elevación Ej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5029200" y="2819160"/>
            <a:ext cx="2590920" cy="1219320"/>
            <a:chOff x="5029200" y="2819160"/>
            <a:chExt cx="2590920" cy="1219320"/>
          </a:xfrm>
        </p:grpSpPr>
        <p:sp>
          <p:nvSpPr>
            <p:cNvPr id="90" name=""/>
            <p:cNvSpPr/>
            <p:nvPr/>
          </p:nvSpPr>
          <p:spPr>
            <a:xfrm>
              <a:off x="5715000" y="2819520"/>
              <a:ext cx="1219320" cy="6094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334120" y="3429000"/>
              <a:ext cx="198108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029200" y="3429000"/>
              <a:ext cx="2590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715000" y="28191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6934320" y="28191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4800600" y="762120"/>
            <a:ext cx="2666880" cy="1371600"/>
            <a:chOff x="4800600" y="762120"/>
            <a:chExt cx="2666880" cy="1371600"/>
          </a:xfrm>
        </p:grpSpPr>
        <p:sp>
          <p:nvSpPr>
            <p:cNvPr id="96" name=""/>
            <p:cNvSpPr/>
            <p:nvPr/>
          </p:nvSpPr>
          <p:spPr>
            <a:xfrm>
              <a:off x="6019920" y="7621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00600" y="14479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334120" y="1371960"/>
              <a:ext cx="198108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715000" y="1600560"/>
              <a:ext cx="129528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4952520" y="1371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105520" y="12193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4952520" y="1981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334120" y="91476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181480" y="114336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15200" y="91476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2286000" y="1600200"/>
            <a:ext cx="1219320" cy="1828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3429000"/>
            <a:ext cx="2590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-76320"/>
            <a:ext cx="8280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1" lang="es-ES_tradnl" sz="3200" spc="-1" strike="noStrike">
                <a:solidFill>
                  <a:srgbClr val="333399"/>
                </a:solidFill>
                <a:latin typeface="Arial Black"/>
              </a:rPr>
              <a:t>EVALUACION FUND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4724280"/>
            <a:ext cx="67816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485280" indent="-485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41280"/>
                <a:tab algn="l" pos="5137200"/>
                <a:tab algn="l" pos="10274400"/>
              </a:tabLst>
            </a:pPr>
            <a:r>
              <a:rPr b="1" lang="es-ES" sz="36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t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= Flexocompresión o Flexión Compue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5280" indent="-485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41280"/>
                <a:tab algn="l" pos="5137200"/>
                <a:tab algn="l" pos="10274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N = Carga Normal Total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(incluido peso propio fundación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5280" indent="-485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41280"/>
                <a:tab algn="l" pos="5137200"/>
                <a:tab algn="l" pos="10274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A = Área de contacto de la fundación con el terren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5280" indent="-485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41280"/>
                <a:tab algn="l" pos="5137200"/>
                <a:tab algn="l" pos="10274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M = Momento de volcamiento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(en la base de la fundación).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5280" indent="-485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41280"/>
                <a:tab algn="l" pos="5137200"/>
                <a:tab algn="l" pos="10274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W = Momento resistente de la sección de contacto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5280" indent="-485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41280"/>
                <a:tab algn="l" pos="5137200"/>
                <a:tab algn="l" pos="10274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371600" y="1143000"/>
            <a:ext cx="990720" cy="609480"/>
            <a:chOff x="1371600" y="1143000"/>
            <a:chExt cx="990720" cy="609480"/>
          </a:xfrm>
        </p:grpSpPr>
        <p:sp>
          <p:nvSpPr>
            <p:cNvPr id="111" name=""/>
            <p:cNvSpPr/>
            <p:nvPr/>
          </p:nvSpPr>
          <p:spPr>
            <a:xfrm>
              <a:off x="1371600" y="1447560"/>
              <a:ext cx="914400" cy="304920"/>
            </a:xfrm>
            <a:prstGeom prst="rightArrow">
              <a:avLst>
                <a:gd name="adj1" fmla="val 50000"/>
                <a:gd name="adj2" fmla="val 7497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23880" y="114300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00"/>
                  </a:solidFill>
                  <a:latin typeface="Arial Black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2742840" y="685800"/>
            <a:ext cx="1067040" cy="914400"/>
            <a:chOff x="2742840" y="685800"/>
            <a:chExt cx="1067040" cy="914400"/>
          </a:xfrm>
        </p:grpSpPr>
        <p:sp>
          <p:nvSpPr>
            <p:cNvPr id="114" name=""/>
            <p:cNvSpPr/>
            <p:nvPr/>
          </p:nvSpPr>
          <p:spPr>
            <a:xfrm rot="5400000">
              <a:off x="2437920" y="990360"/>
              <a:ext cx="914400" cy="304920"/>
            </a:xfrm>
            <a:prstGeom prst="rightArrow">
              <a:avLst>
                <a:gd name="adj1" fmla="val 50000"/>
                <a:gd name="adj2" fmla="val 7497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971800" y="6858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 Black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6171840" y="2209680"/>
            <a:ext cx="1067040" cy="1143000"/>
            <a:chOff x="6171840" y="2209680"/>
            <a:chExt cx="1067040" cy="1143000"/>
          </a:xfrm>
        </p:grpSpPr>
        <p:sp>
          <p:nvSpPr>
            <p:cNvPr id="117" name=""/>
            <p:cNvSpPr/>
            <p:nvPr/>
          </p:nvSpPr>
          <p:spPr>
            <a:xfrm rot="5400000">
              <a:off x="5790960" y="2666880"/>
              <a:ext cx="1066680" cy="304920"/>
            </a:xfrm>
            <a:prstGeom prst="rightArrow">
              <a:avLst>
                <a:gd name="adj1" fmla="val 50000"/>
                <a:gd name="adj2" fmla="val 87456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400800" y="22096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 Black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5638680" y="2514600"/>
            <a:ext cx="1143000" cy="1295280"/>
            <a:chOff x="5638680" y="2514600"/>
            <a:chExt cx="1143000" cy="1295280"/>
          </a:xfrm>
        </p:grpSpPr>
        <p:sp>
          <p:nvSpPr>
            <p:cNvPr id="120" name=""/>
            <p:cNvSpPr/>
            <p:nvPr/>
          </p:nvSpPr>
          <p:spPr>
            <a:xfrm>
              <a:off x="5715000" y="2743200"/>
              <a:ext cx="1066680" cy="106668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1066680"/>
                <a:gd name="textAreaBottom" fmla="*/ 106704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765" y="10896"/>
                  </a:moveTo>
                  <a:arcTo wR="-8036" hR="-8036" stAng="10758933" swAng="-10758933"/>
                  <a:lnTo>
                    <a:pt x="0" y="10800"/>
                  </a:lnTo>
                  <a:arcTo wR="10800" hR="10800" stAng="10800000" swAng="10758933"/>
                  <a:lnTo>
                    <a:pt x="24299" y="10639"/>
                  </a:lnTo>
                  <a:lnTo>
                    <a:pt x="20266" y="14769"/>
                  </a:lnTo>
                  <a:lnTo>
                    <a:pt x="16136" y="10736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638680" y="251460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 Black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5562720" y="3962520"/>
            <a:ext cx="2514600" cy="1320840"/>
            <a:chOff x="5562720" y="3962520"/>
            <a:chExt cx="2514600" cy="1320840"/>
          </a:xfrm>
        </p:grpSpPr>
        <p:sp>
          <p:nvSpPr>
            <p:cNvPr id="123" name=""/>
            <p:cNvSpPr/>
            <p:nvPr/>
          </p:nvSpPr>
          <p:spPr>
            <a:xfrm>
              <a:off x="5562720" y="3962520"/>
              <a:ext cx="2514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66ff"/>
                  </a:solidFill>
                  <a:latin typeface="Symbol"/>
                  <a:ea typeface="Symbol"/>
                </a:rPr>
                <a:t></a:t>
              </a:r>
              <a:r>
                <a:rPr b="1" lang="en-US" sz="2400" spc="-1" strike="noStrike">
                  <a:solidFill>
                    <a:srgbClr val="3366ff"/>
                  </a:solidFill>
                  <a:latin typeface="Arial"/>
                </a:rPr>
                <a:t>t =  </a:t>
              </a:r>
              <a:r>
                <a:rPr b="1" lang="en-US" sz="2400" spc="-1" strike="noStrike" u="sng">
                  <a:solidFill>
                    <a:srgbClr val="3366ff"/>
                  </a:solidFill>
                  <a:uFillTx/>
                  <a:latin typeface="Arial"/>
                </a:rPr>
                <a:t>N </a:t>
              </a:r>
              <a:r>
                <a:rPr b="1" lang="en-US" sz="2400" spc="-1" strike="noStrike">
                  <a:solidFill>
                    <a:srgbClr val="3366ff"/>
                  </a:solidFill>
                  <a:latin typeface="CommercialPi BT"/>
                  <a:ea typeface="CommercialPi BT"/>
                </a:rPr>
                <a:t></a:t>
              </a:r>
              <a:r>
                <a:rPr b="1" lang="en-US" sz="2400" spc="-1" strike="noStrike" u="sng">
                  <a:solidFill>
                    <a:srgbClr val="ff0000"/>
                  </a:solidFill>
                  <a:uFillTx/>
                  <a:latin typeface="Aria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413760" y="4457880"/>
              <a:ext cx="1143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66ff"/>
                  </a:solidFill>
                  <a:latin typeface="Arial"/>
                </a:rPr>
                <a:t>A  </a:t>
              </a:r>
              <a:r>
                <a:rPr b="1" lang="es-ES" sz="2400" spc="-1" strike="noStrike">
                  <a:solidFill>
                    <a:srgbClr val="3366ff"/>
                  </a:solidFill>
                  <a:latin typeface="CommercialPi BT"/>
                  <a:ea typeface="CommercialPi BT"/>
                </a:rPr>
                <a:t></a:t>
              </a:r>
              <a:r>
                <a:rPr b="1" lang="es-ES" sz="2400" spc="-1" strike="noStrike">
                  <a:solidFill>
                    <a:srgbClr val="ff0000"/>
                  </a:solidFill>
                  <a:latin typeface="Arial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419720" y="2971800"/>
            <a:ext cx="990360" cy="609480"/>
            <a:chOff x="4419720" y="2971800"/>
            <a:chExt cx="990360" cy="609480"/>
          </a:xfrm>
        </p:grpSpPr>
        <p:sp>
          <p:nvSpPr>
            <p:cNvPr id="126" name=""/>
            <p:cNvSpPr/>
            <p:nvPr/>
          </p:nvSpPr>
          <p:spPr>
            <a:xfrm>
              <a:off x="4419720" y="3276360"/>
              <a:ext cx="914400" cy="304920"/>
            </a:xfrm>
            <a:prstGeom prst="rightArrow">
              <a:avLst>
                <a:gd name="adj1" fmla="val 50000"/>
                <a:gd name="adj2" fmla="val 7497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72000" y="29718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00"/>
                  </a:solidFill>
                  <a:latin typeface="Arial Black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533520" y="152280"/>
            <a:ext cx="8280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 Black"/>
              </a:rPr>
              <a:t>EVALUACION FUND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43000" y="3124080"/>
            <a:ext cx="7467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80880"/>
                <a:tab algn="l" pos="1241280"/>
                <a:tab algn="l" pos="5137200"/>
                <a:tab algn="l" pos="10274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Suponiendo una distribución uniforme de las tensiones sobre el terreno y un comportamiento totalmente elástico de éste, se establecen las siguientes condicion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43000" y="4191120"/>
            <a:ext cx="746748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Arial"/>
              <a:buChar char="•"/>
              <a:tabLst>
                <a:tab algn="l" pos="380880"/>
                <a:tab algn="l" pos="1241280"/>
                <a:tab algn="l" pos="5137200"/>
                <a:tab algn="l" pos="10274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Que las tensiones  en el punto más cargado no sea superi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80880"/>
                <a:tab algn="l" pos="1241280"/>
                <a:tab algn="l" pos="5137200"/>
                <a:tab algn="l" pos="10274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a la tensión admisi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Arial"/>
              <a:buChar char="•"/>
              <a:tabLst>
                <a:tab algn="l" pos="380880"/>
                <a:tab algn="l" pos="1241280"/>
                <a:tab algn="l" pos="5137200"/>
                <a:tab algn="l" pos="10274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El terreno no admite tr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666880" y="1447920"/>
            <a:ext cx="3124440" cy="1214640"/>
            <a:chOff x="2666880" y="1447920"/>
            <a:chExt cx="3124440" cy="1214640"/>
          </a:xfrm>
        </p:grpSpPr>
        <p:sp>
          <p:nvSpPr>
            <p:cNvPr id="132" name=""/>
            <p:cNvSpPr/>
            <p:nvPr/>
          </p:nvSpPr>
          <p:spPr>
            <a:xfrm>
              <a:off x="2666880" y="1447920"/>
              <a:ext cx="3124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66ff"/>
                  </a:solidFill>
                  <a:latin typeface="Symbol"/>
                  <a:ea typeface="Symbol"/>
                </a:rPr>
                <a:t></a:t>
              </a:r>
              <a:r>
                <a:rPr b="1" lang="en-US" sz="3200" spc="-1" strike="noStrike">
                  <a:solidFill>
                    <a:srgbClr val="3366ff"/>
                  </a:solidFill>
                  <a:latin typeface="Arial"/>
                </a:rPr>
                <a:t>t =  </a:t>
              </a:r>
              <a:r>
                <a:rPr b="1" lang="en-US" sz="3200" spc="-1" strike="noStrike" u="sng">
                  <a:solidFill>
                    <a:srgbClr val="3366ff"/>
                  </a:solidFill>
                  <a:uFillTx/>
                  <a:latin typeface="Arial"/>
                </a:rPr>
                <a:t>N </a:t>
              </a:r>
              <a:r>
                <a:rPr b="1" lang="en-US" sz="3200" spc="-1" strike="noStrike">
                  <a:solidFill>
                    <a:srgbClr val="3366ff"/>
                  </a:solidFill>
                  <a:latin typeface="CommercialPi BT"/>
                  <a:ea typeface="CommercialPi BT"/>
                </a:rPr>
                <a:t></a:t>
              </a:r>
              <a:r>
                <a:rPr b="1" lang="en-US" sz="3200" spc="-1" strike="noStrike" u="sng">
                  <a:solidFill>
                    <a:srgbClr val="ff0000"/>
                  </a:solidFill>
                  <a:uFillTx/>
                  <a:latin typeface="Arial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57600" y="2081160"/>
              <a:ext cx="168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3366ff"/>
                  </a:solidFill>
                  <a:latin typeface="Arial"/>
                </a:rPr>
                <a:t>A  </a:t>
              </a:r>
              <a:r>
                <a:rPr b="1" lang="es-ES" sz="3200" spc="-1" strike="noStrike">
                  <a:solidFill>
                    <a:srgbClr val="3366ff"/>
                  </a:solidFill>
                  <a:latin typeface="CommercialPi BT"/>
                  <a:ea typeface="CommercialPi BT"/>
                </a:rPr>
                <a:t></a:t>
              </a:r>
              <a:r>
                <a:rPr b="1" lang="es-ES" sz="3200" spc="-1" strike="noStrike">
                  <a:solidFill>
                    <a:srgbClr val="ff0000"/>
                  </a:solidFill>
                  <a:latin typeface="Arial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057400" y="5029200"/>
            <a:ext cx="5943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7800" indent="-5778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241280"/>
                <a:tab algn="l" pos="5137200"/>
                <a:tab algn="l" pos="10274400"/>
              </a:tabLst>
            </a:pPr>
            <a:r>
              <a:rPr b="1" lang="es-ES_tradnl" sz="2200" spc="-1" strike="noStrike">
                <a:solidFill>
                  <a:srgbClr val="333399"/>
                </a:solidFill>
                <a:latin typeface="Arial"/>
              </a:rPr>
              <a:t>La fundación está en equilibrio, siemp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241280"/>
                <a:tab algn="l" pos="5137200"/>
                <a:tab algn="l" pos="10274400"/>
              </a:tabLst>
            </a:pPr>
            <a:r>
              <a:rPr b="1" lang="es-ES_tradnl" sz="2200" spc="-1" strike="noStrike">
                <a:solidFill>
                  <a:srgbClr val="333399"/>
                </a:solidFill>
                <a:latin typeface="Arial"/>
              </a:rPr>
              <a:t>que no pase de la tensión limit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 algn="ctr">
              <a:lnSpc>
                <a:spcPct val="100000"/>
              </a:lnSpc>
              <a:spcBef>
                <a:spcPts val="550"/>
              </a:spcBef>
              <a:buClr>
                <a:srgbClr val="333399"/>
              </a:buClr>
              <a:buSzPct val="120000"/>
              <a:buFont typeface="Arial"/>
              <a:buChar char="•"/>
              <a:tabLst>
                <a:tab algn="l" pos="1241280"/>
                <a:tab algn="l" pos="5137200"/>
                <a:tab algn="l" pos="10274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990720" y="1644480"/>
            <a:ext cx="7619760" cy="3080880"/>
            <a:chOff x="990720" y="1644480"/>
            <a:chExt cx="7619760" cy="3080880"/>
          </a:xfrm>
        </p:grpSpPr>
        <p:grpSp>
          <p:nvGrpSpPr>
            <p:cNvPr id="136" name=""/>
            <p:cNvGrpSpPr/>
            <p:nvPr/>
          </p:nvGrpSpPr>
          <p:grpSpPr>
            <a:xfrm>
              <a:off x="3505320" y="3320640"/>
              <a:ext cx="1828800" cy="761760"/>
              <a:chOff x="3505320" y="3320640"/>
              <a:chExt cx="1828800" cy="761760"/>
            </a:xfrm>
          </p:grpSpPr>
          <p:grpSp>
            <p:nvGrpSpPr>
              <p:cNvPr id="137" name=""/>
              <p:cNvGrpSpPr/>
              <p:nvPr/>
            </p:nvGrpSpPr>
            <p:grpSpPr>
              <a:xfrm>
                <a:off x="3505320" y="3320640"/>
                <a:ext cx="1828800" cy="761760"/>
                <a:chOff x="3505320" y="3320640"/>
                <a:chExt cx="1828800" cy="76176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3505320" y="3320640"/>
                  <a:ext cx="914400" cy="380880"/>
                </a:xfrm>
                <a:prstGeom prst="rtTriangl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rot="10800000">
                  <a:off x="4419720" y="3701520"/>
                  <a:ext cx="914400" cy="380880"/>
                </a:xfrm>
                <a:prstGeom prst="rtTriangl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0" name=""/>
              <p:cNvSpPr/>
              <p:nvPr/>
            </p:nvSpPr>
            <p:spPr>
              <a:xfrm flipH="1" flipV="1">
                <a:off x="4419360" y="3701160"/>
                <a:ext cx="522360" cy="21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2971800" y="293976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(-) M/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990720" y="3701880"/>
              <a:ext cx="1827000" cy="547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447920" y="431136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(+) N/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00600" y="409716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(+) M/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6248520" y="3854160"/>
              <a:ext cx="2361960" cy="871200"/>
              <a:chOff x="6248520" y="3854160"/>
              <a:chExt cx="2361960" cy="871200"/>
            </a:xfrm>
          </p:grpSpPr>
          <p:sp>
            <p:nvSpPr>
              <p:cNvPr id="146" name=""/>
              <p:cNvSpPr/>
              <p:nvPr/>
            </p:nvSpPr>
            <p:spPr>
              <a:xfrm rot="10800000">
                <a:off x="6248520" y="3854160"/>
                <a:ext cx="1828800" cy="457200"/>
              </a:xfrm>
              <a:prstGeom prst="rtTriangl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86600" y="4082760"/>
                <a:ext cx="1523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(+) Compresió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 rot="10800000">
              <a:off x="6248520" y="3625200"/>
              <a:ext cx="1828800" cy="228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95880" y="1644480"/>
              <a:ext cx="2057400" cy="205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48520" y="3701880"/>
              <a:ext cx="1828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048120" y="3549240"/>
              <a:ext cx="380880" cy="381240"/>
            </a:xfrm>
            <a:prstGeom prst="plus">
              <a:avLst>
                <a:gd name="adj" fmla="val 38889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5791320" y="3625560"/>
              <a:ext cx="304560" cy="228600"/>
              <a:chOff x="5791320" y="3625560"/>
              <a:chExt cx="304560" cy="228600"/>
            </a:xfrm>
          </p:grpSpPr>
          <p:sp>
            <p:nvSpPr>
              <p:cNvPr id="153" name=""/>
              <p:cNvSpPr/>
              <p:nvPr/>
            </p:nvSpPr>
            <p:spPr>
              <a:xfrm>
                <a:off x="5791320" y="3625560"/>
                <a:ext cx="30456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791320" y="3777840"/>
                <a:ext cx="30456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5" name=""/>
          <p:cNvSpPr/>
          <p:nvPr/>
        </p:nvSpPr>
        <p:spPr>
          <a:xfrm>
            <a:off x="533520" y="152280"/>
            <a:ext cx="8280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 Black"/>
              </a:rPr>
              <a:t>EVALUACION FUND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048120" y="1143000"/>
            <a:ext cx="3124080" cy="1214640"/>
            <a:chOff x="3048120" y="1143000"/>
            <a:chExt cx="3124080" cy="1214640"/>
          </a:xfrm>
        </p:grpSpPr>
        <p:sp>
          <p:nvSpPr>
            <p:cNvPr id="157" name=""/>
            <p:cNvSpPr/>
            <p:nvPr/>
          </p:nvSpPr>
          <p:spPr>
            <a:xfrm>
              <a:off x="3048120" y="1143000"/>
              <a:ext cx="3124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66ff"/>
                  </a:solidFill>
                  <a:latin typeface="Symbol"/>
                  <a:ea typeface="Symbol"/>
                </a:rPr>
                <a:t></a:t>
              </a:r>
              <a:r>
                <a:rPr b="1" lang="en-US" sz="3200" spc="-1" strike="noStrike">
                  <a:solidFill>
                    <a:srgbClr val="3366ff"/>
                  </a:solidFill>
                  <a:latin typeface="Arial"/>
                </a:rPr>
                <a:t>t =  </a:t>
              </a:r>
              <a:r>
                <a:rPr b="1" lang="en-US" sz="3200" spc="-1" strike="noStrike" u="sng">
                  <a:solidFill>
                    <a:srgbClr val="3366ff"/>
                  </a:solidFill>
                  <a:uFillTx/>
                  <a:latin typeface="Arial"/>
                </a:rPr>
                <a:t>N </a:t>
              </a:r>
              <a:r>
                <a:rPr b="1" lang="en-US" sz="3200" spc="-1" strike="noStrike">
                  <a:solidFill>
                    <a:srgbClr val="3366ff"/>
                  </a:solidFill>
                  <a:latin typeface="CommercialPi BT"/>
                  <a:ea typeface="CommercialPi BT"/>
                </a:rPr>
                <a:t></a:t>
              </a:r>
              <a:r>
                <a:rPr b="1" lang="en-US" sz="3200" spc="-1" strike="noStrike" u="sng">
                  <a:solidFill>
                    <a:srgbClr val="ff0000"/>
                  </a:solidFill>
                  <a:uFillTx/>
                  <a:latin typeface="Arial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038480" y="1776240"/>
              <a:ext cx="1685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3366ff"/>
                  </a:solidFill>
                  <a:latin typeface="Arial"/>
                </a:rPr>
                <a:t>A  </a:t>
              </a:r>
              <a:r>
                <a:rPr b="1" lang="es-ES" sz="3200" spc="-1" strike="noStrike">
                  <a:solidFill>
                    <a:srgbClr val="3366ff"/>
                  </a:solidFill>
                  <a:latin typeface="CommercialPi BT"/>
                  <a:ea typeface="CommercialPi BT"/>
                </a:rPr>
                <a:t></a:t>
              </a:r>
              <a:r>
                <a:rPr b="1" lang="es-ES" sz="3200" spc="-1" strike="noStrike">
                  <a:solidFill>
                    <a:srgbClr val="ff0000"/>
                  </a:solidFill>
                  <a:latin typeface="Arial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33520" y="152280"/>
            <a:ext cx="8280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 Black"/>
              </a:rPr>
              <a:t>EVALUACION FUND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90720" y="5181480"/>
            <a:ext cx="78483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7800" indent="-5778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241280"/>
                <a:tab algn="l" pos="5137200"/>
                <a:tab algn="l" pos="10274400"/>
              </a:tabLst>
            </a:pPr>
            <a:r>
              <a:rPr b="1" lang="es-ES_tradnl" sz="2200" spc="-1" strike="noStrike">
                <a:solidFill>
                  <a:srgbClr val="333399"/>
                </a:solidFill>
                <a:latin typeface="Arial"/>
              </a:rPr>
              <a:t>La fundación está en equilibrio, Es el caso límite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241280"/>
                <a:tab algn="l" pos="5137200"/>
                <a:tab algn="l" pos="10274400"/>
              </a:tabLst>
            </a:pPr>
            <a:r>
              <a:rPr b="1" lang="es-ES_tradnl" sz="2200" spc="-1" strike="noStrike">
                <a:solidFill>
                  <a:srgbClr val="333399"/>
                </a:solidFill>
                <a:latin typeface="Arial"/>
              </a:rPr>
              <a:t>ya que se está al borde de la aparición de la traccion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spcBef>
                <a:spcPts val="550"/>
              </a:spcBef>
              <a:buClr>
                <a:srgbClr val="333399"/>
              </a:buClr>
              <a:buSzPct val="120000"/>
              <a:buFont typeface="Arial"/>
              <a:buChar char="•"/>
              <a:tabLst>
                <a:tab algn="l" pos="1241280"/>
                <a:tab algn="l" pos="5137200"/>
                <a:tab algn="l" pos="10274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0800000">
            <a:off x="6477120" y="3657240"/>
            <a:ext cx="1828800" cy="76212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162920" y="41590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+) Compre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3505320" y="3321000"/>
            <a:ext cx="1828800" cy="761760"/>
            <a:chOff x="3505320" y="3321000"/>
            <a:chExt cx="1828800" cy="761760"/>
          </a:xfrm>
        </p:grpSpPr>
        <p:grpSp>
          <p:nvGrpSpPr>
            <p:cNvPr id="164" name=""/>
            <p:cNvGrpSpPr/>
            <p:nvPr/>
          </p:nvGrpSpPr>
          <p:grpSpPr>
            <a:xfrm>
              <a:off x="3505320" y="3321000"/>
              <a:ext cx="1828800" cy="761760"/>
              <a:chOff x="3505320" y="3321000"/>
              <a:chExt cx="1828800" cy="761760"/>
            </a:xfrm>
          </p:grpSpPr>
          <p:sp>
            <p:nvSpPr>
              <p:cNvPr id="165" name=""/>
              <p:cNvSpPr/>
              <p:nvPr/>
            </p:nvSpPr>
            <p:spPr>
              <a:xfrm>
                <a:off x="3505320" y="3321000"/>
                <a:ext cx="914400" cy="380880"/>
              </a:xfrm>
              <a:prstGeom prst="rtTriangl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10800000">
                <a:off x="4419720" y="3701880"/>
                <a:ext cx="914400" cy="380880"/>
              </a:xfrm>
              <a:prstGeom prst="rtTriangl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 flipH="1" flipV="1">
              <a:off x="4419360" y="3701520"/>
              <a:ext cx="522360" cy="21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2971800" y="2940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-) M/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701880"/>
            <a:ext cx="1827000" cy="547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311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+) N/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00600" y="40971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+) M/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8120" y="3549600"/>
            <a:ext cx="380880" cy="380880"/>
          </a:xfrm>
          <a:prstGeom prst="plus">
            <a:avLst>
              <a:gd name="adj" fmla="val 3888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5791320" y="3625920"/>
            <a:ext cx="304560" cy="228600"/>
            <a:chOff x="5791320" y="3625920"/>
            <a:chExt cx="304560" cy="228600"/>
          </a:xfrm>
        </p:grpSpPr>
        <p:sp>
          <p:nvSpPr>
            <p:cNvPr id="174" name=""/>
            <p:cNvSpPr/>
            <p:nvPr/>
          </p:nvSpPr>
          <p:spPr>
            <a:xfrm>
              <a:off x="5791320" y="3625920"/>
              <a:ext cx="304560" cy="76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791320" y="3778200"/>
              <a:ext cx="304560" cy="76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3048120" y="1143000"/>
            <a:ext cx="3124080" cy="1214640"/>
            <a:chOff x="3048120" y="1143000"/>
            <a:chExt cx="3124080" cy="1214640"/>
          </a:xfrm>
        </p:grpSpPr>
        <p:sp>
          <p:nvSpPr>
            <p:cNvPr id="177" name=""/>
            <p:cNvSpPr/>
            <p:nvPr/>
          </p:nvSpPr>
          <p:spPr>
            <a:xfrm>
              <a:off x="3048120" y="1143000"/>
              <a:ext cx="3124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66ff"/>
                  </a:solidFill>
                  <a:latin typeface="Symbol"/>
                  <a:ea typeface="Symbol"/>
                </a:rPr>
                <a:t></a:t>
              </a:r>
              <a:r>
                <a:rPr b="1" lang="en-US" sz="3200" spc="-1" strike="noStrike">
                  <a:solidFill>
                    <a:srgbClr val="3366ff"/>
                  </a:solidFill>
                  <a:latin typeface="Arial"/>
                </a:rPr>
                <a:t>t =  </a:t>
              </a:r>
              <a:r>
                <a:rPr b="1" lang="en-US" sz="3200" spc="-1" strike="noStrike" u="sng">
                  <a:solidFill>
                    <a:srgbClr val="3366ff"/>
                  </a:solidFill>
                  <a:uFillTx/>
                  <a:latin typeface="Arial"/>
                </a:rPr>
                <a:t>N </a:t>
              </a:r>
              <a:r>
                <a:rPr b="1" lang="en-US" sz="3200" spc="-1" strike="noStrike">
                  <a:solidFill>
                    <a:srgbClr val="3366ff"/>
                  </a:solidFill>
                  <a:latin typeface="CommercialPi BT"/>
                  <a:ea typeface="CommercialPi BT"/>
                </a:rPr>
                <a:t></a:t>
              </a:r>
              <a:r>
                <a:rPr b="1" lang="en-US" sz="3200" spc="-1" strike="noStrike" u="sng">
                  <a:solidFill>
                    <a:srgbClr val="ff0000"/>
                  </a:solidFill>
                  <a:uFillTx/>
                  <a:latin typeface="Arial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038480" y="1776240"/>
              <a:ext cx="1685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3366ff"/>
                  </a:solidFill>
                  <a:latin typeface="Arial"/>
                </a:rPr>
                <a:t>A  </a:t>
              </a:r>
              <a:r>
                <a:rPr b="1" lang="es-ES" sz="3200" spc="-1" strike="noStrike">
                  <a:solidFill>
                    <a:srgbClr val="3366ff"/>
                  </a:solidFill>
                  <a:latin typeface="CommercialPi BT"/>
                  <a:ea typeface="CommercialPi BT"/>
                </a:rPr>
                <a:t></a:t>
              </a:r>
              <a:r>
                <a:rPr b="1" lang="es-ES" sz="3200" spc="-1" strike="noStrike">
                  <a:solidFill>
                    <a:srgbClr val="ff0000"/>
                  </a:solidFill>
                  <a:latin typeface="Arial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066680" y="5029200"/>
            <a:ext cx="7543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7800" indent="-5778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241280"/>
                <a:tab algn="l" pos="5137200"/>
                <a:tab algn="l" pos="10274400"/>
              </a:tabLst>
            </a:pPr>
            <a:r>
              <a:rPr b="1" lang="es-ES_tradnl" sz="2200" spc="-1" strike="noStrike">
                <a:solidFill>
                  <a:srgbClr val="333399"/>
                </a:solidFill>
                <a:latin typeface="Arial"/>
              </a:rPr>
              <a:t>La fundación no está en equilibrio, porque el terren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241280"/>
                <a:tab algn="l" pos="5137200"/>
                <a:tab algn="l" pos="10274400"/>
              </a:tabLst>
            </a:pPr>
            <a:r>
              <a:rPr b="1" lang="es-ES_tradnl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2200" spc="-1" strike="noStrike">
                <a:solidFill>
                  <a:srgbClr val="333399"/>
                </a:solidFill>
                <a:latin typeface="Arial"/>
              </a:rPr>
              <a:t>no  tiene capacidad de responder ante las tracciones.</a:t>
            </a:r>
            <a:r>
              <a:rPr b="0" lang="es-ES_tradnl" sz="2200" spc="-1" strike="noStrike">
                <a:solidFill>
                  <a:srgbClr val="333399"/>
                </a:solidFill>
                <a:latin typeface="Times New Roman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spcBef>
                <a:spcPts val="550"/>
              </a:spcBef>
              <a:buClr>
                <a:srgbClr val="333399"/>
              </a:buClr>
              <a:buSzPct val="120000"/>
              <a:buFont typeface="Times New Roman"/>
              <a:buChar char="•"/>
              <a:tabLst>
                <a:tab algn="l" pos="1241280"/>
                <a:tab algn="l" pos="5137200"/>
                <a:tab algn="l" pos="10274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77120" y="3352680"/>
            <a:ext cx="457200" cy="15264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10800000">
            <a:off x="6934320" y="3505320"/>
            <a:ext cx="1371600" cy="38088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15200" y="38862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+) Compre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15000" y="29098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-) Tra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152280"/>
            <a:ext cx="8280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 Black"/>
              </a:rPr>
              <a:t>EVALUACION FUND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505320" y="3200400"/>
            <a:ext cx="1828800" cy="761760"/>
            <a:chOff x="3505320" y="3200400"/>
            <a:chExt cx="1828800" cy="761760"/>
          </a:xfrm>
        </p:grpSpPr>
        <p:grpSp>
          <p:nvGrpSpPr>
            <p:cNvPr id="186" name=""/>
            <p:cNvGrpSpPr/>
            <p:nvPr/>
          </p:nvGrpSpPr>
          <p:grpSpPr>
            <a:xfrm>
              <a:off x="3505320" y="3200400"/>
              <a:ext cx="1828800" cy="761760"/>
              <a:chOff x="3505320" y="3200400"/>
              <a:chExt cx="1828800" cy="761760"/>
            </a:xfrm>
          </p:grpSpPr>
          <p:sp>
            <p:nvSpPr>
              <p:cNvPr id="187" name=""/>
              <p:cNvSpPr/>
              <p:nvPr/>
            </p:nvSpPr>
            <p:spPr>
              <a:xfrm>
                <a:off x="3505320" y="3200400"/>
                <a:ext cx="914400" cy="380880"/>
              </a:xfrm>
              <a:prstGeom prst="rtTriangl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0800000">
                <a:off x="4419720" y="3581280"/>
                <a:ext cx="914400" cy="380880"/>
              </a:xfrm>
              <a:prstGeom prst="rtTriangl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 flipH="1" flipV="1">
              <a:off x="4419360" y="3580920"/>
              <a:ext cx="522360" cy="21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2971800" y="28195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-) M/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90720" y="3581280"/>
            <a:ext cx="1827000" cy="547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47920" y="4191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+) N/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800600" y="39765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+) M/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8120" y="3429000"/>
            <a:ext cx="380880" cy="380880"/>
          </a:xfrm>
          <a:prstGeom prst="plus">
            <a:avLst>
              <a:gd name="adj" fmla="val 3888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5791320" y="3505320"/>
            <a:ext cx="304560" cy="228600"/>
            <a:chOff x="5791320" y="3505320"/>
            <a:chExt cx="304560" cy="228600"/>
          </a:xfrm>
        </p:grpSpPr>
        <p:sp>
          <p:nvSpPr>
            <p:cNvPr id="196" name=""/>
            <p:cNvSpPr/>
            <p:nvPr/>
          </p:nvSpPr>
          <p:spPr>
            <a:xfrm>
              <a:off x="5791320" y="3505320"/>
              <a:ext cx="304560" cy="76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791320" y="3657600"/>
              <a:ext cx="304560" cy="76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3048120" y="1143000"/>
            <a:ext cx="3124080" cy="1214640"/>
            <a:chOff x="3048120" y="1143000"/>
            <a:chExt cx="3124080" cy="1214640"/>
          </a:xfrm>
        </p:grpSpPr>
        <p:sp>
          <p:nvSpPr>
            <p:cNvPr id="199" name=""/>
            <p:cNvSpPr/>
            <p:nvPr/>
          </p:nvSpPr>
          <p:spPr>
            <a:xfrm>
              <a:off x="3048120" y="1143000"/>
              <a:ext cx="3124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66ff"/>
                  </a:solidFill>
                  <a:latin typeface="Symbol"/>
                  <a:ea typeface="Symbol"/>
                </a:rPr>
                <a:t></a:t>
              </a:r>
              <a:r>
                <a:rPr b="1" lang="en-US" sz="3200" spc="-1" strike="noStrike">
                  <a:solidFill>
                    <a:srgbClr val="3366ff"/>
                  </a:solidFill>
                  <a:latin typeface="Arial"/>
                </a:rPr>
                <a:t>t =  </a:t>
              </a:r>
              <a:r>
                <a:rPr b="1" lang="en-US" sz="3200" spc="-1" strike="noStrike" u="sng">
                  <a:solidFill>
                    <a:srgbClr val="3366ff"/>
                  </a:solidFill>
                  <a:uFillTx/>
                  <a:latin typeface="Arial"/>
                </a:rPr>
                <a:t>N </a:t>
              </a:r>
              <a:r>
                <a:rPr b="1" lang="en-US" sz="3200" spc="-1" strike="noStrike">
                  <a:solidFill>
                    <a:srgbClr val="3366ff"/>
                  </a:solidFill>
                  <a:latin typeface="CommercialPi BT"/>
                  <a:ea typeface="CommercialPi BT"/>
                </a:rPr>
                <a:t></a:t>
              </a:r>
              <a:r>
                <a:rPr b="1" lang="en-US" sz="3200" spc="-1" strike="noStrike" u="sng">
                  <a:solidFill>
                    <a:srgbClr val="ff0000"/>
                  </a:solidFill>
                  <a:uFillTx/>
                  <a:latin typeface="Arial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038480" y="1776240"/>
              <a:ext cx="1685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3366ff"/>
                  </a:solidFill>
                  <a:latin typeface="Arial"/>
                </a:rPr>
                <a:t>A  </a:t>
              </a:r>
              <a:r>
                <a:rPr b="1" lang="es-ES" sz="3200" spc="-1" strike="noStrike">
                  <a:solidFill>
                    <a:srgbClr val="3366ff"/>
                  </a:solidFill>
                  <a:latin typeface="CommercialPi BT"/>
                  <a:ea typeface="CommercialPi BT"/>
                </a:rPr>
                <a:t></a:t>
              </a:r>
              <a:r>
                <a:rPr b="1" lang="es-ES" sz="3200" spc="-1" strike="noStrike">
                  <a:solidFill>
                    <a:srgbClr val="ff0000"/>
                  </a:solidFill>
                  <a:latin typeface="Arial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3T22:43:29Z</dcterms:created>
  <dc:creator>Loreto</dc:creator>
  <dc:description/>
  <dc:language>en-US</dc:language>
  <cp:lastModifiedBy>portatiluad</cp:lastModifiedBy>
  <dcterms:modified xsi:type="dcterms:W3CDTF">2009-10-05T12:39:10Z</dcterms:modified>
  <cp:revision>5</cp:revision>
  <dc:subject/>
  <dc:title>Presentación de PowerPoint</dc:title>
</cp:coreProperties>
</file>