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1887200" cy="7772400"/>
  <p:notesSz cx="7008813" cy="11052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1C5-DBEA-4CB2-A192-4CE066E8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D11-AFAB-4BB1-8902-7D95490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F88-939C-42BC-97C2-335FF67B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12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0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12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0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9DA-6779-4B88-88D5-A7F3D69E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431-81A6-4CBB-8B43-DEB93BF3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AE9-4CEB-4E8B-8A1A-B335AEBB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B45-B21B-4102-8F7C-E967261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7A0-909B-4CBF-856A-AFA7AD4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10680"/>
            <a:ext cx="107013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6C0-18E3-4C13-B20B-551A50F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3CD-ACCC-4FB5-BA26-148B210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0B9-3F92-4795-897E-F4E21A1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8F5-8126-4803-8F38-E692DC2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-4208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911160" indent="-3506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403280" indent="-279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965240" indent="-2793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364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2240" y="7205400"/>
            <a:ext cx="376416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2012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fld id="{5B59232C-494C-4177-A44D-F97DE5447320}" type="slidenum">
              <a:rPr b="0" lang="es-ES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43" name="7 CuadroTexto"/>
          <p:cNvSpPr/>
          <p:nvPr/>
        </p:nvSpPr>
        <p:spPr>
          <a:xfrm>
            <a:off x="1465200" y="338040"/>
            <a:ext cx="45514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GENE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OMBR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S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TINO ACTU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BICAC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I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VI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MUNA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OCALIDAD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ALL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PROPIETARI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OL S.I.I.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RQUITECTO O DISEÑAD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STRUC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ÑO CONSTRUC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ERRE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CONSTRUIDA POR NIV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OTAL CONSTRUID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 PISOS Y/O ALTU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DICION PATRIMON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ANDANTE DEL ESTUDI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NCARGADOS DEL TRABAJO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45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46" name="Object 3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7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8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51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L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48 Rectángulo"/>
          <p:cNvSpPr/>
          <p:nvPr/>
        </p:nvSpPr>
        <p:spPr>
          <a:xfrm>
            <a:off x="6159600" y="3743280"/>
            <a:ext cx="3071880" cy="3502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 UBIC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87" name="7 CuadroTexto"/>
          <p:cNvSpPr/>
          <p:nvPr/>
        </p:nvSpPr>
        <p:spPr>
          <a:xfrm>
            <a:off x="1465200" y="338040"/>
            <a:ext cx="455148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ESPECIF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EÑA HISTOR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ESTILIST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ARQUITECTON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OLUMETRICA – ESPACIAL- FUN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TECNICO-CONTRUCTIV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TIPOLOGIA ESTRUCTURAL – MATERIA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STADO DE CONSERVA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89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90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1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92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95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47 Rectángulo"/>
          <p:cNvSpPr/>
          <p:nvPr/>
        </p:nvSpPr>
        <p:spPr>
          <a:xfrm>
            <a:off x="6159600" y="81432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 EP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REPRESENT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3D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131" name="7 CuadroTexto"/>
          <p:cNvSpPr/>
          <p:nvPr/>
        </p:nvSpPr>
        <p:spPr>
          <a:xfrm>
            <a:off x="1465200" y="338040"/>
            <a:ext cx="455148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TRIBUTOS PATRIMONI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URBANIST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ARQUITECTON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HISTORICO - SOC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133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134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5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6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139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EMPLAZA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TA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SIGNIFIC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4:31:07Z</dcterms:created>
  <dc:creator>estructuras</dc:creator>
  <dc:description/>
  <dc:language>en-US</dc:language>
  <cp:lastModifiedBy>estructuras</cp:lastModifiedBy>
  <dcterms:modified xsi:type="dcterms:W3CDTF">2008-11-05T12:33:58Z</dcterms:modified>
  <cp:revision>24</cp:revision>
  <dc:subject/>
  <dc:title>Diapositiva 1</dc:title>
</cp:coreProperties>
</file>