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0.png" ContentType="image/png"/>
  <Override PartName="/ppt/media/image28.png" ContentType="image/png"/>
  <Override PartName="/ppt/media/image10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B2C6-B515-4A43-8B9F-1ED03ACF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370B-AD35-4CB8-AF75-44E23567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ABE9-7751-40C9-BC49-2B38ECB73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746-98BF-45A5-8EFB-F06E3F8CD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2214-CB36-450A-8AE1-EABDDA408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EA094-5C14-441D-9201-EA0998EF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573B1-B1CC-4873-BE2A-95B763C6B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DA05-ABE3-4312-AED9-883CB5FBD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0C06-058E-410C-B852-162C7271B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39F-3ADF-4EC6-8E73-B0C1A745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4ADB7-8D12-4ED5-9CAE-6AE6BE581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453F-1BA0-4224-8BB1-D22D5BA6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588D0-6CF2-4F46-9653-0F9E829925A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1356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0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662940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304920"/>
            <a:ext cx="4114800" cy="8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Laboratorio CNC / Área corte y grabado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o de apoyo para el trabajo desde software del área gráfica e indust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6613560"/>
            <a:ext cx="4495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57200" y="685800"/>
            <a:ext cx="2666880" cy="8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sobre la pestaña VIEW y seleccion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Rul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jo! La coordenada 0,0 no está fijada con respecto a la hoja de trabaj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581280" y="685800"/>
            <a:ext cx="5364360" cy="5737320"/>
            <a:chOff x="3581280" y="685800"/>
            <a:chExt cx="5364360" cy="5737320"/>
          </a:xfrm>
        </p:grpSpPr>
        <p:pic>
          <p:nvPicPr>
            <p:cNvPr id="115" name="" descr=""/>
            <p:cNvPicPr/>
            <p:nvPr/>
          </p:nvPicPr>
          <p:blipFill>
            <a:blip r:embed="rId1"/>
            <a:srcRect l="0" t="0" r="15556" b="11476"/>
            <a:stretch/>
          </p:blipFill>
          <p:spPr>
            <a:xfrm>
              <a:off x="3581280" y="695880"/>
              <a:ext cx="5364360" cy="5726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" descr=""/>
            <p:cNvPicPr/>
            <p:nvPr/>
          </p:nvPicPr>
          <p:blipFill>
            <a:blip r:embed="rId2"/>
            <a:srcRect l="0" t="0" r="0" b="4691"/>
            <a:stretch/>
          </p:blipFill>
          <p:spPr>
            <a:xfrm>
              <a:off x="6316200" y="685800"/>
              <a:ext cx="2293920" cy="573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" descr=""/>
            <p:cNvPicPr/>
            <p:nvPr/>
          </p:nvPicPr>
          <p:blipFill>
            <a:blip r:embed="rId3"/>
            <a:stretch/>
          </p:blipFill>
          <p:spPr>
            <a:xfrm>
              <a:off x="6228000" y="714960"/>
              <a:ext cx="432000" cy="432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228600"/>
            <a:ext cx="342900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en base a medidas preci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762120"/>
            <a:ext cx="2362320" cy="259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fijar la coordenada 0,0 respecto al vértice superior izquierdo de la h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Pinchar con el mouse el cuadrado blanco donde se intersectan la regla horizontal y la vertic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- Sin soltar el botón del mouse, arrastrar hasta intersectar el punto superior izquierdo de la hoja. Y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hora las coordenadas 0,0 están respecto a la hoj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0880" y="239760"/>
            <a:ext cx="3505320" cy="29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en base a medidas preci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2895480" y="609480"/>
            <a:ext cx="6095880" cy="5878800"/>
            <a:chOff x="2895480" y="609480"/>
            <a:chExt cx="6095880" cy="5878800"/>
          </a:xfrm>
        </p:grpSpPr>
        <p:pic>
          <p:nvPicPr>
            <p:cNvPr id="125" name="" descr=""/>
            <p:cNvPicPr/>
            <p:nvPr/>
          </p:nvPicPr>
          <p:blipFill>
            <a:blip r:embed="rId1"/>
            <a:srcRect l="0" t="0" r="11111" b="12333"/>
            <a:stretch/>
          </p:blipFill>
          <p:spPr>
            <a:xfrm>
              <a:off x="3185640" y="609480"/>
              <a:ext cx="5805720" cy="5878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2"/>
            <a:stretch/>
          </p:blipFill>
          <p:spPr>
            <a:xfrm>
              <a:off x="3084120" y="1244160"/>
              <a:ext cx="405000" cy="36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"/>
            <p:cNvSpPr/>
            <p:nvPr/>
          </p:nvSpPr>
          <p:spPr>
            <a:xfrm>
              <a:off x="2895480" y="1335240"/>
              <a:ext cx="64116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3"/>
            <a:stretch/>
          </p:blipFill>
          <p:spPr>
            <a:xfrm>
              <a:off x="4132080" y="1810080"/>
              <a:ext cx="405000" cy="36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4517640" y="1716120"/>
              <a:ext cx="640800" cy="23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75800" y="1553040"/>
              <a:ext cx="725760" cy="29016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1880" y="304920"/>
            <a:ext cx="26622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crear guías vertic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incha con el mouse dentro de la regla vertical y se arrastra el mouse hacia la hoja en el lugar dese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505320" y="609480"/>
            <a:ext cx="5414400" cy="5896080"/>
            <a:chOff x="3505320" y="609480"/>
            <a:chExt cx="5414400" cy="5896080"/>
          </a:xfrm>
        </p:grpSpPr>
        <p:pic>
          <p:nvPicPr>
            <p:cNvPr id="135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601800" y="609480"/>
              <a:ext cx="531792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2"/>
            <a:srcRect l="0" t="0" r="-735" b="12632"/>
            <a:stretch/>
          </p:blipFill>
          <p:spPr>
            <a:xfrm>
              <a:off x="3505320" y="1554840"/>
              <a:ext cx="350640" cy="495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flipV="1">
              <a:off x="3717360" y="3785400"/>
              <a:ext cx="83232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457200" y="304920"/>
            <a:ext cx="2666880" cy="12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crear guías horizontal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incha con el mouse dentro de la regla horizontal y se arrastra el mouse hacia la hoja en el lugar dese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505320" y="609480"/>
            <a:ext cx="5486400" cy="5896080"/>
            <a:chOff x="3505320" y="609480"/>
            <a:chExt cx="5486400" cy="5896080"/>
          </a:xfrm>
        </p:grpSpPr>
        <p:pic>
          <p:nvPicPr>
            <p:cNvPr id="142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505320" y="609480"/>
              <a:ext cx="548640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" descr=""/>
            <p:cNvPicPr/>
            <p:nvPr/>
          </p:nvPicPr>
          <p:blipFill>
            <a:blip r:embed="rId2"/>
            <a:srcRect l="0" t="0" r="15142" b="10121"/>
            <a:stretch/>
          </p:blipFill>
          <p:spPr>
            <a:xfrm>
              <a:off x="3643920" y="1316160"/>
              <a:ext cx="5347800" cy="250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 flipH="1">
              <a:off x="5126760" y="1423440"/>
              <a:ext cx="71640" cy="9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538200" y="136440"/>
            <a:ext cx="266220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alinear guías con medidas exactas relacionadas a una grill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pestaña ED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jar hasta PREFEREN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en GUIDES &amp; GRID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429000" y="533520"/>
            <a:ext cx="5559480" cy="5981400"/>
            <a:chOff x="3429000" y="533520"/>
            <a:chExt cx="5559480" cy="5981400"/>
          </a:xfrm>
        </p:grpSpPr>
        <p:pic>
          <p:nvPicPr>
            <p:cNvPr id="148" name="" descr=""/>
            <p:cNvPicPr/>
            <p:nvPr/>
          </p:nvPicPr>
          <p:blipFill>
            <a:blip r:embed="rId1"/>
            <a:srcRect l="0" t="0" r="14815" b="10844"/>
            <a:stretch/>
          </p:blipFill>
          <p:spPr>
            <a:xfrm>
              <a:off x="3429000" y="542160"/>
              <a:ext cx="5559480" cy="597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" descr=""/>
            <p:cNvPicPr/>
            <p:nvPr/>
          </p:nvPicPr>
          <p:blipFill>
            <a:blip r:embed="rId2"/>
            <a:stretch/>
          </p:blipFill>
          <p:spPr>
            <a:xfrm>
              <a:off x="3811320" y="533520"/>
              <a:ext cx="523800" cy="52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501480" y="152280"/>
            <a:ext cx="3308400" cy="233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editar gril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dad de la grilla: GRIDLINE EVERY: 10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bdivisiones: 1 a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mbién se puede cambiar el color de la grilla y las guí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en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581280" y="3124080"/>
            <a:ext cx="5356440" cy="332424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3570120" y="4384800"/>
            <a:ext cx="3854520" cy="173664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01480" y="152280"/>
            <a:ext cx="2698920" cy="24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 a VIE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jar has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GR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 imantar las guías respecto a la grilla, pinch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NAP TO GRID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debajo de Show Gri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s guías se mueven con la herramienta SELECTION TOOL (la flecha negr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270080" y="3798720"/>
            <a:ext cx="689040" cy="14623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1247760" y="4148280"/>
            <a:ext cx="468360" cy="4665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3505320" y="609480"/>
            <a:ext cx="5487840" cy="5896080"/>
            <a:chOff x="3505320" y="609480"/>
            <a:chExt cx="5487840" cy="5896080"/>
          </a:xfrm>
        </p:grpSpPr>
        <p:pic>
          <p:nvPicPr>
            <p:cNvPr id="161" name="" descr=""/>
            <p:cNvPicPr/>
            <p:nvPr/>
          </p:nvPicPr>
          <p:blipFill>
            <a:blip r:embed="rId3"/>
            <a:srcRect l="0" t="0" r="14815" b="10844"/>
            <a:stretch/>
          </p:blipFill>
          <p:spPr>
            <a:xfrm>
              <a:off x="3505320" y="609480"/>
              <a:ext cx="5487840" cy="589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4"/>
            <a:srcRect l="0" t="0" r="0" b="1497"/>
            <a:stretch/>
          </p:blipFill>
          <p:spPr>
            <a:xfrm>
              <a:off x="6278760" y="619920"/>
              <a:ext cx="2325960" cy="5885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3" name="" descr=""/>
            <p:cNvPicPr/>
            <p:nvPr/>
          </p:nvPicPr>
          <p:blipFill>
            <a:blip r:embed="rId5"/>
            <a:stretch/>
          </p:blipFill>
          <p:spPr>
            <a:xfrm>
              <a:off x="6189480" y="5769000"/>
              <a:ext cx="1073520" cy="280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501480" y="152280"/>
            <a:ext cx="2698920" cy="14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con guí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er gril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dar a Imprim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‘Ajustar’, ir a Colocación y pinchar en extremo izquierdo superior para imantar el origen a la coordenada 0,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20625" t="17970" r="20625" b="21093"/>
          <a:stretch/>
        </p:blipFill>
        <p:spPr>
          <a:xfrm>
            <a:off x="3809880" y="838080"/>
            <a:ext cx="4724640" cy="391968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rcRect l="38629" t="39293" r="29155" b="51231"/>
          <a:stretch/>
        </p:blipFill>
        <p:spPr>
          <a:xfrm>
            <a:off x="533520" y="4952880"/>
            <a:ext cx="5562360" cy="1308240"/>
          </a:xfrm>
          <a:prstGeom prst="rect">
            <a:avLst/>
          </a:prstGeom>
          <a:ln w="1908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304920"/>
            <a:ext cx="320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rchivos desde Rhinoceros 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rcRect l="0" t="0" r="16250" b="11721"/>
          <a:stretch/>
        </p:blipFill>
        <p:spPr>
          <a:xfrm>
            <a:off x="3962520" y="2209680"/>
            <a:ext cx="5181480" cy="4370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380880" y="291960"/>
            <a:ext cx="3505320" cy="30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genera un rectángulo que simule la zona de corte de 609 x 457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ntro de ese rectángulo se dibujarán las entidades que se desean grabar o cor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a vez realizadas las entidades, el rectángulo y las cotas deben ocultarse para no ser grabadas o cortadas. En su lugar debiera generarse en cada vértice del rectángulo auxiliar, un segmento pequeño y con un color que no sea reconocido como de corte o grabado, o en su defecto, que genere pequeñas marcas en el materi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80880" y="304920"/>
            <a:ext cx="6019920" cy="53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otencia Láser:</a:t>
            </a:r>
            <a:r>
              <a:rPr b="1" i="1" lang="es-ES" sz="1000" spc="-1" strike="noStrike">
                <a:solidFill>
                  <a:srgbClr val="000000"/>
                </a:solidFill>
                <a:latin typeface="Arial"/>
              </a:rPr>
              <a:t> 45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Dimensiones plancha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Tamaño máximo de superficie de corte (largo x ancho):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609x457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amaño recomendado de material a cortar: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600x4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ltura máxima utilizable: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250mm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 (no confundir con profundidad de cor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ateriales OK para corte y grabad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crílico 3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Madera balsa 3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rto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apel veget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M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Ula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puma acústic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énero mezclill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ateriales OK para grabado solamen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rcho 2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ormali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ateriales con precaución para corte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oma eva 2m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Programas empleado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Illust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Rh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r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Geometer’s Sketchp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arámetros generale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Cap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iferenciar por capas cada tipo de trabajo (corte vectorial / grabado vectorial / grabado raste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952880" y="2422440"/>
            <a:ext cx="2743200" cy="13726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No recomendados para cort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Policarbo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orch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Formal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Cartón pied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_tradnl" sz="1400" spc="-1" strike="noStrike">
                <a:solidFill>
                  <a:srgbClr val="000000"/>
                </a:solidFill>
                <a:latin typeface="Arial"/>
              </a:rPr>
              <a:t>Metales ferro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380880" y="276120"/>
            <a:ext cx="624852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dimien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ideal es dibujar por cap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rojo para corte tipo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azul para grabado tipo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apa color negro para grabado tipo 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rcRect l="0" t="16405" r="15001" b="26564"/>
          <a:stretch/>
        </p:blipFill>
        <p:spPr>
          <a:xfrm>
            <a:off x="838080" y="1981080"/>
            <a:ext cx="7391520" cy="3967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80880" y="276120"/>
            <a:ext cx="4038840" cy="23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figuraciones de im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ambiente de impresión es bastante amigable y brinda variadas alternati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 más importante es tener marcada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ida ve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cal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: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or de impre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cho de línea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zo f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343400" y="609480"/>
            <a:ext cx="4647960" cy="5943600"/>
            <a:chOff x="4343400" y="609480"/>
            <a:chExt cx="4647960" cy="5943600"/>
          </a:xfrm>
        </p:grpSpPr>
        <p:pic>
          <p:nvPicPr>
            <p:cNvPr id="184" name="" descr=""/>
            <p:cNvPicPr/>
            <p:nvPr/>
          </p:nvPicPr>
          <p:blipFill>
            <a:blip r:embed="rId1"/>
            <a:srcRect l="0" t="0" r="77503" b="7032"/>
            <a:stretch/>
          </p:blipFill>
          <p:spPr>
            <a:xfrm>
              <a:off x="4343400" y="609480"/>
              <a:ext cx="2318400" cy="594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5" name="" descr=""/>
            <p:cNvPicPr/>
            <p:nvPr/>
          </p:nvPicPr>
          <p:blipFill>
            <a:blip r:embed="rId2"/>
            <a:srcRect l="0" t="36720" r="77503" b="3330"/>
            <a:stretch/>
          </p:blipFill>
          <p:spPr>
            <a:xfrm>
              <a:off x="6783840" y="676800"/>
              <a:ext cx="2207520" cy="364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7829640" y="1757520"/>
              <a:ext cx="871200" cy="134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430520" y="2027520"/>
              <a:ext cx="1045800" cy="20232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0520" y="4121640"/>
              <a:ext cx="435600" cy="13464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14960" y="4256640"/>
              <a:ext cx="1307160" cy="40500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219440" y="3851280"/>
              <a:ext cx="1307160" cy="540360"/>
            </a:xfrm>
            <a:prstGeom prst="ellipse">
              <a:avLst/>
            </a:prstGeom>
            <a:noFill/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Rhino 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80880" y="304920"/>
            <a:ext cx="5562720" cy="61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eteo pági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figurar el alto y el ancho de la página a las dimensiones máximas del espacio de trabajo de la  cortadora láser, así como la orientación (salvo en Illustrator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áquina Láser opera mejor en situación </a:t>
            </a:r>
            <a:r>
              <a:rPr b="1" i="1" lang="es-ES_tradnl" sz="1000" spc="-1" strike="noStrike">
                <a:solidFill>
                  <a:srgbClr val="000000"/>
                </a:solidFill>
                <a:latin typeface="Arial"/>
              </a:rPr>
              <a:t>Horizonta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teo regl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los programas que permiten ubicar reglas, éstas deben ser configuradas respecto al espacio de trabajo de la máquina Láser, destinando la coordenada 0,0 en la esquina superior izquierd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tornos y llenad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 sistema reconoce los espesores de línea y según ellos ejecuta las órdenes de corte o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ara corte d</a:t>
            </a: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be emplearse el espesor mínimo que el programa permita. Por ejemplo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Illustrator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0.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rel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Hairl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hino: </a:t>
            </a: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razo fi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n Illustrator, por ejemplo, sobre ese espesor resultará una línea que será reconocida como raster y no como vector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 área ‘llena’ será reconocida como elemento de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Llenados sobre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l sobreponer un área llena sobre otra, la máquina generará el procedimiento según lo que se ve en pantalla para evitar doble grabado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Si se pretende tapar un trazo vectorizado con un área de color blanco, el programa no tomará en cuenta lo que se ve en pantalla y procederá a cortar o grabar el contorno vectorizado que se encuentra debajo del área lle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tornos sobrepue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La máquina no simplifica la línea si se sobreponen, es decir, pasa por el lugar tantas veces como líneas exista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80880" y="304920"/>
            <a:ext cx="6705720" cy="6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arámetros para empleo grabadora/cortadora lá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Color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6624720"/>
            <a:ext cx="9144000" cy="2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6613560"/>
            <a:ext cx="4496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dddddd"/>
                </a:solidFill>
                <a:latin typeface="Arial"/>
              </a:rPr>
              <a:t>UNIVERSIDAD DE CHILE / FAU / DIRECCIÓN ACADÉMICA / UMD / 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143000"/>
          <a:ext cx="6095880" cy="2286000"/>
        </p:xfrm>
        <a:graphic>
          <a:graphicData uri="http://schemas.openxmlformats.org/drawingml/2006/table">
            <a:tbl>
              <a:tblPr/>
              <a:tblGrid>
                <a:gridCol w="1218960"/>
                <a:gridCol w="1219320"/>
                <a:gridCol w="1219320"/>
                <a:gridCol w="1218960"/>
                <a:gridCol w="1219320"/>
              </a:tblGrid>
              <a:tr h="30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lo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ado ras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ac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te vecto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ee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llo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bado vectori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l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gent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b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"/>
          <p:cNvSpPr/>
          <p:nvPr/>
        </p:nvSpPr>
        <p:spPr>
          <a:xfrm>
            <a:off x="1752480" y="15238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52480" y="1752480"/>
            <a:ext cx="152640" cy="152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52480" y="1981080"/>
            <a:ext cx="152640" cy="152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52480" y="22096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752480" y="2514600"/>
            <a:ext cx="152640" cy="152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52480" y="2743200"/>
            <a:ext cx="152640" cy="152280"/>
          </a:xfrm>
          <a:prstGeom prst="rect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52480" y="2971800"/>
            <a:ext cx="152640" cy="152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3200400"/>
            <a:ext cx="152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3505320"/>
            <a:ext cx="670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Imágenes deben ser en escala de grises para generar apariencia de volume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30492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rchivos desde Illust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048120" y="1828800"/>
            <a:ext cx="6095520" cy="4778280"/>
            <a:chOff x="3048120" y="1828800"/>
            <a:chExt cx="6095520" cy="4778280"/>
          </a:xfrm>
        </p:grpSpPr>
        <p:pic>
          <p:nvPicPr>
            <p:cNvPr id="75" name="" descr=""/>
            <p:cNvPicPr/>
            <p:nvPr/>
          </p:nvPicPr>
          <p:blipFill>
            <a:blip r:embed="rId1"/>
            <a:srcRect l="0" t="0" r="20024" b="0"/>
            <a:stretch/>
          </p:blipFill>
          <p:spPr>
            <a:xfrm>
              <a:off x="3358440" y="1828800"/>
              <a:ext cx="5785200" cy="477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2"/>
            <a:srcRect l="0" t="6319" r="1284" b="0"/>
            <a:stretch/>
          </p:blipFill>
          <p:spPr>
            <a:xfrm>
              <a:off x="5072400" y="2130480"/>
              <a:ext cx="1928880" cy="44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3"/>
            <a:srcRect l="0" t="3791" r="0" b="0"/>
            <a:stretch/>
          </p:blipFill>
          <p:spPr>
            <a:xfrm>
              <a:off x="6837840" y="2009520"/>
              <a:ext cx="2305800" cy="459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4"/>
            <a:stretch/>
          </p:blipFill>
          <p:spPr>
            <a:xfrm>
              <a:off x="3349800" y="1888920"/>
              <a:ext cx="505440" cy="3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9" name="" descr=""/>
            <p:cNvPicPr/>
            <p:nvPr/>
          </p:nvPicPr>
          <p:blipFill>
            <a:blip r:embed="rId5"/>
            <a:stretch/>
          </p:blipFill>
          <p:spPr>
            <a:xfrm>
              <a:off x="5856840" y="4157640"/>
              <a:ext cx="527760" cy="35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6"/>
            <a:stretch/>
          </p:blipFill>
          <p:spPr>
            <a:xfrm>
              <a:off x="7242840" y="4035600"/>
              <a:ext cx="769320" cy="536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1" name="" descr=""/>
            <p:cNvPicPr/>
            <p:nvPr/>
          </p:nvPicPr>
          <p:blipFill>
            <a:blip r:embed="rId7"/>
            <a:stretch/>
          </p:blipFill>
          <p:spPr>
            <a:xfrm>
              <a:off x="7310520" y="4774680"/>
              <a:ext cx="159480" cy="37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3171240" y="1949400"/>
              <a:ext cx="23868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48120" y="4543560"/>
              <a:ext cx="1807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212880" y="3916080"/>
              <a:ext cx="237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237800" y="3854520"/>
              <a:ext cx="23724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392240" y="5027760"/>
              <a:ext cx="24012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45120" y="3674880"/>
              <a:ext cx="236160" cy="26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33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8" name="" descr=""/>
            <p:cNvPicPr/>
            <p:nvPr/>
          </p:nvPicPr>
          <p:blipFill>
            <a:blip r:embed="rId8"/>
            <a:stretch/>
          </p:blipFill>
          <p:spPr>
            <a:xfrm>
              <a:off x="3228840" y="4484520"/>
              <a:ext cx="1951560" cy="354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9" name=""/>
          <p:cNvSpPr/>
          <p:nvPr/>
        </p:nvSpPr>
        <p:spPr>
          <a:xfrm>
            <a:off x="425520" y="347760"/>
            <a:ext cx="2698560" cy="26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figurar tamaño de hoj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- Pinchar menú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2.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nchar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Document Setup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- Elegir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Cust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- En el ancho tipear 600mm. En la altura tipear 600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- La orientación debe ser en sentido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-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 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14815" b="15313"/>
          <a:stretch/>
        </p:blipFill>
        <p:spPr>
          <a:xfrm>
            <a:off x="3301920" y="644400"/>
            <a:ext cx="5842080" cy="59086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5520" y="380880"/>
            <a:ext cx="26985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ibujar una huella para c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r herramienta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‘Pen Too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hacer segment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la hoja y solt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over el mouse y pinchar en otro lugar y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hacer líneas curvas con nod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la hoja y arrastrar el mouse. Luego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Pinchar en otro lugar de la hoja y arrastrar el mouse sin soltar el botón. Luego sol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pueden alternar segmentos con curv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cerrar la figura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ercar el mouse al punto final (aparecerá un círculo blanco al lado de la herramienta) y solamente pinchar sin arrastr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276720" y="2286000"/>
            <a:ext cx="468360" cy="4665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rcRect l="0" t="0" r="646" b="1273"/>
          <a:stretch/>
        </p:blipFill>
        <p:spPr>
          <a:xfrm>
            <a:off x="3289320" y="644400"/>
            <a:ext cx="5854680" cy="59086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279600" y="1596960"/>
            <a:ext cx="401760" cy="4017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797280" y="4711680"/>
            <a:ext cx="892080" cy="3366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4716360" y="4929120"/>
            <a:ext cx="7239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Strok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6838920" y="2478240"/>
            <a:ext cx="609480" cy="6109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6242040" y="3111480"/>
            <a:ext cx="108576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Pure 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25520" y="328680"/>
            <a:ext cx="2774880" cy="47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ditar la huella para cort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ar herramienta ‘Selection Tool’ 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ar color a ro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eleccionar la huella pinchando sobre ella. Quedará de color azul el contor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Verificar que el rectángulo de STROKE esté sobre el rectángulo FI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n la paleta COLOR seleccionar el PURE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 se desea grabar una huella (o sea, que no alcance a traspasar todo el espesor del material), solamente se debe cambiar el color de rojo a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azu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(grabado tipo vectorial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o a col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gro (grabado tipo rasterizad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ra grabar el interior de una figura, se debe pinchar el cuadradito FILL y asignarle el color negro en la pale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38280" y="5029200"/>
            <a:ext cx="53352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ahoma"/>
              </a:rPr>
              <a:t>Fi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5"/>
          <a:stretch/>
        </p:blipFill>
        <p:spPr>
          <a:xfrm>
            <a:off x="2819520" y="4572000"/>
            <a:ext cx="609480" cy="6112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rcRect l="0" t="0" r="14815" b="18594"/>
          <a:stretch/>
        </p:blipFill>
        <p:spPr>
          <a:xfrm>
            <a:off x="3301920" y="644400"/>
            <a:ext cx="5842080" cy="56800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301920" y="655560"/>
            <a:ext cx="3483000" cy="55357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rcRect l="0" t="0" r="14675" b="0"/>
          <a:stretch/>
        </p:blipFill>
        <p:spPr>
          <a:xfrm>
            <a:off x="3290760" y="655560"/>
            <a:ext cx="5853240" cy="5535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5819760" y="993600"/>
            <a:ext cx="976320" cy="4669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01480" y="330120"/>
            <a:ext cx="2775240" cy="127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Editar la huella para cor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mbiar espesor de lí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Ir a STROKE WEIGHT y tipea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.005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mientras la huella sigue selecciona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335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391520" y="1522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dddddd"/>
                </a:solidFill>
                <a:latin typeface="Arial"/>
              </a:rPr>
              <a:t>Illust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aser2k7</cp:lastModifiedBy>
  <dcterms:modified xsi:type="dcterms:W3CDTF">2008-10-22T17:14:42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